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046A-915B-4B4B-B3FD-FF4EBC01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B83-35FE-477E-9944-6C81D88A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4BD-08C7-4533-9BAA-80C27C03E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C8DA-70C7-4BDA-98C3-5C061C1F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F36-D156-4450-BC6C-27F96D44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09AB-BCFC-40C0-BEBB-83B9E6DB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B6C-54C4-4D38-BBDF-19086E1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5E6E-D0EF-4242-92E2-F91974B4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B1F5-44F5-4833-BF26-EFE5862A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1870-3ED3-40AA-941F-D728B9DA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B329-9618-49A0-A662-5A824801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8AD-DA62-443D-955F-215DDAFE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F050-7993-4947-A3EF-2073885B6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884160"/>
            <a:ext cx="9144000" cy="7746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astNLO for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etproduction in Diffractive DI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. Britzger, F. Ceccop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34000" y="4437000"/>
            <a:ext cx="312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1 Collaboration Meeting 201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I Mun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ptember 12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cenario: Diffractive Dijets d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19440" y="836640"/>
            <a:ext cx="4229280" cy="4102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rcRect l="0" t="4914" r="0" b="0"/>
          <a:stretch/>
        </p:blipFill>
        <p:spPr>
          <a:xfrm>
            <a:off x="179280" y="839880"/>
            <a:ext cx="3996000" cy="43178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32000" y="765000"/>
            <a:ext cx="2665440" cy="93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 dashed line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houl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 identic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4920" y="4868640"/>
            <a:ext cx="85122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differ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(but wrong) nlojet++ interpolation of NLO subtraction te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-finder recombination scheme (~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(but very fine) xIP (and dxIP) slicing (~0-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6520" indent="-2548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statistic (2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6·106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 very high statistic (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&lt;1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DFF-98FB-448A-869E-222754D6FF57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59480" y="3594240"/>
            <a:ext cx="4484520" cy="32194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62080" y="3933720"/>
            <a:ext cx="438120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or logarithmic slicing of xIP 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ar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in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LogSlicing( 30, 0.0, 0.1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any 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66"/>
                </a:solidFill>
                <a:latin typeface="Courier New"/>
              </a:rPr>
              <a:t>double dxp[] = {…}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66"/>
                </a:solidFill>
                <a:latin typeface="Courier New"/>
              </a:rPr>
              <a:t>fnlodiff.SetXPomSlicing( 30, xp, dxp )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56240" y="549360"/>
            <a:ext cx="4487760" cy="3220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84360" y="735120"/>
            <a:ext cx="3311280" cy="321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licing is prefer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68200" y="3032280"/>
            <a:ext cx="1733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log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10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(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89000" y="30322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33360" y="6043680"/>
            <a:ext cx="1017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ff"/>
                </a:solidFill>
                <a:latin typeface="Arial"/>
              </a:rPr>
              <a:t>d</a:t>
            </a:r>
            <a:r>
              <a:rPr b="1" lang="el-GR" sz="2000" spc="-1" strike="noStrike">
                <a:solidFill>
                  <a:srgbClr val="0099ff"/>
                </a:solidFill>
                <a:latin typeface="Arial"/>
                <a:ea typeface="Arial"/>
              </a:rPr>
              <a:t>σ</a:t>
            </a:r>
            <a:r>
              <a:rPr b="1" lang="en-US" sz="2000" spc="-1" strike="noStrike">
                <a:solidFill>
                  <a:srgbClr val="0099ff"/>
                </a:solidFill>
                <a:latin typeface="Arial"/>
                <a:ea typeface="Arial"/>
              </a:rPr>
              <a:t>/dx</a:t>
            </a:r>
            <a:r>
              <a:rPr b="1" lang="en-US" sz="20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F6F7-FA0A-4B71-8BE4-C67C07403EF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of slic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396108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cross section dependence on number of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and logarithmic sli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after 10 sl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arithmic slicing seems to converge fa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one must know lowest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Otherwise bia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ise from discret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terpolation within fastN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779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pite (simple) 'smoothing' at upper integration interval a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adr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~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,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211640" y="1074600"/>
            <a:ext cx="5184720" cy="372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95280" y="5516640"/>
            <a:ext cx="83534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fast convergence of cros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NLO accuracy (for this table) could be estimated to &lt; 0.2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181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uracy smaller than cut on log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,m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for log sl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CFBA-C6BC-4F90-B01E-0BC80DB4E5C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d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1989000"/>
            <a:ext cx="3763800" cy="2902320"/>
          </a:xfrm>
          <a:prstGeom prst="rect">
            <a:avLst/>
          </a:prstGeom>
          <a:noFill/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rni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d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through restricting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higher or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arton momentum fraction compared to Hadron (Pomer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· (1+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/Q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0D41-CBB6-4656-94F6-8ADC4573FD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53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w method of calculating diffractive jet-cross sections was develop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code was developed and intensively tes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astNLO for jet production in diffractive DIS is ready to 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e it for your analysis or for fits of diffractive PDF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24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3357720"/>
            <a:ext cx="3097080" cy="3003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981000"/>
            <a:ext cx="2808360" cy="23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6AD5-1026-4A1F-A392-3BE0D13D92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987640" y="519120"/>
            <a:ext cx="3129120" cy="35575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012000" y="692280"/>
            <a:ext cx="3139920" cy="3308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34920" y="700200"/>
            <a:ext cx="3024360" cy="3227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1280" y="3932280"/>
            <a:ext cx="2957760" cy="286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3132000" y="3944880"/>
            <a:ext cx="2957760" cy="28688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151680" y="3944880"/>
            <a:ext cx="2957400" cy="28688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07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E193-446A-4360-ABBC-F43CC0D4605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9CF8-5727-40A5-8051-8CD0F5C707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0B2-6998-477D-A9AE-123BCAB0BB97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608F-08BE-40F5-AF47-2D2990B00CA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9FC-04EF-430F-947F-A6881D6C1A5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98320" y="1268280"/>
            <a:ext cx="7934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ion of jet cross sections in higher orders are time consu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: Calculations have to be repeated for same measurement but different  PDFs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.g. PDF uncertainties, scale variations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of jet-data in a fit (e.g. PDF or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requires very fast recomputation of almost the same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4503600"/>
            <a:ext cx="734400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46520" y="5445000"/>
            <a:ext cx="3454200" cy="7048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25800" y="558972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8DE6-CAE8-44EE-891C-BA1E00938D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EDA8-4049-45B4-AF96-83018BAD32F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E6E-6A12-439F-9696-B224D3B798C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749-BF75-49C4-BDB6-F9FB541F78A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20640"/>
            <a:ext cx="8794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56520" indent="-56520">
              <a:spcBef>
                <a:spcPts val="60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t-production cross section in D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interpolation kernels for 'x' using Eigenfunctions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12560" indent="-177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692360" y="1339920"/>
                <a:ext cx="50022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411280" y="2708280"/>
                <a:ext cx="288144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50920" y="4005360"/>
            <a:ext cx="8642160" cy="15026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 calculate once a table with perturbative coeff. using e.g. nlojet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section is then just a s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interpolation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356000" y="4611600"/>
                <a:ext cx="43912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S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250920" y="5661000"/>
            <a:ext cx="86421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features of fastN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Scale interpolation, PDF reweighting, scale independent contr., et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3512-6AA7-4AB1-B95E-233D2A4FDA0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508720" y="1144440"/>
            <a:ext cx="3240000" cy="2500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95280" y="153360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with reduced hadron energy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084720" y="3789360"/>
            <a:ext cx="250992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095960" y="393372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4824-3E24-4E30-963B-84DEDF3DEDC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6840" y="112500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06388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286240" y="386388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05600" y="320184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846440"/>
            <a:ext cx="475128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53640" y="343044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354640"/>
            <a:ext cx="8135640" cy="1068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lculation of only one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y high statistical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5400" indent="-279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limitations in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405936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1103-D61A-45A9-AECF-E2EC1A8614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f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211640" y="1494000"/>
            <a:ext cx="4897440" cy="3519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95280" y="5589720"/>
            <a:ext cx="8353440" cy="737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fect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turbative coefficients are identical for each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837720"/>
            <a:ext cx="432108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e two cross section calculations for one single fixed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lice at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-1.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ff0066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Cross section contribution with reduced CME (standard slicing method)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Hadron = Pomer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h 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·E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Calculate matrix elements using proton energy (new method)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Hadron = Proton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E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P</a:t>
            </a:r>
            <a:br>
              <a:rPr sz="1600"/>
            </a:br>
            <a:r>
              <a:rPr b="0" lang="en-US" sz="1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z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cross section contribution</a:t>
            </a:r>
            <a:br>
              <a:rPr sz="1600"/>
            </a:b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ff0066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ff0066"/>
                </a:solidFill>
                <a:latin typeface="Arial"/>
                <a:ea typeface="Arial"/>
              </a:rPr>
              <a:t>hadr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99ff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= 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hadron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/x</a:t>
            </a:r>
            <a:r>
              <a:rPr b="0" lang="en-US" sz="1600" spc="-1" strike="noStrike" baseline="-25000">
                <a:solidFill>
                  <a:srgbClr val="0099ff"/>
                </a:solidFill>
                <a:latin typeface="Arial"/>
                <a:ea typeface="Arial"/>
              </a:rPr>
              <a:t>IP</a:t>
            </a:r>
            <a:r>
              <a:rPr b="0" lang="en-US" sz="1600" spc="-1" strike="noStrike">
                <a:solidFill>
                  <a:srgbClr val="0099ff"/>
                </a:solidFill>
                <a:latin typeface="Arial"/>
                <a:ea typeface="Arial"/>
              </a:rPr>
              <a:t> &lt; 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adr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eing the momentum fraction of the parton wrt. to the incoming hadron (Pomeron) momentu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B34A-C6A2-4FE8-82F9-3ABF2DCD00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7129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number of x-nodes in low-x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 x wrt.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2640" indent="-25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ulae calculated properly by Federico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90480" y="3357720"/>
                <a:ext cx="697716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79280" y="4365720"/>
            <a:ext cx="8352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integration runs over discrete x-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09640" indent="-2746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most x-node is weighted according to its range inside/outside of the integration inter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602136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B67-27A7-45E1-BD3B-2F4B6A0C42E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example for pre-calculated fastNLO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1280" y="1052640"/>
            <a:ext cx="7921440" cy="243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H1 diffractive dijets dP*_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  Eur.Phys.J. C70 (2010)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astNLODiffH12006FitB fnlodiff( "fnhd1012.tab"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SetXPomLinSlicing( 30, 0.0, 0.1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vector&lt;double&gt;  xs = fnlodiff.GetDiffCrossSectio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ptional print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fnlodiff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5799240"/>
            <a:ext cx="7921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tty easy to use (if fastNLO table is already calcul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716280"/>
            <a:ext cx="7921440" cy="1769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out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 This is a single-differential table in p*_T,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* ---  p*_T,1  ---        - Bin -       -- XS-FNLO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4.000 -     6.500     0          9.4173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6.500 -     8.500     1          6.6364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879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8.500 -    12.000     2          1.6610e+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9D1C-00AD-463C-972B-822D212883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Scale 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211640" y="836640"/>
            <a:ext cx="468000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H1 Collaboration Meeting - Muni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A1C-6BB2-4045-A07F-21C14CFA44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ember 12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10-17T10:05:57Z</dcterms:modified>
  <cp:revision>444</cp:revision>
  <dc:subject/>
  <dc:title>My Unfolding</dc:title>
</cp:coreProperties>
</file>