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3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12.jpeg" ContentType="image/jpeg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A647-E4A5-47FC-813D-A1E22B126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F85B-E1F8-41E5-AD48-C0200C28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2D94-AA75-498F-9CB2-BA82B7F6B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964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83664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928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964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771360"/>
            <a:ext cx="282852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D95E-845D-4CE9-A477-902055853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1273-99D6-4617-8436-C2397EA7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9880-A759-4D7F-87D9-D9AC9DFE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20E3-2CEE-4C3F-ADBE-37041335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FD6B-8574-406A-94FE-B959FE93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2240" y="103320"/>
            <a:ext cx="87595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EC96-2ABD-4DDA-BC65-ECB4312C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1F7F-C7AF-4736-8236-A9C1F60B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377136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33E7-C95B-460B-8120-B1AFAE65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836640"/>
            <a:ext cx="42872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9280" y="3771360"/>
            <a:ext cx="8785440" cy="26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8AC8-5618-48D1-992C-08C34F32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20560" indent="-1108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00720" y="7102080"/>
            <a:ext cx="24415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720"/>
            <a:ext cx="3743280" cy="2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8240" y="6546600"/>
            <a:ext cx="24415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Freestyle Scrip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DC92-CA49-435C-AF85-AC71AB52555E}" type="slidenum">
              <a:rPr b="0" lang="de-DE" sz="1400" spc="-1" strike="noStrike">
                <a:solidFill>
                  <a:srgbClr val="000000"/>
                </a:solidFill>
                <a:latin typeface="Freestyle Scrip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http://psi.fuw.edu.pl/pub/Main/CR2011Venue/venue01.jpg"/>
          <p:cNvPicPr/>
          <p:nvPr/>
        </p:nvPicPr>
        <p:blipFill>
          <a:blip r:embed="rId1"/>
          <a:stretch/>
        </p:blipFill>
        <p:spPr>
          <a:xfrm>
            <a:off x="-1405080" y="-19080"/>
            <a:ext cx="11954160" cy="68961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11280" y="1160640"/>
            <a:ext cx="777240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Application of fastNLO to NNLO calculation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3840" y="4724280"/>
            <a:ext cx="564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S 2014 </a:t>
            </a:r>
            <a:br>
              <a:rPr sz="16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XXII. International Workshop on Deep-Inelastic Scattering and Related Subjec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ril 30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199" r="47471" b="3600"/>
          <a:stretch/>
        </p:blipFill>
        <p:spPr>
          <a:xfrm>
            <a:off x="4103640" y="5680080"/>
            <a:ext cx="892080" cy="88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951280" y="2673360"/>
            <a:ext cx="287316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149400" y="4005360"/>
            <a:ext cx="9293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niel Britzger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 Marco Guzzi, Klaus Rabbertz, Georg Sieber, Fred Stober,Markus Wobisch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SY, DESY, KIT , KIT, KIT, Louisiana Te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tool: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089000"/>
            <a:ext cx="871380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about application of fastNLO to other processes/programs 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rdly any theoretical limitation of fastNLO concept to pQCD or EW calcu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y not used more frequentl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of fastNLO to theory programs often very complicated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ory codes are not optimized (at all) for fastNL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ical difficulties are mostly limiting factor in u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simple and flexible code to interface fastNLO to any kind of (N)NLO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5229360"/>
            <a:ext cx="5256360" cy="39888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ewly developed tool: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a50021"/>
                </a:solidFill>
                <a:latin typeface="Tahoma"/>
              </a:rPr>
              <a:t>fast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NLO Toolk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http://www.schoepfung.eu/fileadmin/win/sc/dateien/5/luft/bartkauz.jpg"/>
          <p:cNvPicPr/>
          <p:nvPr/>
        </p:nvPicPr>
        <p:blipFill>
          <a:blip r:embed="rId1"/>
          <a:srcRect l="0" t="19548" r="0" b="0"/>
          <a:stretch/>
        </p:blipFill>
        <p:spPr>
          <a:xfrm>
            <a:off x="7831080" y="1484280"/>
            <a:ext cx="1312920" cy="158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www.crazy4me.com/wp-content/uploads/2010/01/Pink-Question-Mark.jpg"/>
          <p:cNvPicPr/>
          <p:nvPr/>
        </p:nvPicPr>
        <p:blipFill>
          <a:blip r:embed="rId2"/>
          <a:srcRect l="25087" t="6454" r="23944" b="6170"/>
          <a:stretch/>
        </p:blipFill>
        <p:spPr>
          <a:xfrm>
            <a:off x="8280360" y="476280"/>
            <a:ext cx="260280" cy="446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crazy4me.com/wp-content/uploads/2010/01/Pink-Question-Mark.jpg"/>
          <p:cNvPicPr/>
          <p:nvPr/>
        </p:nvPicPr>
        <p:blipFill>
          <a:blip r:embed="rId3"/>
          <a:srcRect l="25087" t="6454" r="23944" b="6170"/>
          <a:stretch/>
        </p:blipFill>
        <p:spPr>
          <a:xfrm>
            <a:off x="8640720" y="297000"/>
            <a:ext cx="174600" cy="2998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crazy4me.com/wp-content/uploads/2010/01/Pink-Question-Mark.jpg"/>
          <p:cNvPicPr/>
          <p:nvPr/>
        </p:nvPicPr>
        <p:blipFill>
          <a:blip r:embed="rId4"/>
          <a:srcRect l="25087" t="6454" r="23944" b="6170"/>
          <a:stretch/>
        </p:blipFill>
        <p:spPr>
          <a:xfrm>
            <a:off x="7812000" y="765000"/>
            <a:ext cx="463680" cy="793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http://www.crazy4me.com/wp-content/uploads/2010/01/Pink-Question-Mark.jpg"/>
          <p:cNvPicPr/>
          <p:nvPr/>
        </p:nvPicPr>
        <p:blipFill>
          <a:blip r:embed="rId5"/>
          <a:srcRect l="25087" t="6454" r="23944" b="6170"/>
          <a:stretch/>
        </p:blipFill>
        <p:spPr>
          <a:xfrm>
            <a:off x="8856720" y="152280"/>
            <a:ext cx="133200" cy="22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EC06-5112-4570-A97E-18ACD9363D5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573360"/>
            <a:ext cx="5543640" cy="24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EBD4-F1F7-4AEE-AF5A-275867AA97D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3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F636-56ED-427E-B36F-19380D35723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429000"/>
            <a:ext cx="554364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67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1A65-D677-4C85-9E02-93E2C4E5700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9280" y="1160640"/>
            <a:ext cx="518472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needs access 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rix elements before convolution with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values where PDFs are evalu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ous NLO and NNLO programs have very different software archite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ized for efficient cal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ight implementation of math. formula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ically grow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age of well established algorithms (e.g. vega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)NLO programs often look to non-authors like different kind of pas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96000" y="380376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153504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69900"/>
                </a:solidFill>
                <a:latin typeface="Arial"/>
              </a:rPr>
              <a:t>NLO program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hink about a general interface to any kind of theoretica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588000" y="2492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2272200">
            <a:off x="6767640" y="2060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16720" y="224172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0684400">
            <a:off x="5940000" y="234936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343640" y="263700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88600">
            <a:off x="7236000" y="2276640"/>
            <a:ext cx="93636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rot="1753800">
            <a:off x="6912000" y="281628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rot="715800">
            <a:off x="6084720" y="2744640"/>
            <a:ext cx="936720" cy="395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6074280" y="2262960"/>
            <a:ext cx="1863720" cy="846720"/>
            <a:chOff x="6074280" y="2262960"/>
            <a:chExt cx="1863720" cy="846720"/>
          </a:xfrm>
        </p:grpSpPr>
        <p:sp>
          <p:nvSpPr>
            <p:cNvPr id="186" name=""/>
            <p:cNvSpPr/>
            <p:nvPr/>
          </p:nvSpPr>
          <p:spPr>
            <a:xfrm rot="20805000">
              <a:off x="6791760" y="2304360"/>
              <a:ext cx="39852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693000">
              <a:off x="7441920" y="2312640"/>
              <a:ext cx="4701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C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N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20963400">
              <a:off x="7176960" y="2781000"/>
              <a:ext cx="32076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µ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22680" y="2744640"/>
              <a:ext cx="47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PD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20443200">
              <a:off x="6109200" y="2419920"/>
              <a:ext cx="525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33399"/>
                  </a:solidFill>
                  <a:latin typeface="Verdana"/>
                </a:rPr>
                <a:t>Obs</a:t>
              </a:r>
              <a:r>
                <a:rPr b="1" lang="de-DE" sz="1200" spc="-1" strike="noStrike" baseline="-25000">
                  <a:solidFill>
                    <a:srgbClr val="333399"/>
                  </a:solidFill>
                  <a:latin typeface="Verdan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6048360" y="436572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7451640" y="4221000"/>
            <a:ext cx="287280" cy="757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443640" y="4329000"/>
            <a:ext cx="1440000" cy="64944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19640" y="4617720"/>
            <a:ext cx="971640" cy="7189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091280" y="4581360"/>
            <a:ext cx="900360" cy="54000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35040" y="4041720"/>
            <a:ext cx="3985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22880" y="4343400"/>
            <a:ext cx="4701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C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N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79160" y="5302080"/>
            <a:ext cx="3207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µ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94320" y="396864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3520" y="4257720"/>
            <a:ext cx="525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Verdana"/>
              </a:rPr>
              <a:t>Obs</a:t>
            </a:r>
            <a:r>
              <a:rPr b="1" lang="de-DE" sz="12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6262560" y="4545000"/>
            <a:ext cx="1332000" cy="50472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AF14-8BD8-499A-8CFD-00D317028C3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4" idx="2"/>
            <a:endCxn id="205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A2C4-35B9-4078-8A12-8150050BCECA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7" idx="2"/>
            <a:endCxn id="218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19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20B8-C986-4678-9495-87550F4D787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8" name=""/>
          <p:cNvCxnSpPr>
            <a:stCxn id="229" idx="2"/>
            <a:endCxn id="230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8997-3840-49AA-A8A6-AA1CC9F0AF3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49" name=""/>
          <p:cNvCxnSpPr>
            <a:stCxn id="250" idx="2"/>
            <a:endCxn id="251" idx="0"/>
          </p:cNvCxnSpPr>
          <p:nvPr/>
        </p:nvCxnSpPr>
        <p:spPr>
          <a:xfrm flipH="1">
            <a:off x="1759680" y="1137960"/>
            <a:ext cx="3960" cy="4002840"/>
          </a:xfrm>
          <a:prstGeom prst="straightConnector1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466560" y="2025720"/>
            <a:ext cx="1295640" cy="2555640"/>
          </a:xfrm>
          <a:custGeom>
            <a:avLst/>
            <a:gdLst>
              <a:gd name="textAreaLeft" fmla="*/ 63000 w 1295640"/>
              <a:gd name="textAreaRight" fmla="*/ 1232640 w 1295640"/>
              <a:gd name="textAreaTop" fmla="*/ 63000 h 2555640"/>
              <a:gd name="textAreaBottom" fmla="*/ 2492640 h 2555640"/>
            </a:gdLst>
            <a:ahLst/>
            <a:rect l="textAreaLeft" t="textAreaTop" r="textAreaRight" b="textAreaBottom"/>
            <a:pathLst>
              <a:path w="21600" h="42600">
                <a:moveTo>
                  <a:pt x="3600" y="0"/>
                </a:moveTo>
                <a:arcTo wR="3600" hR="3600" stAng="16200000" swAng="-5400000"/>
                <a:lnTo>
                  <a:pt x="0" y="39000"/>
                </a:lnTo>
                <a:arcTo wR="3600" hR="3600" stAng="10800000" swAng="-5400000"/>
                <a:lnTo>
                  <a:pt x="18000" y="426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6360" y="2816280"/>
            <a:ext cx="2232000" cy="1152360"/>
          </a:xfrm>
          <a:custGeom>
            <a:avLst/>
            <a:gdLst/>
            <a:ahLst/>
            <a:rect l="l" t="t" r="r" b="b"/>
            <a:pathLst>
              <a:path w="1406" h="930">
                <a:moveTo>
                  <a:pt x="228" y="738"/>
                </a:moveTo>
                <a:cubicBezTo>
                  <a:pt x="282" y="716"/>
                  <a:pt x="329" y="682"/>
                  <a:pt x="384" y="660"/>
                </a:cubicBezTo>
                <a:cubicBezTo>
                  <a:pt x="402" y="636"/>
                  <a:pt x="419" y="624"/>
                  <a:pt x="426" y="594"/>
                </a:cubicBezTo>
                <a:cubicBezTo>
                  <a:pt x="418" y="562"/>
                  <a:pt x="405" y="539"/>
                  <a:pt x="372" y="528"/>
                </a:cubicBezTo>
                <a:cubicBezTo>
                  <a:pt x="347" y="503"/>
                  <a:pt x="337" y="502"/>
                  <a:pt x="306" y="492"/>
                </a:cubicBezTo>
                <a:cubicBezTo>
                  <a:pt x="304" y="500"/>
                  <a:pt x="296" y="509"/>
                  <a:pt x="300" y="516"/>
                </a:cubicBezTo>
                <a:cubicBezTo>
                  <a:pt x="305" y="525"/>
                  <a:pt x="340" y="532"/>
                  <a:pt x="348" y="534"/>
                </a:cubicBezTo>
                <a:cubicBezTo>
                  <a:pt x="395" y="547"/>
                  <a:pt x="438" y="553"/>
                  <a:pt x="486" y="558"/>
                </a:cubicBezTo>
                <a:cubicBezTo>
                  <a:pt x="542" y="556"/>
                  <a:pt x="598" y="559"/>
                  <a:pt x="654" y="552"/>
                </a:cubicBezTo>
                <a:cubicBezTo>
                  <a:pt x="689" y="547"/>
                  <a:pt x="663" y="493"/>
                  <a:pt x="660" y="486"/>
                </a:cubicBezTo>
                <a:cubicBezTo>
                  <a:pt x="645" y="446"/>
                  <a:pt x="603" y="442"/>
                  <a:pt x="570" y="420"/>
                </a:cubicBezTo>
                <a:cubicBezTo>
                  <a:pt x="565" y="422"/>
                  <a:pt x="511" y="433"/>
                  <a:pt x="564" y="456"/>
                </a:cubicBezTo>
                <a:cubicBezTo>
                  <a:pt x="574" y="460"/>
                  <a:pt x="584" y="448"/>
                  <a:pt x="594" y="444"/>
                </a:cubicBezTo>
                <a:cubicBezTo>
                  <a:pt x="585" y="406"/>
                  <a:pt x="584" y="379"/>
                  <a:pt x="546" y="366"/>
                </a:cubicBezTo>
                <a:cubicBezTo>
                  <a:pt x="538" y="389"/>
                  <a:pt x="507" y="467"/>
                  <a:pt x="558" y="450"/>
                </a:cubicBezTo>
                <a:cubicBezTo>
                  <a:pt x="564" y="436"/>
                  <a:pt x="575" y="423"/>
                  <a:pt x="576" y="408"/>
                </a:cubicBezTo>
                <a:cubicBezTo>
                  <a:pt x="577" y="383"/>
                  <a:pt x="556" y="241"/>
                  <a:pt x="546" y="216"/>
                </a:cubicBezTo>
                <a:cubicBezTo>
                  <a:pt x="543" y="209"/>
                  <a:pt x="534" y="208"/>
                  <a:pt x="528" y="204"/>
                </a:cubicBezTo>
                <a:cubicBezTo>
                  <a:pt x="444" y="209"/>
                  <a:pt x="418" y="185"/>
                  <a:pt x="396" y="252"/>
                </a:cubicBezTo>
                <a:cubicBezTo>
                  <a:pt x="402" y="278"/>
                  <a:pt x="398" y="308"/>
                  <a:pt x="414" y="330"/>
                </a:cubicBezTo>
                <a:cubicBezTo>
                  <a:pt x="432" y="354"/>
                  <a:pt x="476" y="360"/>
                  <a:pt x="504" y="366"/>
                </a:cubicBezTo>
                <a:cubicBezTo>
                  <a:pt x="558" y="353"/>
                  <a:pt x="560" y="356"/>
                  <a:pt x="570" y="306"/>
                </a:cubicBezTo>
                <a:cubicBezTo>
                  <a:pt x="555" y="245"/>
                  <a:pt x="509" y="257"/>
                  <a:pt x="456" y="246"/>
                </a:cubicBezTo>
                <a:cubicBezTo>
                  <a:pt x="404" y="248"/>
                  <a:pt x="352" y="248"/>
                  <a:pt x="300" y="252"/>
                </a:cubicBezTo>
                <a:cubicBezTo>
                  <a:pt x="282" y="254"/>
                  <a:pt x="261" y="253"/>
                  <a:pt x="246" y="264"/>
                </a:cubicBezTo>
                <a:cubicBezTo>
                  <a:pt x="231" y="275"/>
                  <a:pt x="216" y="312"/>
                  <a:pt x="216" y="312"/>
                </a:cubicBezTo>
                <a:cubicBezTo>
                  <a:pt x="206" y="360"/>
                  <a:pt x="174" y="533"/>
                  <a:pt x="216" y="564"/>
                </a:cubicBezTo>
                <a:cubicBezTo>
                  <a:pt x="267" y="603"/>
                  <a:pt x="329" y="603"/>
                  <a:pt x="390" y="612"/>
                </a:cubicBezTo>
                <a:cubicBezTo>
                  <a:pt x="590" y="590"/>
                  <a:pt x="597" y="639"/>
                  <a:pt x="648" y="504"/>
                </a:cubicBezTo>
                <a:cubicBezTo>
                  <a:pt x="658" y="412"/>
                  <a:pt x="654" y="285"/>
                  <a:pt x="546" y="258"/>
                </a:cubicBezTo>
                <a:cubicBezTo>
                  <a:pt x="526" y="259"/>
                  <a:pt x="398" y="262"/>
                  <a:pt x="366" y="276"/>
                </a:cubicBezTo>
                <a:cubicBezTo>
                  <a:pt x="348" y="284"/>
                  <a:pt x="349" y="312"/>
                  <a:pt x="342" y="330"/>
                </a:cubicBezTo>
                <a:cubicBezTo>
                  <a:pt x="366" y="556"/>
                  <a:pt x="314" y="535"/>
                  <a:pt x="444" y="600"/>
                </a:cubicBezTo>
                <a:cubicBezTo>
                  <a:pt x="495" y="593"/>
                  <a:pt x="549" y="612"/>
                  <a:pt x="552" y="546"/>
                </a:cubicBezTo>
                <a:cubicBezTo>
                  <a:pt x="553" y="514"/>
                  <a:pt x="545" y="482"/>
                  <a:pt x="540" y="450"/>
                </a:cubicBezTo>
                <a:cubicBezTo>
                  <a:pt x="537" y="430"/>
                  <a:pt x="540" y="407"/>
                  <a:pt x="528" y="390"/>
                </a:cubicBezTo>
                <a:cubicBezTo>
                  <a:pt x="518" y="375"/>
                  <a:pt x="496" y="374"/>
                  <a:pt x="480" y="366"/>
                </a:cubicBezTo>
                <a:cubicBezTo>
                  <a:pt x="472" y="362"/>
                  <a:pt x="456" y="354"/>
                  <a:pt x="456" y="354"/>
                </a:cubicBezTo>
                <a:cubicBezTo>
                  <a:pt x="341" y="362"/>
                  <a:pt x="245" y="324"/>
                  <a:pt x="216" y="438"/>
                </a:cubicBezTo>
                <a:cubicBezTo>
                  <a:pt x="217" y="439"/>
                  <a:pt x="242" y="486"/>
                  <a:pt x="258" y="486"/>
                </a:cubicBezTo>
                <a:cubicBezTo>
                  <a:pt x="332" y="484"/>
                  <a:pt x="480" y="468"/>
                  <a:pt x="480" y="468"/>
                </a:cubicBezTo>
                <a:cubicBezTo>
                  <a:pt x="490" y="460"/>
                  <a:pt x="500" y="452"/>
                  <a:pt x="510" y="444"/>
                </a:cubicBezTo>
                <a:cubicBezTo>
                  <a:pt x="516" y="440"/>
                  <a:pt x="530" y="439"/>
                  <a:pt x="528" y="432"/>
                </a:cubicBezTo>
                <a:cubicBezTo>
                  <a:pt x="525" y="424"/>
                  <a:pt x="512" y="428"/>
                  <a:pt x="504" y="426"/>
                </a:cubicBezTo>
                <a:cubicBezTo>
                  <a:pt x="380" y="431"/>
                  <a:pt x="206" y="413"/>
                  <a:pt x="84" y="474"/>
                </a:cubicBezTo>
                <a:cubicBezTo>
                  <a:pt x="70" y="493"/>
                  <a:pt x="32" y="533"/>
                  <a:pt x="66" y="558"/>
                </a:cubicBezTo>
                <a:cubicBezTo>
                  <a:pt x="81" y="569"/>
                  <a:pt x="102" y="566"/>
                  <a:pt x="120" y="570"/>
                </a:cubicBezTo>
                <a:cubicBezTo>
                  <a:pt x="235" y="543"/>
                  <a:pt x="235" y="573"/>
                  <a:pt x="258" y="468"/>
                </a:cubicBezTo>
                <a:cubicBezTo>
                  <a:pt x="265" y="438"/>
                  <a:pt x="270" y="408"/>
                  <a:pt x="276" y="378"/>
                </a:cubicBezTo>
                <a:cubicBezTo>
                  <a:pt x="278" y="338"/>
                  <a:pt x="313" y="204"/>
                  <a:pt x="252" y="174"/>
                </a:cubicBezTo>
                <a:cubicBezTo>
                  <a:pt x="195" y="188"/>
                  <a:pt x="194" y="186"/>
                  <a:pt x="162" y="234"/>
                </a:cubicBezTo>
                <a:cubicBezTo>
                  <a:pt x="167" y="488"/>
                  <a:pt x="94" y="503"/>
                  <a:pt x="258" y="558"/>
                </a:cubicBezTo>
                <a:cubicBezTo>
                  <a:pt x="294" y="554"/>
                  <a:pt x="332" y="558"/>
                  <a:pt x="366" y="546"/>
                </a:cubicBezTo>
                <a:cubicBezTo>
                  <a:pt x="380" y="541"/>
                  <a:pt x="383" y="523"/>
                  <a:pt x="390" y="510"/>
                </a:cubicBezTo>
                <a:cubicBezTo>
                  <a:pt x="415" y="464"/>
                  <a:pt x="425" y="446"/>
                  <a:pt x="450" y="408"/>
                </a:cubicBezTo>
                <a:cubicBezTo>
                  <a:pt x="483" y="275"/>
                  <a:pt x="227" y="376"/>
                  <a:pt x="132" y="408"/>
                </a:cubicBezTo>
                <a:cubicBezTo>
                  <a:pt x="118" y="429"/>
                  <a:pt x="112" y="450"/>
                  <a:pt x="102" y="474"/>
                </a:cubicBezTo>
                <a:cubicBezTo>
                  <a:pt x="125" y="520"/>
                  <a:pt x="150" y="511"/>
                  <a:pt x="204" y="516"/>
                </a:cubicBezTo>
                <a:cubicBezTo>
                  <a:pt x="324" y="512"/>
                  <a:pt x="444" y="515"/>
                  <a:pt x="564" y="504"/>
                </a:cubicBezTo>
                <a:cubicBezTo>
                  <a:pt x="617" y="499"/>
                  <a:pt x="667" y="476"/>
                  <a:pt x="720" y="468"/>
                </a:cubicBezTo>
                <a:cubicBezTo>
                  <a:pt x="756" y="462"/>
                  <a:pt x="792" y="464"/>
                  <a:pt x="828" y="462"/>
                </a:cubicBezTo>
                <a:cubicBezTo>
                  <a:pt x="874" y="456"/>
                  <a:pt x="921" y="455"/>
                  <a:pt x="966" y="444"/>
                </a:cubicBezTo>
                <a:cubicBezTo>
                  <a:pt x="978" y="441"/>
                  <a:pt x="984" y="425"/>
                  <a:pt x="996" y="420"/>
                </a:cubicBezTo>
                <a:cubicBezTo>
                  <a:pt x="1009" y="415"/>
                  <a:pt x="1024" y="416"/>
                  <a:pt x="1038" y="414"/>
                </a:cubicBezTo>
                <a:cubicBezTo>
                  <a:pt x="854" y="383"/>
                  <a:pt x="338" y="419"/>
                  <a:pt x="252" y="420"/>
                </a:cubicBezTo>
                <a:cubicBezTo>
                  <a:pt x="206" y="428"/>
                  <a:pt x="158" y="430"/>
                  <a:pt x="114" y="444"/>
                </a:cubicBezTo>
                <a:cubicBezTo>
                  <a:pt x="97" y="450"/>
                  <a:pt x="13" y="535"/>
                  <a:pt x="6" y="546"/>
                </a:cubicBezTo>
                <a:cubicBezTo>
                  <a:pt x="256" y="574"/>
                  <a:pt x="470" y="551"/>
                  <a:pt x="744" y="546"/>
                </a:cubicBezTo>
                <a:cubicBezTo>
                  <a:pt x="977" y="513"/>
                  <a:pt x="1241" y="466"/>
                  <a:pt x="1392" y="264"/>
                </a:cubicBezTo>
                <a:cubicBezTo>
                  <a:pt x="1406" y="221"/>
                  <a:pt x="1363" y="232"/>
                  <a:pt x="1332" y="222"/>
                </a:cubicBezTo>
                <a:cubicBezTo>
                  <a:pt x="1213" y="226"/>
                  <a:pt x="1116" y="209"/>
                  <a:pt x="1026" y="288"/>
                </a:cubicBezTo>
                <a:cubicBezTo>
                  <a:pt x="992" y="357"/>
                  <a:pt x="976" y="422"/>
                  <a:pt x="966" y="498"/>
                </a:cubicBezTo>
                <a:cubicBezTo>
                  <a:pt x="990" y="583"/>
                  <a:pt x="1017" y="545"/>
                  <a:pt x="1128" y="540"/>
                </a:cubicBezTo>
                <a:cubicBezTo>
                  <a:pt x="1150" y="534"/>
                  <a:pt x="1174" y="534"/>
                  <a:pt x="1194" y="522"/>
                </a:cubicBezTo>
                <a:cubicBezTo>
                  <a:pt x="1206" y="515"/>
                  <a:pt x="1209" y="497"/>
                  <a:pt x="1218" y="486"/>
                </a:cubicBezTo>
                <a:cubicBezTo>
                  <a:pt x="1227" y="475"/>
                  <a:pt x="1238" y="466"/>
                  <a:pt x="1248" y="456"/>
                </a:cubicBezTo>
                <a:cubicBezTo>
                  <a:pt x="1252" y="446"/>
                  <a:pt x="1257" y="436"/>
                  <a:pt x="1260" y="426"/>
                </a:cubicBezTo>
                <a:cubicBezTo>
                  <a:pt x="1277" y="363"/>
                  <a:pt x="1242" y="362"/>
                  <a:pt x="1188" y="354"/>
                </a:cubicBezTo>
                <a:cubicBezTo>
                  <a:pt x="935" y="365"/>
                  <a:pt x="876" y="324"/>
                  <a:pt x="720" y="480"/>
                </a:cubicBezTo>
                <a:cubicBezTo>
                  <a:pt x="750" y="500"/>
                  <a:pt x="755" y="487"/>
                  <a:pt x="780" y="462"/>
                </a:cubicBezTo>
                <a:cubicBezTo>
                  <a:pt x="789" y="436"/>
                  <a:pt x="791" y="418"/>
                  <a:pt x="762" y="408"/>
                </a:cubicBezTo>
                <a:cubicBezTo>
                  <a:pt x="662" y="413"/>
                  <a:pt x="590" y="385"/>
                  <a:pt x="552" y="480"/>
                </a:cubicBezTo>
                <a:cubicBezTo>
                  <a:pt x="556" y="582"/>
                  <a:pt x="511" y="664"/>
                  <a:pt x="600" y="642"/>
                </a:cubicBezTo>
                <a:cubicBezTo>
                  <a:pt x="629" y="604"/>
                  <a:pt x="632" y="577"/>
                  <a:pt x="642" y="528"/>
                </a:cubicBezTo>
                <a:cubicBezTo>
                  <a:pt x="636" y="460"/>
                  <a:pt x="649" y="331"/>
                  <a:pt x="594" y="276"/>
                </a:cubicBezTo>
                <a:cubicBezTo>
                  <a:pt x="568" y="278"/>
                  <a:pt x="541" y="276"/>
                  <a:pt x="516" y="282"/>
                </a:cubicBezTo>
                <a:cubicBezTo>
                  <a:pt x="492" y="288"/>
                  <a:pt x="466" y="412"/>
                  <a:pt x="462" y="438"/>
                </a:cubicBezTo>
                <a:cubicBezTo>
                  <a:pt x="490" y="545"/>
                  <a:pt x="473" y="544"/>
                  <a:pt x="564" y="570"/>
                </a:cubicBezTo>
                <a:cubicBezTo>
                  <a:pt x="632" y="564"/>
                  <a:pt x="646" y="564"/>
                  <a:pt x="696" y="522"/>
                </a:cubicBezTo>
                <a:cubicBezTo>
                  <a:pt x="704" y="466"/>
                  <a:pt x="722" y="397"/>
                  <a:pt x="702" y="342"/>
                </a:cubicBezTo>
                <a:cubicBezTo>
                  <a:pt x="698" y="331"/>
                  <a:pt x="667" y="326"/>
                  <a:pt x="660" y="324"/>
                </a:cubicBezTo>
                <a:cubicBezTo>
                  <a:pt x="578" y="332"/>
                  <a:pt x="519" y="347"/>
                  <a:pt x="456" y="402"/>
                </a:cubicBezTo>
                <a:cubicBezTo>
                  <a:pt x="439" y="448"/>
                  <a:pt x="422" y="492"/>
                  <a:pt x="414" y="540"/>
                </a:cubicBezTo>
                <a:cubicBezTo>
                  <a:pt x="421" y="655"/>
                  <a:pt x="400" y="644"/>
                  <a:pt x="486" y="666"/>
                </a:cubicBezTo>
                <a:cubicBezTo>
                  <a:pt x="500" y="664"/>
                  <a:pt x="516" y="667"/>
                  <a:pt x="528" y="660"/>
                </a:cubicBezTo>
                <a:cubicBezTo>
                  <a:pt x="536" y="656"/>
                  <a:pt x="534" y="642"/>
                  <a:pt x="540" y="636"/>
                </a:cubicBezTo>
                <a:cubicBezTo>
                  <a:pt x="582" y="592"/>
                  <a:pt x="628" y="552"/>
                  <a:pt x="672" y="510"/>
                </a:cubicBezTo>
                <a:cubicBezTo>
                  <a:pt x="735" y="450"/>
                  <a:pt x="794" y="381"/>
                  <a:pt x="846" y="312"/>
                </a:cubicBezTo>
                <a:cubicBezTo>
                  <a:pt x="784" y="218"/>
                  <a:pt x="621" y="296"/>
                  <a:pt x="522" y="318"/>
                </a:cubicBezTo>
                <a:cubicBezTo>
                  <a:pt x="439" y="389"/>
                  <a:pt x="447" y="441"/>
                  <a:pt x="432" y="546"/>
                </a:cubicBezTo>
                <a:cubicBezTo>
                  <a:pt x="443" y="620"/>
                  <a:pt x="435" y="643"/>
                  <a:pt x="504" y="660"/>
                </a:cubicBezTo>
                <a:cubicBezTo>
                  <a:pt x="617" y="644"/>
                  <a:pt x="704" y="637"/>
                  <a:pt x="750" y="522"/>
                </a:cubicBezTo>
                <a:cubicBezTo>
                  <a:pt x="752" y="502"/>
                  <a:pt x="762" y="405"/>
                  <a:pt x="762" y="390"/>
                </a:cubicBezTo>
                <a:cubicBezTo>
                  <a:pt x="762" y="378"/>
                  <a:pt x="765" y="362"/>
                  <a:pt x="756" y="354"/>
                </a:cubicBezTo>
                <a:cubicBezTo>
                  <a:pt x="742" y="341"/>
                  <a:pt x="702" y="336"/>
                  <a:pt x="702" y="336"/>
                </a:cubicBezTo>
                <a:cubicBezTo>
                  <a:pt x="602" y="349"/>
                  <a:pt x="603" y="334"/>
                  <a:pt x="576" y="414"/>
                </a:cubicBezTo>
                <a:cubicBezTo>
                  <a:pt x="604" y="623"/>
                  <a:pt x="578" y="560"/>
                  <a:pt x="834" y="546"/>
                </a:cubicBezTo>
                <a:cubicBezTo>
                  <a:pt x="890" y="535"/>
                  <a:pt x="923" y="534"/>
                  <a:pt x="972" y="492"/>
                </a:cubicBezTo>
                <a:cubicBezTo>
                  <a:pt x="997" y="470"/>
                  <a:pt x="1011" y="439"/>
                  <a:pt x="1032" y="414"/>
                </a:cubicBezTo>
                <a:cubicBezTo>
                  <a:pt x="1060" y="381"/>
                  <a:pt x="1092" y="360"/>
                  <a:pt x="1128" y="336"/>
                </a:cubicBezTo>
                <a:cubicBezTo>
                  <a:pt x="1126" y="326"/>
                  <a:pt x="1129" y="314"/>
                  <a:pt x="1122" y="306"/>
                </a:cubicBezTo>
                <a:cubicBezTo>
                  <a:pt x="1110" y="292"/>
                  <a:pt x="1086" y="297"/>
                  <a:pt x="1068" y="294"/>
                </a:cubicBezTo>
                <a:cubicBezTo>
                  <a:pt x="1044" y="290"/>
                  <a:pt x="1020" y="286"/>
                  <a:pt x="996" y="282"/>
                </a:cubicBezTo>
                <a:cubicBezTo>
                  <a:pt x="863" y="285"/>
                  <a:pt x="718" y="269"/>
                  <a:pt x="588" y="312"/>
                </a:cubicBezTo>
                <a:cubicBezTo>
                  <a:pt x="516" y="413"/>
                  <a:pt x="496" y="529"/>
                  <a:pt x="486" y="648"/>
                </a:cubicBezTo>
                <a:cubicBezTo>
                  <a:pt x="495" y="708"/>
                  <a:pt x="502" y="710"/>
                  <a:pt x="558" y="738"/>
                </a:cubicBezTo>
                <a:cubicBezTo>
                  <a:pt x="628" y="734"/>
                  <a:pt x="699" y="737"/>
                  <a:pt x="768" y="726"/>
                </a:cubicBezTo>
                <a:cubicBezTo>
                  <a:pt x="815" y="718"/>
                  <a:pt x="768" y="694"/>
                  <a:pt x="762" y="690"/>
                </a:cubicBezTo>
                <a:cubicBezTo>
                  <a:pt x="816" y="674"/>
                  <a:pt x="805" y="667"/>
                  <a:pt x="846" y="636"/>
                </a:cubicBezTo>
                <a:cubicBezTo>
                  <a:pt x="867" y="581"/>
                  <a:pt x="870" y="532"/>
                  <a:pt x="876" y="474"/>
                </a:cubicBezTo>
                <a:cubicBezTo>
                  <a:pt x="869" y="311"/>
                  <a:pt x="911" y="325"/>
                  <a:pt x="798" y="312"/>
                </a:cubicBezTo>
                <a:cubicBezTo>
                  <a:pt x="756" y="320"/>
                  <a:pt x="711" y="317"/>
                  <a:pt x="672" y="336"/>
                </a:cubicBezTo>
                <a:cubicBezTo>
                  <a:pt x="656" y="344"/>
                  <a:pt x="648" y="366"/>
                  <a:pt x="648" y="384"/>
                </a:cubicBezTo>
                <a:cubicBezTo>
                  <a:pt x="648" y="447"/>
                  <a:pt x="659" y="509"/>
                  <a:pt x="672" y="570"/>
                </a:cubicBezTo>
                <a:cubicBezTo>
                  <a:pt x="678" y="599"/>
                  <a:pt x="687" y="636"/>
                  <a:pt x="714" y="648"/>
                </a:cubicBezTo>
                <a:cubicBezTo>
                  <a:pt x="736" y="658"/>
                  <a:pt x="762" y="656"/>
                  <a:pt x="786" y="660"/>
                </a:cubicBezTo>
                <a:cubicBezTo>
                  <a:pt x="858" y="689"/>
                  <a:pt x="918" y="670"/>
                  <a:pt x="978" y="630"/>
                </a:cubicBezTo>
                <a:cubicBezTo>
                  <a:pt x="1006" y="533"/>
                  <a:pt x="992" y="442"/>
                  <a:pt x="942" y="354"/>
                </a:cubicBezTo>
                <a:cubicBezTo>
                  <a:pt x="919" y="263"/>
                  <a:pt x="906" y="276"/>
                  <a:pt x="804" y="252"/>
                </a:cubicBezTo>
                <a:cubicBezTo>
                  <a:pt x="664" y="127"/>
                  <a:pt x="488" y="120"/>
                  <a:pt x="312" y="102"/>
                </a:cubicBezTo>
                <a:cubicBezTo>
                  <a:pt x="193" y="109"/>
                  <a:pt x="204" y="89"/>
                  <a:pt x="180" y="186"/>
                </a:cubicBezTo>
                <a:cubicBezTo>
                  <a:pt x="181" y="193"/>
                  <a:pt x="189" y="304"/>
                  <a:pt x="210" y="324"/>
                </a:cubicBezTo>
                <a:cubicBezTo>
                  <a:pt x="334" y="442"/>
                  <a:pt x="517" y="461"/>
                  <a:pt x="678" y="486"/>
                </a:cubicBezTo>
                <a:cubicBezTo>
                  <a:pt x="740" y="481"/>
                  <a:pt x="809" y="492"/>
                  <a:pt x="864" y="462"/>
                </a:cubicBezTo>
                <a:cubicBezTo>
                  <a:pt x="882" y="452"/>
                  <a:pt x="876" y="422"/>
                  <a:pt x="882" y="402"/>
                </a:cubicBezTo>
                <a:cubicBezTo>
                  <a:pt x="889" y="303"/>
                  <a:pt x="876" y="278"/>
                  <a:pt x="858" y="186"/>
                </a:cubicBezTo>
                <a:cubicBezTo>
                  <a:pt x="851" y="149"/>
                  <a:pt x="850" y="118"/>
                  <a:pt x="816" y="96"/>
                </a:cubicBezTo>
                <a:cubicBezTo>
                  <a:pt x="792" y="102"/>
                  <a:pt x="767" y="105"/>
                  <a:pt x="744" y="114"/>
                </a:cubicBezTo>
                <a:cubicBezTo>
                  <a:pt x="727" y="121"/>
                  <a:pt x="692" y="235"/>
                  <a:pt x="684" y="252"/>
                </a:cubicBezTo>
                <a:cubicBezTo>
                  <a:pt x="670" y="335"/>
                  <a:pt x="654" y="394"/>
                  <a:pt x="684" y="486"/>
                </a:cubicBezTo>
                <a:cubicBezTo>
                  <a:pt x="690" y="504"/>
                  <a:pt x="768" y="525"/>
                  <a:pt x="786" y="528"/>
                </a:cubicBezTo>
                <a:cubicBezTo>
                  <a:pt x="842" y="524"/>
                  <a:pt x="1064" y="515"/>
                  <a:pt x="1146" y="486"/>
                </a:cubicBezTo>
                <a:cubicBezTo>
                  <a:pt x="1191" y="470"/>
                  <a:pt x="1272" y="420"/>
                  <a:pt x="1272" y="420"/>
                </a:cubicBezTo>
                <a:cubicBezTo>
                  <a:pt x="1292" y="392"/>
                  <a:pt x="1337" y="370"/>
                  <a:pt x="1332" y="336"/>
                </a:cubicBezTo>
                <a:cubicBezTo>
                  <a:pt x="1330" y="322"/>
                  <a:pt x="1332" y="307"/>
                  <a:pt x="1326" y="294"/>
                </a:cubicBezTo>
                <a:cubicBezTo>
                  <a:pt x="1322" y="286"/>
                  <a:pt x="1298" y="278"/>
                  <a:pt x="1290" y="276"/>
                </a:cubicBezTo>
                <a:cubicBezTo>
                  <a:pt x="1224" y="261"/>
                  <a:pt x="1230" y="264"/>
                  <a:pt x="1158" y="258"/>
                </a:cubicBezTo>
                <a:cubicBezTo>
                  <a:pt x="1046" y="260"/>
                  <a:pt x="934" y="253"/>
                  <a:pt x="822" y="264"/>
                </a:cubicBezTo>
                <a:cubicBezTo>
                  <a:pt x="754" y="270"/>
                  <a:pt x="691" y="305"/>
                  <a:pt x="624" y="318"/>
                </a:cubicBezTo>
                <a:cubicBezTo>
                  <a:pt x="588" y="336"/>
                  <a:pt x="548" y="347"/>
                  <a:pt x="516" y="372"/>
                </a:cubicBezTo>
                <a:cubicBezTo>
                  <a:pt x="464" y="413"/>
                  <a:pt x="440" y="480"/>
                  <a:pt x="420" y="540"/>
                </a:cubicBezTo>
                <a:cubicBezTo>
                  <a:pt x="455" y="644"/>
                  <a:pt x="652" y="575"/>
                  <a:pt x="714" y="570"/>
                </a:cubicBezTo>
                <a:cubicBezTo>
                  <a:pt x="748" y="562"/>
                  <a:pt x="786" y="563"/>
                  <a:pt x="816" y="546"/>
                </a:cubicBezTo>
                <a:cubicBezTo>
                  <a:pt x="856" y="524"/>
                  <a:pt x="882" y="483"/>
                  <a:pt x="918" y="456"/>
                </a:cubicBezTo>
                <a:cubicBezTo>
                  <a:pt x="938" y="441"/>
                  <a:pt x="962" y="432"/>
                  <a:pt x="984" y="420"/>
                </a:cubicBezTo>
                <a:cubicBezTo>
                  <a:pt x="1048" y="293"/>
                  <a:pt x="1053" y="272"/>
                  <a:pt x="1062" y="138"/>
                </a:cubicBezTo>
                <a:cubicBezTo>
                  <a:pt x="1051" y="95"/>
                  <a:pt x="1015" y="81"/>
                  <a:pt x="978" y="66"/>
                </a:cubicBezTo>
                <a:cubicBezTo>
                  <a:pt x="851" y="15"/>
                  <a:pt x="835" y="9"/>
                  <a:pt x="702" y="0"/>
                </a:cubicBezTo>
                <a:cubicBezTo>
                  <a:pt x="643" y="5"/>
                  <a:pt x="594" y="7"/>
                  <a:pt x="540" y="30"/>
                </a:cubicBezTo>
                <a:cubicBezTo>
                  <a:pt x="524" y="44"/>
                  <a:pt x="502" y="53"/>
                  <a:pt x="492" y="72"/>
                </a:cubicBezTo>
                <a:cubicBezTo>
                  <a:pt x="472" y="110"/>
                  <a:pt x="477" y="156"/>
                  <a:pt x="468" y="198"/>
                </a:cubicBezTo>
                <a:cubicBezTo>
                  <a:pt x="480" y="407"/>
                  <a:pt x="442" y="436"/>
                  <a:pt x="618" y="480"/>
                </a:cubicBezTo>
                <a:cubicBezTo>
                  <a:pt x="661" y="472"/>
                  <a:pt x="701" y="462"/>
                  <a:pt x="744" y="456"/>
                </a:cubicBezTo>
                <a:cubicBezTo>
                  <a:pt x="766" y="426"/>
                  <a:pt x="768" y="415"/>
                  <a:pt x="774" y="378"/>
                </a:cubicBezTo>
                <a:cubicBezTo>
                  <a:pt x="771" y="356"/>
                  <a:pt x="775" y="330"/>
                  <a:pt x="762" y="312"/>
                </a:cubicBezTo>
                <a:cubicBezTo>
                  <a:pt x="725" y="260"/>
                  <a:pt x="619" y="264"/>
                  <a:pt x="564" y="258"/>
                </a:cubicBezTo>
                <a:cubicBezTo>
                  <a:pt x="450" y="267"/>
                  <a:pt x="386" y="269"/>
                  <a:pt x="288" y="318"/>
                </a:cubicBezTo>
                <a:cubicBezTo>
                  <a:pt x="207" y="410"/>
                  <a:pt x="177" y="433"/>
                  <a:pt x="120" y="546"/>
                </a:cubicBezTo>
                <a:cubicBezTo>
                  <a:pt x="106" y="574"/>
                  <a:pt x="106" y="607"/>
                  <a:pt x="96" y="636"/>
                </a:cubicBezTo>
                <a:cubicBezTo>
                  <a:pt x="102" y="658"/>
                  <a:pt x="106" y="681"/>
                  <a:pt x="114" y="702"/>
                </a:cubicBezTo>
                <a:cubicBezTo>
                  <a:pt x="135" y="754"/>
                  <a:pt x="251" y="742"/>
                  <a:pt x="288" y="744"/>
                </a:cubicBezTo>
                <a:cubicBezTo>
                  <a:pt x="485" y="772"/>
                  <a:pt x="685" y="755"/>
                  <a:pt x="882" y="732"/>
                </a:cubicBezTo>
                <a:cubicBezTo>
                  <a:pt x="924" y="717"/>
                  <a:pt x="1021" y="698"/>
                  <a:pt x="1038" y="648"/>
                </a:cubicBezTo>
                <a:cubicBezTo>
                  <a:pt x="1034" y="618"/>
                  <a:pt x="1035" y="587"/>
                  <a:pt x="1026" y="558"/>
                </a:cubicBezTo>
                <a:cubicBezTo>
                  <a:pt x="1006" y="496"/>
                  <a:pt x="859" y="490"/>
                  <a:pt x="810" y="480"/>
                </a:cubicBezTo>
                <a:cubicBezTo>
                  <a:pt x="719" y="484"/>
                  <a:pt x="682" y="475"/>
                  <a:pt x="612" y="510"/>
                </a:cubicBezTo>
                <a:cubicBezTo>
                  <a:pt x="583" y="575"/>
                  <a:pt x="560" y="631"/>
                  <a:pt x="552" y="702"/>
                </a:cubicBezTo>
                <a:cubicBezTo>
                  <a:pt x="557" y="756"/>
                  <a:pt x="540" y="823"/>
                  <a:pt x="576" y="864"/>
                </a:cubicBezTo>
                <a:cubicBezTo>
                  <a:pt x="631" y="926"/>
                  <a:pt x="767" y="923"/>
                  <a:pt x="840" y="930"/>
                </a:cubicBezTo>
                <a:cubicBezTo>
                  <a:pt x="898" y="926"/>
                  <a:pt x="957" y="927"/>
                  <a:pt x="1014" y="918"/>
                </a:cubicBezTo>
                <a:cubicBezTo>
                  <a:pt x="1089" y="907"/>
                  <a:pt x="1236" y="870"/>
                  <a:pt x="1236" y="870"/>
                </a:cubicBezTo>
                <a:cubicBezTo>
                  <a:pt x="1281" y="799"/>
                  <a:pt x="1290" y="765"/>
                  <a:pt x="1296" y="678"/>
                </a:cubicBezTo>
                <a:cubicBezTo>
                  <a:pt x="1291" y="640"/>
                  <a:pt x="1297" y="598"/>
                  <a:pt x="1278" y="564"/>
                </a:cubicBezTo>
                <a:cubicBezTo>
                  <a:pt x="1179" y="386"/>
                  <a:pt x="879" y="346"/>
                  <a:pt x="690" y="336"/>
                </a:cubicBezTo>
                <a:cubicBezTo>
                  <a:pt x="591" y="338"/>
                  <a:pt x="406" y="281"/>
                  <a:pt x="348" y="396"/>
                </a:cubicBezTo>
                <a:cubicBezTo>
                  <a:pt x="342" y="430"/>
                  <a:pt x="333" y="471"/>
                  <a:pt x="348" y="504"/>
                </a:cubicBezTo>
                <a:cubicBezTo>
                  <a:pt x="354" y="516"/>
                  <a:pt x="373" y="514"/>
                  <a:pt x="384" y="522"/>
                </a:cubicBezTo>
                <a:cubicBezTo>
                  <a:pt x="401" y="534"/>
                  <a:pt x="414" y="553"/>
                  <a:pt x="432" y="564"/>
                </a:cubicBezTo>
                <a:cubicBezTo>
                  <a:pt x="486" y="596"/>
                  <a:pt x="565" y="595"/>
                  <a:pt x="624" y="600"/>
                </a:cubicBezTo>
                <a:cubicBezTo>
                  <a:pt x="800" y="594"/>
                  <a:pt x="792" y="638"/>
                  <a:pt x="852" y="534"/>
                </a:cubicBezTo>
                <a:cubicBezTo>
                  <a:pt x="855" y="510"/>
                  <a:pt x="866" y="486"/>
                  <a:pt x="864" y="462"/>
                </a:cubicBezTo>
                <a:cubicBezTo>
                  <a:pt x="850" y="311"/>
                  <a:pt x="677" y="280"/>
                  <a:pt x="558" y="270"/>
                </a:cubicBezTo>
                <a:cubicBezTo>
                  <a:pt x="512" y="272"/>
                  <a:pt x="466" y="272"/>
                  <a:pt x="420" y="276"/>
                </a:cubicBezTo>
                <a:cubicBezTo>
                  <a:pt x="404" y="278"/>
                  <a:pt x="384" y="277"/>
                  <a:pt x="372" y="288"/>
                </a:cubicBezTo>
                <a:cubicBezTo>
                  <a:pt x="359" y="299"/>
                  <a:pt x="364" y="322"/>
                  <a:pt x="354" y="336"/>
                </a:cubicBezTo>
                <a:cubicBezTo>
                  <a:pt x="344" y="350"/>
                  <a:pt x="326" y="356"/>
                  <a:pt x="312" y="366"/>
                </a:cubicBezTo>
                <a:cubicBezTo>
                  <a:pt x="306" y="409"/>
                  <a:pt x="284" y="476"/>
                  <a:pt x="306" y="516"/>
                </a:cubicBezTo>
                <a:cubicBezTo>
                  <a:pt x="332" y="563"/>
                  <a:pt x="431" y="561"/>
                  <a:pt x="474" y="570"/>
                </a:cubicBezTo>
                <a:cubicBezTo>
                  <a:pt x="664" y="558"/>
                  <a:pt x="767" y="574"/>
                  <a:pt x="918" y="486"/>
                </a:cubicBezTo>
                <a:cubicBezTo>
                  <a:pt x="925" y="477"/>
                  <a:pt x="965" y="427"/>
                  <a:pt x="972" y="408"/>
                </a:cubicBezTo>
                <a:cubicBezTo>
                  <a:pt x="986" y="371"/>
                  <a:pt x="1008" y="294"/>
                  <a:pt x="1008" y="294"/>
                </a:cubicBezTo>
                <a:cubicBezTo>
                  <a:pt x="996" y="221"/>
                  <a:pt x="994" y="243"/>
                  <a:pt x="918" y="210"/>
                </a:cubicBezTo>
                <a:cubicBezTo>
                  <a:pt x="810" y="164"/>
                  <a:pt x="926" y="184"/>
                  <a:pt x="774" y="174"/>
                </a:cubicBezTo>
                <a:cubicBezTo>
                  <a:pt x="667" y="178"/>
                  <a:pt x="590" y="176"/>
                  <a:pt x="492" y="204"/>
                </a:cubicBezTo>
                <a:cubicBezTo>
                  <a:pt x="439" y="275"/>
                  <a:pt x="438" y="275"/>
                  <a:pt x="432" y="372"/>
                </a:cubicBezTo>
                <a:cubicBezTo>
                  <a:pt x="434" y="414"/>
                  <a:pt x="435" y="456"/>
                  <a:pt x="438" y="498"/>
                </a:cubicBezTo>
                <a:cubicBezTo>
                  <a:pt x="439" y="510"/>
                  <a:pt x="436" y="525"/>
                  <a:pt x="444" y="534"/>
                </a:cubicBezTo>
                <a:cubicBezTo>
                  <a:pt x="507" y="612"/>
                  <a:pt x="589" y="609"/>
                  <a:pt x="678" y="636"/>
                </a:cubicBezTo>
                <a:cubicBezTo>
                  <a:pt x="772" y="632"/>
                  <a:pt x="866" y="630"/>
                  <a:pt x="960" y="624"/>
                </a:cubicBezTo>
                <a:cubicBezTo>
                  <a:pt x="994" y="622"/>
                  <a:pt x="1029" y="622"/>
                  <a:pt x="1062" y="612"/>
                </a:cubicBezTo>
                <a:cubicBezTo>
                  <a:pt x="1096" y="602"/>
                  <a:pt x="1158" y="564"/>
                  <a:pt x="1158" y="564"/>
                </a:cubicBezTo>
                <a:cubicBezTo>
                  <a:pt x="1166" y="550"/>
                  <a:pt x="1175" y="537"/>
                  <a:pt x="1182" y="522"/>
                </a:cubicBezTo>
                <a:cubicBezTo>
                  <a:pt x="1187" y="511"/>
                  <a:pt x="1194" y="486"/>
                  <a:pt x="1194" y="486"/>
                </a:cubicBezTo>
                <a:cubicBezTo>
                  <a:pt x="1136" y="428"/>
                  <a:pt x="1051" y="426"/>
                  <a:pt x="972" y="420"/>
                </a:cubicBezTo>
                <a:cubicBezTo>
                  <a:pt x="720" y="424"/>
                  <a:pt x="526" y="422"/>
                  <a:pt x="288" y="474"/>
                </a:cubicBezTo>
                <a:cubicBezTo>
                  <a:pt x="242" y="520"/>
                  <a:pt x="199" y="570"/>
                  <a:pt x="150" y="612"/>
                </a:cubicBezTo>
                <a:cubicBezTo>
                  <a:pt x="117" y="640"/>
                  <a:pt x="70" y="651"/>
                  <a:pt x="42" y="684"/>
                </a:cubicBezTo>
                <a:cubicBezTo>
                  <a:pt x="16" y="715"/>
                  <a:pt x="18" y="762"/>
                  <a:pt x="0" y="798"/>
                </a:cubicBezTo>
                <a:cubicBezTo>
                  <a:pt x="12" y="845"/>
                  <a:pt x="2" y="863"/>
                  <a:pt x="66" y="864"/>
                </a:cubicBezTo>
                <a:cubicBezTo>
                  <a:pt x="234" y="866"/>
                  <a:pt x="402" y="856"/>
                  <a:pt x="570" y="852"/>
                </a:cubicBezTo>
                <a:cubicBezTo>
                  <a:pt x="841" y="805"/>
                  <a:pt x="732" y="831"/>
                  <a:pt x="900" y="786"/>
                </a:cubicBezTo>
                <a:cubicBezTo>
                  <a:pt x="924" y="772"/>
                  <a:pt x="950" y="760"/>
                  <a:pt x="972" y="744"/>
                </a:cubicBezTo>
                <a:cubicBezTo>
                  <a:pt x="1047" y="689"/>
                  <a:pt x="898" y="651"/>
                  <a:pt x="870" y="648"/>
                </a:cubicBezTo>
                <a:cubicBezTo>
                  <a:pt x="800" y="640"/>
                  <a:pt x="730" y="640"/>
                  <a:pt x="660" y="636"/>
                </a:cubicBezTo>
                <a:cubicBezTo>
                  <a:pt x="630" y="638"/>
                  <a:pt x="600" y="639"/>
                  <a:pt x="570" y="642"/>
                </a:cubicBezTo>
                <a:cubicBezTo>
                  <a:pt x="554" y="643"/>
                  <a:pt x="533" y="636"/>
                  <a:pt x="522" y="648"/>
                </a:cubicBezTo>
                <a:cubicBezTo>
                  <a:pt x="503" y="668"/>
                  <a:pt x="492" y="726"/>
                  <a:pt x="492" y="726"/>
                </a:cubicBezTo>
                <a:cubicBezTo>
                  <a:pt x="526" y="776"/>
                  <a:pt x="539" y="773"/>
                  <a:pt x="600" y="780"/>
                </a:cubicBezTo>
                <a:cubicBezTo>
                  <a:pt x="701" y="772"/>
                  <a:pt x="776" y="767"/>
                  <a:pt x="870" y="744"/>
                </a:cubicBezTo>
                <a:cubicBezTo>
                  <a:pt x="903" y="677"/>
                  <a:pt x="909" y="575"/>
                  <a:pt x="840" y="534"/>
                </a:cubicBezTo>
                <a:cubicBezTo>
                  <a:pt x="785" y="461"/>
                  <a:pt x="654" y="470"/>
                  <a:pt x="570" y="462"/>
                </a:cubicBezTo>
                <a:cubicBezTo>
                  <a:pt x="502" y="475"/>
                  <a:pt x="472" y="465"/>
                  <a:pt x="438" y="516"/>
                </a:cubicBezTo>
                <a:cubicBezTo>
                  <a:pt x="444" y="550"/>
                  <a:pt x="445" y="585"/>
                  <a:pt x="456" y="618"/>
                </a:cubicBezTo>
                <a:cubicBezTo>
                  <a:pt x="460" y="629"/>
                  <a:pt x="502" y="646"/>
                  <a:pt x="510" y="648"/>
                </a:cubicBezTo>
                <a:cubicBezTo>
                  <a:pt x="598" y="666"/>
                  <a:pt x="684" y="663"/>
                  <a:pt x="774" y="666"/>
                </a:cubicBezTo>
                <a:cubicBezTo>
                  <a:pt x="1005" y="654"/>
                  <a:pt x="981" y="654"/>
                  <a:pt x="1158" y="606"/>
                </a:cubicBezTo>
                <a:cubicBezTo>
                  <a:pt x="1181" y="565"/>
                  <a:pt x="1191" y="531"/>
                  <a:pt x="1200" y="486"/>
                </a:cubicBezTo>
                <a:cubicBezTo>
                  <a:pt x="1196" y="480"/>
                  <a:pt x="1191" y="475"/>
                  <a:pt x="1188" y="468"/>
                </a:cubicBezTo>
                <a:cubicBezTo>
                  <a:pt x="1184" y="458"/>
                  <a:pt x="1187" y="447"/>
                  <a:pt x="1182" y="438"/>
                </a:cubicBezTo>
                <a:cubicBezTo>
                  <a:pt x="1178" y="431"/>
                  <a:pt x="1106" y="367"/>
                  <a:pt x="1104" y="366"/>
                </a:cubicBezTo>
                <a:cubicBezTo>
                  <a:pt x="1071" y="353"/>
                  <a:pt x="1036" y="350"/>
                  <a:pt x="1002" y="342"/>
                </a:cubicBezTo>
                <a:cubicBezTo>
                  <a:pt x="962" y="320"/>
                  <a:pt x="925" y="292"/>
                  <a:pt x="882" y="276"/>
                </a:cubicBezTo>
                <a:cubicBezTo>
                  <a:pt x="831" y="257"/>
                  <a:pt x="773" y="259"/>
                  <a:pt x="720" y="246"/>
                </a:cubicBezTo>
                <a:cubicBezTo>
                  <a:pt x="552" y="257"/>
                  <a:pt x="549" y="208"/>
                  <a:pt x="510" y="306"/>
                </a:cubicBezTo>
                <a:cubicBezTo>
                  <a:pt x="497" y="380"/>
                  <a:pt x="466" y="513"/>
                  <a:pt x="510" y="576"/>
                </a:cubicBezTo>
                <a:cubicBezTo>
                  <a:pt x="555" y="642"/>
                  <a:pt x="661" y="650"/>
                  <a:pt x="732" y="660"/>
                </a:cubicBezTo>
                <a:cubicBezTo>
                  <a:pt x="922" y="646"/>
                  <a:pt x="961" y="706"/>
                  <a:pt x="1008" y="582"/>
                </a:cubicBezTo>
                <a:cubicBezTo>
                  <a:pt x="987" y="417"/>
                  <a:pt x="857" y="396"/>
                  <a:pt x="720" y="384"/>
                </a:cubicBezTo>
                <a:cubicBezTo>
                  <a:pt x="658" y="386"/>
                  <a:pt x="594" y="375"/>
                  <a:pt x="534" y="390"/>
                </a:cubicBezTo>
                <a:cubicBezTo>
                  <a:pt x="515" y="395"/>
                  <a:pt x="513" y="425"/>
                  <a:pt x="498" y="438"/>
                </a:cubicBezTo>
                <a:cubicBezTo>
                  <a:pt x="479" y="454"/>
                  <a:pt x="453" y="460"/>
                  <a:pt x="432" y="474"/>
                </a:cubicBezTo>
                <a:cubicBezTo>
                  <a:pt x="414" y="486"/>
                  <a:pt x="400" y="502"/>
                  <a:pt x="384" y="516"/>
                </a:cubicBezTo>
                <a:cubicBezTo>
                  <a:pt x="370" y="571"/>
                  <a:pt x="363" y="623"/>
                  <a:pt x="354" y="678"/>
                </a:cubicBezTo>
                <a:cubicBezTo>
                  <a:pt x="385" y="770"/>
                  <a:pt x="381" y="768"/>
                  <a:pt x="474" y="780"/>
                </a:cubicBezTo>
                <a:cubicBezTo>
                  <a:pt x="594" y="775"/>
                  <a:pt x="625" y="795"/>
                  <a:pt x="678" y="702"/>
                </a:cubicBezTo>
                <a:cubicBezTo>
                  <a:pt x="687" y="642"/>
                  <a:pt x="701" y="539"/>
                  <a:pt x="636" y="504"/>
                </a:cubicBezTo>
                <a:cubicBezTo>
                  <a:pt x="596" y="482"/>
                  <a:pt x="510" y="450"/>
                  <a:pt x="510" y="450"/>
                </a:cubicBezTo>
                <a:cubicBezTo>
                  <a:pt x="469" y="454"/>
                  <a:pt x="303" y="433"/>
                  <a:pt x="258" y="510"/>
                </a:cubicBezTo>
                <a:cubicBezTo>
                  <a:pt x="237" y="547"/>
                  <a:pt x="243" y="594"/>
                  <a:pt x="234" y="636"/>
                </a:cubicBezTo>
                <a:cubicBezTo>
                  <a:pt x="236" y="668"/>
                  <a:pt x="233" y="701"/>
                  <a:pt x="240" y="732"/>
                </a:cubicBezTo>
                <a:cubicBezTo>
                  <a:pt x="251" y="781"/>
                  <a:pt x="313" y="804"/>
                  <a:pt x="354" y="816"/>
                </a:cubicBezTo>
                <a:cubicBezTo>
                  <a:pt x="491" y="811"/>
                  <a:pt x="507" y="843"/>
                  <a:pt x="546" y="744"/>
                </a:cubicBezTo>
                <a:cubicBezTo>
                  <a:pt x="556" y="681"/>
                  <a:pt x="553" y="718"/>
                  <a:pt x="546" y="624"/>
                </a:cubicBezTo>
                <a:cubicBezTo>
                  <a:pt x="541" y="560"/>
                  <a:pt x="547" y="535"/>
                  <a:pt x="498" y="498"/>
                </a:cubicBezTo>
                <a:cubicBezTo>
                  <a:pt x="484" y="581"/>
                  <a:pt x="469" y="673"/>
                  <a:pt x="498" y="756"/>
                </a:cubicBezTo>
                <a:cubicBezTo>
                  <a:pt x="504" y="774"/>
                  <a:pt x="548" y="787"/>
                  <a:pt x="564" y="792"/>
                </a:cubicBezTo>
                <a:cubicBezTo>
                  <a:pt x="709" y="779"/>
                  <a:pt x="699" y="798"/>
                  <a:pt x="792" y="714"/>
                </a:cubicBezTo>
                <a:cubicBezTo>
                  <a:pt x="811" y="663"/>
                  <a:pt x="816" y="631"/>
                  <a:pt x="822" y="576"/>
                </a:cubicBezTo>
                <a:cubicBezTo>
                  <a:pt x="818" y="523"/>
                  <a:pt x="813" y="391"/>
                  <a:pt x="786" y="540"/>
                </a:cubicBezTo>
                <a:cubicBezTo>
                  <a:pt x="787" y="567"/>
                  <a:pt x="747" y="766"/>
                  <a:pt x="822" y="816"/>
                </a:cubicBezTo>
                <a:cubicBezTo>
                  <a:pt x="872" y="791"/>
                  <a:pt x="874" y="782"/>
                  <a:pt x="888" y="726"/>
                </a:cubicBezTo>
                <a:cubicBezTo>
                  <a:pt x="886" y="692"/>
                  <a:pt x="892" y="657"/>
                  <a:pt x="882" y="624"/>
                </a:cubicBezTo>
                <a:cubicBezTo>
                  <a:pt x="880" y="616"/>
                  <a:pt x="863" y="623"/>
                  <a:pt x="858" y="630"/>
                </a:cubicBezTo>
                <a:cubicBezTo>
                  <a:pt x="851" y="640"/>
                  <a:pt x="854" y="654"/>
                  <a:pt x="852" y="666"/>
                </a:cubicBezTo>
                <a:cubicBezTo>
                  <a:pt x="854" y="694"/>
                  <a:pt x="846" y="725"/>
                  <a:pt x="858" y="750"/>
                </a:cubicBezTo>
                <a:cubicBezTo>
                  <a:pt x="866" y="767"/>
                  <a:pt x="891" y="768"/>
                  <a:pt x="906" y="780"/>
                </a:cubicBezTo>
                <a:cubicBezTo>
                  <a:pt x="914" y="786"/>
                  <a:pt x="916" y="798"/>
                  <a:pt x="924" y="804"/>
                </a:cubicBezTo>
                <a:cubicBezTo>
                  <a:pt x="935" y="811"/>
                  <a:pt x="960" y="816"/>
                  <a:pt x="960" y="816"/>
                </a:cubicBezTo>
                <a:cubicBezTo>
                  <a:pt x="976" y="812"/>
                  <a:pt x="994" y="812"/>
                  <a:pt x="1008" y="804"/>
                </a:cubicBezTo>
                <a:cubicBezTo>
                  <a:pt x="1032" y="791"/>
                  <a:pt x="1042" y="737"/>
                  <a:pt x="1050" y="714"/>
                </a:cubicBezTo>
                <a:cubicBezTo>
                  <a:pt x="1045" y="525"/>
                  <a:pt x="1101" y="445"/>
                  <a:pt x="930" y="426"/>
                </a:cubicBezTo>
                <a:cubicBezTo>
                  <a:pt x="812" y="441"/>
                  <a:pt x="843" y="417"/>
                  <a:pt x="816" y="498"/>
                </a:cubicBezTo>
                <a:cubicBezTo>
                  <a:pt x="813" y="508"/>
                  <a:pt x="808" y="518"/>
                  <a:pt x="804" y="528"/>
                </a:cubicBezTo>
                <a:cubicBezTo>
                  <a:pt x="810" y="688"/>
                  <a:pt x="775" y="693"/>
                  <a:pt x="912" y="720"/>
                </a:cubicBezTo>
                <a:cubicBezTo>
                  <a:pt x="939" y="716"/>
                  <a:pt x="1057" y="726"/>
                  <a:pt x="1086" y="672"/>
                </a:cubicBezTo>
                <a:cubicBezTo>
                  <a:pt x="1109" y="628"/>
                  <a:pt x="1140" y="534"/>
                  <a:pt x="1140" y="534"/>
                </a:cubicBezTo>
                <a:cubicBezTo>
                  <a:pt x="1143" y="490"/>
                  <a:pt x="1168" y="371"/>
                  <a:pt x="1122" y="336"/>
                </a:cubicBezTo>
                <a:cubicBezTo>
                  <a:pt x="1107" y="325"/>
                  <a:pt x="1085" y="326"/>
                  <a:pt x="1068" y="318"/>
                </a:cubicBezTo>
                <a:cubicBezTo>
                  <a:pt x="1049" y="310"/>
                  <a:pt x="1034" y="292"/>
                  <a:pt x="1014" y="288"/>
                </a:cubicBezTo>
                <a:cubicBezTo>
                  <a:pt x="937" y="273"/>
                  <a:pt x="858" y="281"/>
                  <a:pt x="780" y="276"/>
                </a:cubicBezTo>
                <a:cubicBezTo>
                  <a:pt x="680" y="281"/>
                  <a:pt x="566" y="254"/>
                  <a:pt x="480" y="306"/>
                </a:cubicBezTo>
                <a:cubicBezTo>
                  <a:pt x="449" y="325"/>
                  <a:pt x="432" y="363"/>
                  <a:pt x="402" y="384"/>
                </a:cubicBezTo>
                <a:cubicBezTo>
                  <a:pt x="387" y="466"/>
                  <a:pt x="382" y="529"/>
                  <a:pt x="396" y="612"/>
                </a:cubicBezTo>
                <a:cubicBezTo>
                  <a:pt x="399" y="628"/>
                  <a:pt x="396" y="648"/>
                  <a:pt x="408" y="660"/>
                </a:cubicBezTo>
                <a:cubicBezTo>
                  <a:pt x="421" y="673"/>
                  <a:pt x="491" y="697"/>
                  <a:pt x="516" y="702"/>
                </a:cubicBezTo>
                <a:cubicBezTo>
                  <a:pt x="563" y="671"/>
                  <a:pt x="518" y="618"/>
                  <a:pt x="474" y="618"/>
                </a:cubicBezTo>
              </a:path>
            </a:pathLst>
          </a:custGeom>
          <a:noFill/>
          <a:ln w="255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procedure of new ‘fastNLO Toolkit’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08720" y="1305000"/>
            <a:ext cx="2625840" cy="287280"/>
          </a:xfrm>
          <a:prstGeom prst="rect">
            <a:avLst/>
          </a:prstGeom>
          <a:noFill/>
          <a:ln w="19080">
            <a:solidFill>
              <a:srgbClr val="990000"/>
            </a:solidFill>
            <a:miter/>
          </a:ln>
        </p:spPr>
        <p:txBody>
          <a:bodyPr lIns="0" rIns="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nitialize fastNLO class(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7760" y="1413000"/>
            <a:ext cx="1585800" cy="3070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9999"/>
                </a:solidFill>
                <a:latin typeface="Arial"/>
              </a:rPr>
              <a:t>(N)NLO Pro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66560" y="3249360"/>
            <a:ext cx="0" cy="360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82920" y="1268280"/>
            <a:ext cx="4235400" cy="39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41" y="12355"/>
                </a:moveTo>
                <a:lnTo>
                  <a:pt x="-389" y="6221"/>
                </a:lnTo>
              </a:path>
              <a:path w="21600" h="21600">
                <a:moveTo>
                  <a:pt x="-389" y="0"/>
                </a:moveTo>
                <a:lnTo>
                  <a:pt x="-389" y="21600"/>
                </a:lnTo>
              </a:path>
            </a:pathLst>
          </a:custGeom>
          <a:noFill/>
          <a:ln w="28440">
            <a:solidFill>
              <a:srgbClr val="99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astNLOCreate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fnlo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„steering.str“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rderOfCalculation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order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76440" y="2187720"/>
            <a:ext cx="401976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63" y="94269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ProcessID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int id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82920" y="2960640"/>
            <a:ext cx="4019400" cy="22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251" y="5353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Weight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w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2920" y="2529000"/>
            <a:ext cx="4019400" cy="32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061" y="38753"/>
                </a:moveTo>
                <a:lnTo>
                  <a:pt x="-409" y="7624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1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Event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X2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x2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82920" y="3286080"/>
            <a:ext cx="4140000" cy="3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48" y="17204"/>
                </a:moveTo>
                <a:lnTo>
                  <a:pt x="-398" y="6881"/>
                </a:lnTo>
              </a:path>
              <a:path w="21600" h="21600">
                <a:moveTo>
                  <a:pt x="-398" y="0"/>
                </a:moveTo>
                <a:lnTo>
                  <a:pt x="-398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ervable0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pt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fScenari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ObsScale1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s1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68520" y="3968640"/>
            <a:ext cx="4019760" cy="22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04" y="27617"/>
                </a:moveTo>
                <a:lnTo>
                  <a:pt x="-409" y="11109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Fill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65280" y="4581360"/>
            <a:ext cx="4019760" cy="36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574" y="17033"/>
                </a:moveTo>
                <a:lnTo>
                  <a:pt x="-409" y="6851"/>
                </a:lnTo>
              </a:path>
              <a:path w="21600" h="21600">
                <a:moveTo>
                  <a:pt x="-409" y="0"/>
                </a:moveTo>
                <a:lnTo>
                  <a:pt x="-409" y="21600"/>
                </a:lnTo>
              </a:path>
            </a:pathLst>
          </a:custGeom>
          <a:noFill/>
          <a:ln w="28440">
            <a:solidFill>
              <a:srgbClr val="ff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SetNumberOfEvents</a:t>
            </a: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(double nevents);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Consolas"/>
              </a:rPr>
              <a:t>fnlo.</a:t>
            </a: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WriteTable(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rot="16200000">
            <a:off x="-388800" y="3241440"/>
            <a:ext cx="134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ahoma"/>
              </a:rPr>
              <a:t>MC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62200" y="155736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63520" y="887400"/>
            <a:ext cx="11988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89800" y="5140440"/>
            <a:ext cx="11394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Program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62200" y="5398920"/>
            <a:ext cx="0" cy="324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760" y="5729400"/>
            <a:ext cx="129852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(N)NLO 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382920" y="4976640"/>
            <a:ext cx="0" cy="746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695680" y="5727600"/>
            <a:ext cx="1371600" cy="23976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cc0000"/>
                </a:solidFill>
                <a:latin typeface="Arial"/>
              </a:rPr>
              <a:t>fastNLO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10160" y="4581360"/>
            <a:ext cx="2625840" cy="505080"/>
          </a:xfrm>
          <a:prstGeom prst="rect">
            <a:avLst/>
          </a:pr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et normalization of the MC integration and writ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408720" y="2168640"/>
            <a:ext cx="2625840" cy="151272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88000"/>
          </a:bodyPr>
          <a:p>
            <a:pPr marL="75240" indent="-7524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t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specific variables during the ‘event loop’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der does not ma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98800" indent="-11448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other convenient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620064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venient implementation of fastNLO into an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)NLO program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10160" y="3933720"/>
            <a:ext cx="2625840" cy="289080"/>
          </a:xfrm>
          <a:prstGeom prst="rect">
            <a:avLst/>
          </a:pr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38000"/>
          </a:bodyPr>
          <a:p>
            <a:pPr marL="32400" indent="-3240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ss all information to fastN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400" indent="-324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0160" y="5337000"/>
            <a:ext cx="2625840" cy="505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 fontScale="96000"/>
          </a:bodyPr>
          <a:p>
            <a:pPr marL="82080" indent="-820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mum implementation: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1 lines of c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8C5C-1086-4544-923D-21F1FD14609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ew developments for fastNLO toolki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) Creation of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tand-alone c++ libra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hird party packages nee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ally: Only 11 lines of code necessa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pending on (N)NLO program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implementations poss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s are specified in steering 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nning (also double- or triple- differential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 optim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ching of interpolation valu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matic optimization of grids to phase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parton combinations for different sub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fied in ste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red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8320" y="1088640"/>
            <a:ext cx="4316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) fastNLO table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rther contributions are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W corrections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ombinations are stored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age of uncertainties soon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EDPDFs or p-Pb collisions also forse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) Evaluating fastNLO t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nterface in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rout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HAPDF5, LHAPDF6, Hoppet, QCDNUM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ALPHAS, CRunDec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Improved speed for flexible-scale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 of 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Arial"/>
              </a:rPr>
              <a:t> valu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(even) faster re-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5589720"/>
            <a:ext cx="3925800" cy="115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FastNLO example code in c++ for reading CMS inc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Consolas"/>
              </a:rPr>
              <a:t>// jets (PRL 107 (2011) 132001) with CT10 PDF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astNLOLHAPDF fnlo("fnl1014.tab","CT10.LHgrid",0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nsolas"/>
              </a:rPr>
              <a:t>fnlo.PrintCrossSections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2180-2FBE-48FA-96EE-B7E0DC33391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otivation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15560"/>
            <a:ext cx="8785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(almost) same cross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servables, binning, phase space given by experiment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 for a specific analysi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, MSTW, NNPDF, 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and/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times NLO predictions can be computed fa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jet cross sections, VB+jets, Drell-Yan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fastNLO (in use by most PDF fitting grou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B0BB-A7A6-4CD6-8A9F-33E0752A43E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ummary and Outlook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enables fast re-evalution of perturbative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enient for scale or PDF studies (e.g. uncertaint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tool for phenomenological analysis (e.g.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fi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-independent concept successfully applied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s applicable to a wide range of processes and corre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tool: ‘fastNLO toolkit’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s creation of tables and interface to other (N)NLO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y flexible co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few modifications in (N)NLO programs are needed (O(11) lines of co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de and manual is released soon after confer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interface available for reading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-release version of ‘fastNLO toolkit’ is available 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information: http://fastnlo.hepforge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093080" y="189000"/>
            <a:ext cx="1871640" cy="38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F088-3758-4E5E-9590-C518656F025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5F6D-9FF7-43D8-B3D3-18BFAEB4521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pplication of flexible scale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lusive jet production in DI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wo scales are stored in tab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the j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y function of the two can be used as scal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8320" y="836640"/>
            <a:ext cx="431640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 can be varied seperate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ose for scale stu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Q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 code shows 5% change in cross section w.r.t. to scale factor of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scale choices also shown without scale facto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rcRect l="0" t="0" r="33548" b="66634"/>
          <a:stretch/>
        </p:blipFill>
        <p:spPr>
          <a:xfrm>
            <a:off x="971640" y="3470400"/>
            <a:ext cx="6696000" cy="3054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636720" cy="9316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E712-8488-487C-B072-850EE4B5EEB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sic working principle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ross section in hadron-hadron collisions in pQ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ny cross section calculations are time consuming (e.g. je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trong coupling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in order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DFs of two hadr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f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arton flavor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a,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erturbative coefficent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a,b,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normalization and factorization scales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omentum fra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826920" y="1484280"/>
                <a:ext cx="65167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431640" y="4653000"/>
            <a:ext cx="8209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5624640"/>
            <a:ext cx="8497800" cy="36036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 fontScale="95000"/>
          </a:bodyPr>
          <a:p>
            <a:pPr marL="81360" indent="-8136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dea: factorize PDF, </a:t>
            </a:r>
            <a:r>
              <a:rPr b="1" i="1" lang="de-DE" sz="1800" spc="-1" strike="noStrike">
                <a:solidFill>
                  <a:srgbClr val="333399"/>
                </a:solidFill>
                <a:latin typeface="Times New Roman"/>
              </a:rPr>
              <a:t>α</a:t>
            </a:r>
            <a:r>
              <a:rPr b="1" i="1" lang="de-DE" sz="1800" spc="-1" strike="noStrike" baseline="-25000">
                <a:solidFill>
                  <a:srgbClr val="333399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and scale dependen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470560" y="257652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2"/>
                </a:moveTo>
                <a:lnTo>
                  <a:pt x="316" y="22"/>
                </a:lnTo>
                <a:lnTo>
                  <a:pt x="319" y="23"/>
                </a:lnTo>
                <a:lnTo>
                  <a:pt x="320" y="24"/>
                </a:lnTo>
                <a:lnTo>
                  <a:pt x="321" y="25"/>
                </a:lnTo>
                <a:lnTo>
                  <a:pt x="322" y="27"/>
                </a:lnTo>
                <a:lnTo>
                  <a:pt x="321" y="28"/>
                </a:lnTo>
                <a:lnTo>
                  <a:pt x="320" y="30"/>
                </a:lnTo>
                <a:lnTo>
                  <a:pt x="319" y="30"/>
                </a:lnTo>
                <a:lnTo>
                  <a:pt x="31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5120" y="237492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1"/>
                </a:lnTo>
                <a:lnTo>
                  <a:pt x="238" y="2"/>
                </a:lnTo>
                <a:lnTo>
                  <a:pt x="225" y="3"/>
                </a:lnTo>
                <a:lnTo>
                  <a:pt x="211" y="5"/>
                </a:lnTo>
                <a:lnTo>
                  <a:pt x="198" y="7"/>
                </a:lnTo>
                <a:lnTo>
                  <a:pt x="185" y="10"/>
                </a:lnTo>
                <a:lnTo>
                  <a:pt x="172" y="12"/>
                </a:lnTo>
                <a:lnTo>
                  <a:pt x="159" y="15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0"/>
                </a:lnTo>
                <a:lnTo>
                  <a:pt x="82" y="45"/>
                </a:lnTo>
                <a:lnTo>
                  <a:pt x="74" y="50"/>
                </a:lnTo>
                <a:lnTo>
                  <a:pt x="65" y="55"/>
                </a:lnTo>
                <a:lnTo>
                  <a:pt x="56" y="62"/>
                </a:lnTo>
                <a:lnTo>
                  <a:pt x="49" y="67"/>
                </a:lnTo>
                <a:lnTo>
                  <a:pt x="41" y="74"/>
                </a:lnTo>
                <a:lnTo>
                  <a:pt x="35" y="80"/>
                </a:lnTo>
                <a:lnTo>
                  <a:pt x="28" y="87"/>
                </a:lnTo>
                <a:lnTo>
                  <a:pt x="23" y="93"/>
                </a:lnTo>
                <a:lnTo>
                  <a:pt x="17" y="101"/>
                </a:lnTo>
                <a:lnTo>
                  <a:pt x="13" y="107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5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4"/>
                </a:lnTo>
                <a:lnTo>
                  <a:pt x="9" y="192"/>
                </a:lnTo>
                <a:lnTo>
                  <a:pt x="13" y="199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1"/>
                </a:lnTo>
                <a:lnTo>
                  <a:pt x="74" y="257"/>
                </a:lnTo>
                <a:lnTo>
                  <a:pt x="82" y="262"/>
                </a:lnTo>
                <a:lnTo>
                  <a:pt x="92" y="267"/>
                </a:lnTo>
                <a:lnTo>
                  <a:pt x="103" y="272"/>
                </a:lnTo>
                <a:lnTo>
                  <a:pt x="114" y="276"/>
                </a:lnTo>
                <a:lnTo>
                  <a:pt x="125" y="281"/>
                </a:lnTo>
                <a:lnTo>
                  <a:pt x="135" y="285"/>
                </a:lnTo>
                <a:lnTo>
                  <a:pt x="147" y="288"/>
                </a:lnTo>
                <a:lnTo>
                  <a:pt x="159" y="292"/>
                </a:lnTo>
                <a:lnTo>
                  <a:pt x="172" y="295"/>
                </a:lnTo>
                <a:lnTo>
                  <a:pt x="185" y="298"/>
                </a:lnTo>
                <a:lnTo>
                  <a:pt x="198" y="300"/>
                </a:lnTo>
                <a:lnTo>
                  <a:pt x="211" y="302"/>
                </a:lnTo>
                <a:lnTo>
                  <a:pt x="225" y="303"/>
                </a:lnTo>
                <a:lnTo>
                  <a:pt x="238" y="306"/>
                </a:lnTo>
                <a:lnTo>
                  <a:pt x="252" y="307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7"/>
                </a:lnTo>
                <a:lnTo>
                  <a:pt x="325" y="306"/>
                </a:lnTo>
                <a:lnTo>
                  <a:pt x="338" y="303"/>
                </a:lnTo>
                <a:lnTo>
                  <a:pt x="352" y="302"/>
                </a:lnTo>
                <a:lnTo>
                  <a:pt x="365" y="300"/>
                </a:lnTo>
                <a:lnTo>
                  <a:pt x="378" y="298"/>
                </a:lnTo>
                <a:lnTo>
                  <a:pt x="391" y="295"/>
                </a:lnTo>
                <a:lnTo>
                  <a:pt x="404" y="292"/>
                </a:lnTo>
                <a:lnTo>
                  <a:pt x="416" y="288"/>
                </a:lnTo>
                <a:lnTo>
                  <a:pt x="428" y="285"/>
                </a:lnTo>
                <a:lnTo>
                  <a:pt x="439" y="281"/>
                </a:lnTo>
                <a:lnTo>
                  <a:pt x="451" y="276"/>
                </a:lnTo>
                <a:lnTo>
                  <a:pt x="460" y="272"/>
                </a:lnTo>
                <a:lnTo>
                  <a:pt x="471" y="267"/>
                </a:lnTo>
                <a:lnTo>
                  <a:pt x="481" y="262"/>
                </a:lnTo>
                <a:lnTo>
                  <a:pt x="490" y="257"/>
                </a:lnTo>
                <a:lnTo>
                  <a:pt x="500" y="251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199"/>
                </a:lnTo>
                <a:lnTo>
                  <a:pt x="555" y="192"/>
                </a:lnTo>
                <a:lnTo>
                  <a:pt x="558" y="184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5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7"/>
                </a:lnTo>
                <a:lnTo>
                  <a:pt x="546" y="101"/>
                </a:lnTo>
                <a:lnTo>
                  <a:pt x="542" y="93"/>
                </a:lnTo>
                <a:lnTo>
                  <a:pt x="535" y="87"/>
                </a:lnTo>
                <a:lnTo>
                  <a:pt x="530" y="80"/>
                </a:lnTo>
                <a:lnTo>
                  <a:pt x="522" y="74"/>
                </a:lnTo>
                <a:lnTo>
                  <a:pt x="516" y="67"/>
                </a:lnTo>
                <a:lnTo>
                  <a:pt x="507" y="62"/>
                </a:lnTo>
                <a:lnTo>
                  <a:pt x="500" y="55"/>
                </a:lnTo>
                <a:lnTo>
                  <a:pt x="490" y="50"/>
                </a:lnTo>
                <a:lnTo>
                  <a:pt x="481" y="45"/>
                </a:lnTo>
                <a:lnTo>
                  <a:pt x="471" y="40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5"/>
                </a:lnTo>
                <a:lnTo>
                  <a:pt x="391" y="12"/>
                </a:lnTo>
                <a:lnTo>
                  <a:pt x="378" y="10"/>
                </a:lnTo>
                <a:lnTo>
                  <a:pt x="365" y="7"/>
                </a:lnTo>
                <a:lnTo>
                  <a:pt x="352" y="5"/>
                </a:lnTo>
                <a:lnTo>
                  <a:pt x="338" y="3"/>
                </a:lnTo>
                <a:lnTo>
                  <a:pt x="325" y="2"/>
                </a:lnTo>
                <a:lnTo>
                  <a:pt x="311" y="1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32520" y="257652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3"/>
                </a:moveTo>
                <a:lnTo>
                  <a:pt x="676" y="23"/>
                </a:lnTo>
                <a:lnTo>
                  <a:pt x="677" y="23"/>
                </a:lnTo>
                <a:lnTo>
                  <a:pt x="680" y="24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30"/>
                </a:lnTo>
                <a:lnTo>
                  <a:pt x="677" y="30"/>
                </a:lnTo>
                <a:lnTo>
                  <a:pt x="676" y="31"/>
                </a:lnTo>
                <a:lnTo>
                  <a:pt x="4" y="31"/>
                </a:lnTo>
                <a:lnTo>
                  <a:pt x="2" y="30"/>
                </a:lnTo>
                <a:lnTo>
                  <a:pt x="1" y="30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939000" y="237456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939000" y="261936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607080" y="2854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9" y="3"/>
                </a:moveTo>
                <a:lnTo>
                  <a:pt x="136" y="171"/>
                </a:lnTo>
                <a:lnTo>
                  <a:pt x="136" y="173"/>
                </a:lnTo>
                <a:lnTo>
                  <a:pt x="136" y="175"/>
                </a:lnTo>
                <a:lnTo>
                  <a:pt x="136" y="177"/>
                </a:lnTo>
                <a:lnTo>
                  <a:pt x="135" y="178"/>
                </a:lnTo>
                <a:lnTo>
                  <a:pt x="133" y="179"/>
                </a:lnTo>
                <a:lnTo>
                  <a:pt x="131" y="179"/>
                </a:lnTo>
                <a:lnTo>
                  <a:pt x="129" y="178"/>
                </a:lnTo>
                <a:lnTo>
                  <a:pt x="128" y="177"/>
                </a:lnTo>
                <a:lnTo>
                  <a:pt x="1" y="8"/>
                </a:lnTo>
                <a:lnTo>
                  <a:pt x="0" y="6"/>
                </a:lnTo>
                <a:lnTo>
                  <a:pt x="0" y="5"/>
                </a:lnTo>
                <a:lnTo>
                  <a:pt x="1" y="3"/>
                </a:lnTo>
                <a:lnTo>
                  <a:pt x="2" y="1"/>
                </a:lnTo>
                <a:lnTo>
                  <a:pt x="4" y="0"/>
                </a:lnTo>
                <a:lnTo>
                  <a:pt x="6" y="0"/>
                </a:lnTo>
                <a:lnTo>
                  <a:pt x="7" y="1"/>
                </a:lnTo>
                <a:lnTo>
                  <a:pt x="9" y="3"/>
                </a:lnTo>
                <a:lnTo>
                  <a:pt x="9" y="3"/>
                </a:lnTo>
                <a:close/>
                <a:moveTo>
                  <a:pt x="148" y="151"/>
                </a:moveTo>
                <a:lnTo>
                  <a:pt x="159" y="210"/>
                </a:lnTo>
                <a:lnTo>
                  <a:pt x="104" y="183"/>
                </a:lnTo>
                <a:lnTo>
                  <a:pt x="148" y="151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3181320"/>
            <a:ext cx="488880" cy="487440"/>
          </a:xfrm>
          <a:custGeom>
            <a:avLst/>
            <a:gdLst/>
            <a:ahLst/>
            <a:rect l="l" t="t" r="r" b="b"/>
            <a:pathLst>
              <a:path w="308" h="307">
                <a:moveTo>
                  <a:pt x="154" y="0"/>
                </a:moveTo>
                <a:lnTo>
                  <a:pt x="146" y="0"/>
                </a:lnTo>
                <a:lnTo>
                  <a:pt x="138" y="1"/>
                </a:lnTo>
                <a:lnTo>
                  <a:pt x="131" y="1"/>
                </a:lnTo>
                <a:lnTo>
                  <a:pt x="123" y="3"/>
                </a:lnTo>
                <a:lnTo>
                  <a:pt x="115" y="4"/>
                </a:lnTo>
                <a:lnTo>
                  <a:pt x="109" y="7"/>
                </a:lnTo>
                <a:lnTo>
                  <a:pt x="101" y="9"/>
                </a:lnTo>
                <a:lnTo>
                  <a:pt x="95" y="12"/>
                </a:lnTo>
                <a:lnTo>
                  <a:pt x="87" y="15"/>
                </a:lnTo>
                <a:lnTo>
                  <a:pt x="81" y="18"/>
                </a:lnTo>
                <a:lnTo>
                  <a:pt x="74" y="22"/>
                </a:lnTo>
                <a:lnTo>
                  <a:pt x="69" y="26"/>
                </a:lnTo>
                <a:lnTo>
                  <a:pt x="62" y="30"/>
                </a:lnTo>
                <a:lnTo>
                  <a:pt x="57" y="35"/>
                </a:lnTo>
                <a:lnTo>
                  <a:pt x="46" y="44"/>
                </a:lnTo>
                <a:lnTo>
                  <a:pt x="36" y="55"/>
                </a:lnTo>
                <a:lnTo>
                  <a:pt x="31" y="62"/>
                </a:lnTo>
                <a:lnTo>
                  <a:pt x="26" y="67"/>
                </a:lnTo>
                <a:lnTo>
                  <a:pt x="23" y="74"/>
                </a:lnTo>
                <a:lnTo>
                  <a:pt x="19" y="80"/>
                </a:lnTo>
                <a:lnTo>
                  <a:pt x="16" y="87"/>
                </a:lnTo>
                <a:lnTo>
                  <a:pt x="12" y="93"/>
                </a:lnTo>
                <a:lnTo>
                  <a:pt x="10" y="101"/>
                </a:lnTo>
                <a:lnTo>
                  <a:pt x="8" y="107"/>
                </a:lnTo>
                <a:lnTo>
                  <a:pt x="6" y="115"/>
                </a:lnTo>
                <a:lnTo>
                  <a:pt x="4" y="122"/>
                </a:lnTo>
                <a:lnTo>
                  <a:pt x="3" y="130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61"/>
                </a:lnTo>
                <a:lnTo>
                  <a:pt x="2" y="169"/>
                </a:lnTo>
                <a:lnTo>
                  <a:pt x="3" y="177"/>
                </a:lnTo>
                <a:lnTo>
                  <a:pt x="4" y="184"/>
                </a:lnTo>
                <a:lnTo>
                  <a:pt x="6" y="192"/>
                </a:lnTo>
                <a:lnTo>
                  <a:pt x="8" y="198"/>
                </a:lnTo>
                <a:lnTo>
                  <a:pt x="10" y="206"/>
                </a:lnTo>
                <a:lnTo>
                  <a:pt x="12" y="212"/>
                </a:lnTo>
                <a:lnTo>
                  <a:pt x="16" y="220"/>
                </a:lnTo>
                <a:lnTo>
                  <a:pt x="19" y="226"/>
                </a:lnTo>
                <a:lnTo>
                  <a:pt x="23" y="233"/>
                </a:lnTo>
                <a:lnTo>
                  <a:pt x="26" y="239"/>
                </a:lnTo>
                <a:lnTo>
                  <a:pt x="31" y="245"/>
                </a:lnTo>
                <a:lnTo>
                  <a:pt x="36" y="250"/>
                </a:lnTo>
                <a:lnTo>
                  <a:pt x="46" y="261"/>
                </a:lnTo>
                <a:lnTo>
                  <a:pt x="57" y="272"/>
                </a:lnTo>
                <a:lnTo>
                  <a:pt x="62" y="276"/>
                </a:lnTo>
                <a:lnTo>
                  <a:pt x="69" y="281"/>
                </a:lnTo>
                <a:lnTo>
                  <a:pt x="74" y="284"/>
                </a:lnTo>
                <a:lnTo>
                  <a:pt x="81" y="288"/>
                </a:lnTo>
                <a:lnTo>
                  <a:pt x="87" y="291"/>
                </a:lnTo>
                <a:lnTo>
                  <a:pt x="95" y="295"/>
                </a:lnTo>
                <a:lnTo>
                  <a:pt x="101" y="297"/>
                </a:lnTo>
                <a:lnTo>
                  <a:pt x="109" y="300"/>
                </a:lnTo>
                <a:lnTo>
                  <a:pt x="115" y="302"/>
                </a:lnTo>
                <a:lnTo>
                  <a:pt x="123" y="303"/>
                </a:lnTo>
                <a:lnTo>
                  <a:pt x="131" y="304"/>
                </a:lnTo>
                <a:lnTo>
                  <a:pt x="138" y="305"/>
                </a:lnTo>
                <a:lnTo>
                  <a:pt x="146" y="307"/>
                </a:lnTo>
                <a:lnTo>
                  <a:pt x="154" y="307"/>
                </a:lnTo>
                <a:lnTo>
                  <a:pt x="162" y="307"/>
                </a:lnTo>
                <a:lnTo>
                  <a:pt x="170" y="305"/>
                </a:lnTo>
                <a:lnTo>
                  <a:pt x="177" y="304"/>
                </a:lnTo>
                <a:lnTo>
                  <a:pt x="185" y="303"/>
                </a:lnTo>
                <a:lnTo>
                  <a:pt x="192" y="302"/>
                </a:lnTo>
                <a:lnTo>
                  <a:pt x="200" y="300"/>
                </a:lnTo>
                <a:lnTo>
                  <a:pt x="206" y="297"/>
                </a:lnTo>
                <a:lnTo>
                  <a:pt x="214" y="295"/>
                </a:lnTo>
                <a:lnTo>
                  <a:pt x="220" y="291"/>
                </a:lnTo>
                <a:lnTo>
                  <a:pt x="227" y="288"/>
                </a:lnTo>
                <a:lnTo>
                  <a:pt x="233" y="284"/>
                </a:lnTo>
                <a:lnTo>
                  <a:pt x="240" y="281"/>
                </a:lnTo>
                <a:lnTo>
                  <a:pt x="247" y="276"/>
                </a:lnTo>
                <a:lnTo>
                  <a:pt x="252" y="272"/>
                </a:lnTo>
                <a:lnTo>
                  <a:pt x="263" y="261"/>
                </a:lnTo>
                <a:lnTo>
                  <a:pt x="273" y="250"/>
                </a:lnTo>
                <a:lnTo>
                  <a:pt x="277" y="245"/>
                </a:lnTo>
                <a:lnTo>
                  <a:pt x="281" y="239"/>
                </a:lnTo>
                <a:lnTo>
                  <a:pt x="286" y="233"/>
                </a:lnTo>
                <a:lnTo>
                  <a:pt x="289" y="226"/>
                </a:lnTo>
                <a:lnTo>
                  <a:pt x="293" y="220"/>
                </a:lnTo>
                <a:lnTo>
                  <a:pt x="295" y="212"/>
                </a:lnTo>
                <a:lnTo>
                  <a:pt x="299" y="206"/>
                </a:lnTo>
                <a:lnTo>
                  <a:pt x="301" y="198"/>
                </a:lnTo>
                <a:lnTo>
                  <a:pt x="303" y="192"/>
                </a:lnTo>
                <a:lnTo>
                  <a:pt x="305" y="184"/>
                </a:lnTo>
                <a:lnTo>
                  <a:pt x="306" y="177"/>
                </a:lnTo>
                <a:lnTo>
                  <a:pt x="307" y="169"/>
                </a:lnTo>
                <a:lnTo>
                  <a:pt x="307" y="161"/>
                </a:lnTo>
                <a:lnTo>
                  <a:pt x="308" y="153"/>
                </a:lnTo>
                <a:lnTo>
                  <a:pt x="307" y="145"/>
                </a:lnTo>
                <a:lnTo>
                  <a:pt x="307" y="138"/>
                </a:lnTo>
                <a:lnTo>
                  <a:pt x="306" y="130"/>
                </a:lnTo>
                <a:lnTo>
                  <a:pt x="305" y="122"/>
                </a:lnTo>
                <a:lnTo>
                  <a:pt x="303" y="115"/>
                </a:lnTo>
                <a:lnTo>
                  <a:pt x="301" y="107"/>
                </a:lnTo>
                <a:lnTo>
                  <a:pt x="299" y="101"/>
                </a:lnTo>
                <a:lnTo>
                  <a:pt x="295" y="93"/>
                </a:lnTo>
                <a:lnTo>
                  <a:pt x="293" y="87"/>
                </a:lnTo>
                <a:lnTo>
                  <a:pt x="289" y="80"/>
                </a:lnTo>
                <a:lnTo>
                  <a:pt x="286" y="74"/>
                </a:lnTo>
                <a:lnTo>
                  <a:pt x="281" y="67"/>
                </a:lnTo>
                <a:lnTo>
                  <a:pt x="277" y="62"/>
                </a:lnTo>
                <a:lnTo>
                  <a:pt x="273" y="55"/>
                </a:lnTo>
                <a:lnTo>
                  <a:pt x="263" y="44"/>
                </a:lnTo>
                <a:lnTo>
                  <a:pt x="252" y="35"/>
                </a:lnTo>
                <a:lnTo>
                  <a:pt x="247" y="30"/>
                </a:lnTo>
                <a:lnTo>
                  <a:pt x="240" y="26"/>
                </a:lnTo>
                <a:lnTo>
                  <a:pt x="233" y="22"/>
                </a:lnTo>
                <a:lnTo>
                  <a:pt x="227" y="18"/>
                </a:lnTo>
                <a:lnTo>
                  <a:pt x="220" y="15"/>
                </a:lnTo>
                <a:lnTo>
                  <a:pt x="214" y="12"/>
                </a:lnTo>
                <a:lnTo>
                  <a:pt x="206" y="9"/>
                </a:lnTo>
                <a:lnTo>
                  <a:pt x="200" y="7"/>
                </a:lnTo>
                <a:lnTo>
                  <a:pt x="192" y="4"/>
                </a:lnTo>
                <a:lnTo>
                  <a:pt x="185" y="3"/>
                </a:lnTo>
                <a:lnTo>
                  <a:pt x="177" y="1"/>
                </a:lnTo>
                <a:lnTo>
                  <a:pt x="170" y="1"/>
                </a:lnTo>
                <a:lnTo>
                  <a:pt x="162" y="0"/>
                </a:lnTo>
                <a:lnTo>
                  <a:pt x="154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02640" y="3236760"/>
            <a:ext cx="1407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37560" y="3249720"/>
            <a:ext cx="10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000000"/>
                </a:solidFill>
                <a:latin typeface="Times New Roman"/>
              </a:rPr>
              <a:t>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70560" y="4199040"/>
            <a:ext cx="574560" cy="85680"/>
          </a:xfrm>
          <a:custGeom>
            <a:avLst/>
            <a:gdLst/>
            <a:ahLst/>
            <a:rect l="l" t="t" r="r" b="b"/>
            <a:pathLst>
              <a:path w="362" h="54">
                <a:moveTo>
                  <a:pt x="4" y="23"/>
                </a:moveTo>
                <a:lnTo>
                  <a:pt x="316" y="23"/>
                </a:lnTo>
                <a:lnTo>
                  <a:pt x="319" y="23"/>
                </a:lnTo>
                <a:lnTo>
                  <a:pt x="320" y="24"/>
                </a:lnTo>
                <a:lnTo>
                  <a:pt x="321" y="26"/>
                </a:lnTo>
                <a:lnTo>
                  <a:pt x="322" y="27"/>
                </a:lnTo>
                <a:lnTo>
                  <a:pt x="321" y="29"/>
                </a:lnTo>
                <a:lnTo>
                  <a:pt x="320" y="30"/>
                </a:lnTo>
                <a:lnTo>
                  <a:pt x="319" y="31"/>
                </a:lnTo>
                <a:lnTo>
                  <a:pt x="316" y="33"/>
                </a:lnTo>
                <a:lnTo>
                  <a:pt x="4" y="33"/>
                </a:lnTo>
                <a:lnTo>
                  <a:pt x="2" y="31"/>
                </a:lnTo>
                <a:lnTo>
                  <a:pt x="1" y="30"/>
                </a:lnTo>
                <a:lnTo>
                  <a:pt x="0" y="29"/>
                </a:lnTo>
                <a:lnTo>
                  <a:pt x="0" y="27"/>
                </a:lnTo>
                <a:lnTo>
                  <a:pt x="0" y="26"/>
                </a:lnTo>
                <a:lnTo>
                  <a:pt x="1" y="24"/>
                </a:lnTo>
                <a:lnTo>
                  <a:pt x="2" y="23"/>
                </a:lnTo>
                <a:lnTo>
                  <a:pt x="4" y="23"/>
                </a:lnTo>
                <a:lnTo>
                  <a:pt x="4" y="23"/>
                </a:lnTo>
                <a:close/>
                <a:moveTo>
                  <a:pt x="308" y="0"/>
                </a:moveTo>
                <a:lnTo>
                  <a:pt x="362" y="27"/>
                </a:lnTo>
                <a:lnTo>
                  <a:pt x="308" y="54"/>
                </a:lnTo>
                <a:lnTo>
                  <a:pt x="30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45120" y="3998880"/>
            <a:ext cx="893880" cy="487440"/>
          </a:xfrm>
          <a:custGeom>
            <a:avLst/>
            <a:gdLst/>
            <a:ahLst/>
            <a:rect l="l" t="t" r="r" b="b"/>
            <a:pathLst>
              <a:path w="563" h="307">
                <a:moveTo>
                  <a:pt x="282" y="0"/>
                </a:moveTo>
                <a:lnTo>
                  <a:pt x="268" y="0"/>
                </a:lnTo>
                <a:lnTo>
                  <a:pt x="252" y="2"/>
                </a:lnTo>
                <a:lnTo>
                  <a:pt x="238" y="2"/>
                </a:lnTo>
                <a:lnTo>
                  <a:pt x="225" y="4"/>
                </a:lnTo>
                <a:lnTo>
                  <a:pt x="211" y="5"/>
                </a:lnTo>
                <a:lnTo>
                  <a:pt x="198" y="7"/>
                </a:lnTo>
                <a:lnTo>
                  <a:pt x="185" y="9"/>
                </a:lnTo>
                <a:lnTo>
                  <a:pt x="172" y="12"/>
                </a:lnTo>
                <a:lnTo>
                  <a:pt x="159" y="16"/>
                </a:lnTo>
                <a:lnTo>
                  <a:pt x="147" y="19"/>
                </a:lnTo>
                <a:lnTo>
                  <a:pt x="135" y="22"/>
                </a:lnTo>
                <a:lnTo>
                  <a:pt x="125" y="26"/>
                </a:lnTo>
                <a:lnTo>
                  <a:pt x="114" y="31"/>
                </a:lnTo>
                <a:lnTo>
                  <a:pt x="103" y="35"/>
                </a:lnTo>
                <a:lnTo>
                  <a:pt x="92" y="41"/>
                </a:lnTo>
                <a:lnTo>
                  <a:pt x="82" y="45"/>
                </a:lnTo>
                <a:lnTo>
                  <a:pt x="74" y="50"/>
                </a:lnTo>
                <a:lnTo>
                  <a:pt x="65" y="56"/>
                </a:lnTo>
                <a:lnTo>
                  <a:pt x="56" y="62"/>
                </a:lnTo>
                <a:lnTo>
                  <a:pt x="49" y="68"/>
                </a:lnTo>
                <a:lnTo>
                  <a:pt x="41" y="74"/>
                </a:lnTo>
                <a:lnTo>
                  <a:pt x="35" y="81"/>
                </a:lnTo>
                <a:lnTo>
                  <a:pt x="28" y="87"/>
                </a:lnTo>
                <a:lnTo>
                  <a:pt x="23" y="94"/>
                </a:lnTo>
                <a:lnTo>
                  <a:pt x="17" y="101"/>
                </a:lnTo>
                <a:lnTo>
                  <a:pt x="13" y="108"/>
                </a:lnTo>
                <a:lnTo>
                  <a:pt x="9" y="115"/>
                </a:lnTo>
                <a:lnTo>
                  <a:pt x="6" y="123"/>
                </a:lnTo>
                <a:lnTo>
                  <a:pt x="3" y="130"/>
                </a:lnTo>
                <a:lnTo>
                  <a:pt x="2" y="138"/>
                </a:lnTo>
                <a:lnTo>
                  <a:pt x="1" y="146"/>
                </a:lnTo>
                <a:lnTo>
                  <a:pt x="0" y="154"/>
                </a:lnTo>
                <a:lnTo>
                  <a:pt x="1" y="162"/>
                </a:lnTo>
                <a:lnTo>
                  <a:pt x="2" y="169"/>
                </a:lnTo>
                <a:lnTo>
                  <a:pt x="3" y="177"/>
                </a:lnTo>
                <a:lnTo>
                  <a:pt x="6" y="185"/>
                </a:lnTo>
                <a:lnTo>
                  <a:pt x="9" y="192"/>
                </a:lnTo>
                <a:lnTo>
                  <a:pt x="13" y="200"/>
                </a:lnTo>
                <a:lnTo>
                  <a:pt x="17" y="206"/>
                </a:lnTo>
                <a:lnTo>
                  <a:pt x="23" y="214"/>
                </a:lnTo>
                <a:lnTo>
                  <a:pt x="28" y="220"/>
                </a:lnTo>
                <a:lnTo>
                  <a:pt x="35" y="227"/>
                </a:lnTo>
                <a:lnTo>
                  <a:pt x="41" y="233"/>
                </a:lnTo>
                <a:lnTo>
                  <a:pt x="49" y="240"/>
                </a:lnTo>
                <a:lnTo>
                  <a:pt x="56" y="245"/>
                </a:lnTo>
                <a:lnTo>
                  <a:pt x="65" y="252"/>
                </a:lnTo>
                <a:lnTo>
                  <a:pt x="74" y="257"/>
                </a:lnTo>
                <a:lnTo>
                  <a:pt x="82" y="263"/>
                </a:lnTo>
                <a:lnTo>
                  <a:pt x="92" y="267"/>
                </a:lnTo>
                <a:lnTo>
                  <a:pt x="103" y="272"/>
                </a:lnTo>
                <a:lnTo>
                  <a:pt x="114" y="277"/>
                </a:lnTo>
                <a:lnTo>
                  <a:pt x="125" y="281"/>
                </a:lnTo>
                <a:lnTo>
                  <a:pt x="135" y="285"/>
                </a:lnTo>
                <a:lnTo>
                  <a:pt x="147" y="289"/>
                </a:lnTo>
                <a:lnTo>
                  <a:pt x="159" y="292"/>
                </a:lnTo>
                <a:lnTo>
                  <a:pt x="172" y="295"/>
                </a:lnTo>
                <a:lnTo>
                  <a:pt x="185" y="297"/>
                </a:lnTo>
                <a:lnTo>
                  <a:pt x="198" y="300"/>
                </a:lnTo>
                <a:lnTo>
                  <a:pt x="211" y="303"/>
                </a:lnTo>
                <a:lnTo>
                  <a:pt x="225" y="304"/>
                </a:lnTo>
                <a:lnTo>
                  <a:pt x="238" y="305"/>
                </a:lnTo>
                <a:lnTo>
                  <a:pt x="252" y="306"/>
                </a:lnTo>
                <a:lnTo>
                  <a:pt x="268" y="307"/>
                </a:lnTo>
                <a:lnTo>
                  <a:pt x="282" y="307"/>
                </a:lnTo>
                <a:lnTo>
                  <a:pt x="296" y="307"/>
                </a:lnTo>
                <a:lnTo>
                  <a:pt x="311" y="306"/>
                </a:lnTo>
                <a:lnTo>
                  <a:pt x="325" y="305"/>
                </a:lnTo>
                <a:lnTo>
                  <a:pt x="338" y="304"/>
                </a:lnTo>
                <a:lnTo>
                  <a:pt x="352" y="303"/>
                </a:lnTo>
                <a:lnTo>
                  <a:pt x="365" y="300"/>
                </a:lnTo>
                <a:lnTo>
                  <a:pt x="378" y="297"/>
                </a:lnTo>
                <a:lnTo>
                  <a:pt x="391" y="295"/>
                </a:lnTo>
                <a:lnTo>
                  <a:pt x="404" y="292"/>
                </a:lnTo>
                <a:lnTo>
                  <a:pt x="416" y="289"/>
                </a:lnTo>
                <a:lnTo>
                  <a:pt x="428" y="285"/>
                </a:lnTo>
                <a:lnTo>
                  <a:pt x="439" y="281"/>
                </a:lnTo>
                <a:lnTo>
                  <a:pt x="451" y="277"/>
                </a:lnTo>
                <a:lnTo>
                  <a:pt x="460" y="272"/>
                </a:lnTo>
                <a:lnTo>
                  <a:pt x="471" y="267"/>
                </a:lnTo>
                <a:lnTo>
                  <a:pt x="481" y="263"/>
                </a:lnTo>
                <a:lnTo>
                  <a:pt x="490" y="257"/>
                </a:lnTo>
                <a:lnTo>
                  <a:pt x="500" y="252"/>
                </a:lnTo>
                <a:lnTo>
                  <a:pt x="507" y="245"/>
                </a:lnTo>
                <a:lnTo>
                  <a:pt x="516" y="240"/>
                </a:lnTo>
                <a:lnTo>
                  <a:pt x="522" y="233"/>
                </a:lnTo>
                <a:lnTo>
                  <a:pt x="530" y="227"/>
                </a:lnTo>
                <a:lnTo>
                  <a:pt x="535" y="220"/>
                </a:lnTo>
                <a:lnTo>
                  <a:pt x="542" y="214"/>
                </a:lnTo>
                <a:lnTo>
                  <a:pt x="546" y="206"/>
                </a:lnTo>
                <a:lnTo>
                  <a:pt x="550" y="200"/>
                </a:lnTo>
                <a:lnTo>
                  <a:pt x="555" y="192"/>
                </a:lnTo>
                <a:lnTo>
                  <a:pt x="558" y="185"/>
                </a:lnTo>
                <a:lnTo>
                  <a:pt x="560" y="177"/>
                </a:lnTo>
                <a:lnTo>
                  <a:pt x="562" y="169"/>
                </a:lnTo>
                <a:lnTo>
                  <a:pt x="563" y="162"/>
                </a:lnTo>
                <a:lnTo>
                  <a:pt x="563" y="154"/>
                </a:lnTo>
                <a:lnTo>
                  <a:pt x="563" y="146"/>
                </a:lnTo>
                <a:lnTo>
                  <a:pt x="562" y="138"/>
                </a:lnTo>
                <a:lnTo>
                  <a:pt x="560" y="130"/>
                </a:lnTo>
                <a:lnTo>
                  <a:pt x="558" y="123"/>
                </a:lnTo>
                <a:lnTo>
                  <a:pt x="555" y="115"/>
                </a:lnTo>
                <a:lnTo>
                  <a:pt x="550" y="108"/>
                </a:lnTo>
                <a:lnTo>
                  <a:pt x="546" y="101"/>
                </a:lnTo>
                <a:lnTo>
                  <a:pt x="542" y="94"/>
                </a:lnTo>
                <a:lnTo>
                  <a:pt x="535" y="87"/>
                </a:lnTo>
                <a:lnTo>
                  <a:pt x="530" y="81"/>
                </a:lnTo>
                <a:lnTo>
                  <a:pt x="522" y="74"/>
                </a:lnTo>
                <a:lnTo>
                  <a:pt x="516" y="68"/>
                </a:lnTo>
                <a:lnTo>
                  <a:pt x="507" y="62"/>
                </a:lnTo>
                <a:lnTo>
                  <a:pt x="500" y="56"/>
                </a:lnTo>
                <a:lnTo>
                  <a:pt x="490" y="50"/>
                </a:lnTo>
                <a:lnTo>
                  <a:pt x="481" y="45"/>
                </a:lnTo>
                <a:lnTo>
                  <a:pt x="471" y="41"/>
                </a:lnTo>
                <a:lnTo>
                  <a:pt x="460" y="35"/>
                </a:lnTo>
                <a:lnTo>
                  <a:pt x="451" y="31"/>
                </a:lnTo>
                <a:lnTo>
                  <a:pt x="439" y="26"/>
                </a:lnTo>
                <a:lnTo>
                  <a:pt x="428" y="22"/>
                </a:lnTo>
                <a:lnTo>
                  <a:pt x="416" y="19"/>
                </a:lnTo>
                <a:lnTo>
                  <a:pt x="404" y="16"/>
                </a:lnTo>
                <a:lnTo>
                  <a:pt x="391" y="12"/>
                </a:lnTo>
                <a:lnTo>
                  <a:pt x="378" y="9"/>
                </a:lnTo>
                <a:lnTo>
                  <a:pt x="365" y="7"/>
                </a:lnTo>
                <a:lnTo>
                  <a:pt x="352" y="5"/>
                </a:lnTo>
                <a:lnTo>
                  <a:pt x="338" y="4"/>
                </a:lnTo>
                <a:lnTo>
                  <a:pt x="325" y="2"/>
                </a:lnTo>
                <a:lnTo>
                  <a:pt x="311" y="2"/>
                </a:lnTo>
                <a:lnTo>
                  <a:pt x="296" y="0"/>
                </a:lnTo>
                <a:lnTo>
                  <a:pt x="282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99280" y="412596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932520" y="4200480"/>
            <a:ext cx="1146240" cy="85680"/>
          </a:xfrm>
          <a:custGeom>
            <a:avLst/>
            <a:gdLst/>
            <a:ahLst/>
            <a:rect l="l" t="t" r="r" b="b"/>
            <a:pathLst>
              <a:path w="722" h="54">
                <a:moveTo>
                  <a:pt x="4" y="22"/>
                </a:moveTo>
                <a:lnTo>
                  <a:pt x="676" y="22"/>
                </a:lnTo>
                <a:lnTo>
                  <a:pt x="677" y="23"/>
                </a:lnTo>
                <a:lnTo>
                  <a:pt x="680" y="23"/>
                </a:lnTo>
                <a:lnTo>
                  <a:pt x="681" y="25"/>
                </a:lnTo>
                <a:lnTo>
                  <a:pt x="681" y="27"/>
                </a:lnTo>
                <a:lnTo>
                  <a:pt x="681" y="28"/>
                </a:lnTo>
                <a:lnTo>
                  <a:pt x="680" y="29"/>
                </a:lnTo>
                <a:lnTo>
                  <a:pt x="677" y="30"/>
                </a:lnTo>
                <a:lnTo>
                  <a:pt x="676" y="32"/>
                </a:lnTo>
                <a:lnTo>
                  <a:pt x="4" y="32"/>
                </a:lnTo>
                <a:lnTo>
                  <a:pt x="2" y="30"/>
                </a:lnTo>
                <a:lnTo>
                  <a:pt x="1" y="29"/>
                </a:lnTo>
                <a:lnTo>
                  <a:pt x="0" y="28"/>
                </a:lnTo>
                <a:lnTo>
                  <a:pt x="0" y="27"/>
                </a:lnTo>
                <a:lnTo>
                  <a:pt x="0" y="25"/>
                </a:lnTo>
                <a:lnTo>
                  <a:pt x="1" y="23"/>
                </a:lnTo>
                <a:lnTo>
                  <a:pt x="2" y="23"/>
                </a:lnTo>
                <a:lnTo>
                  <a:pt x="4" y="22"/>
                </a:lnTo>
                <a:lnTo>
                  <a:pt x="4" y="22"/>
                </a:lnTo>
                <a:close/>
                <a:moveTo>
                  <a:pt x="668" y="0"/>
                </a:moveTo>
                <a:lnTo>
                  <a:pt x="722" y="27"/>
                </a:lnTo>
                <a:lnTo>
                  <a:pt x="668" y="54"/>
                </a:lnTo>
                <a:lnTo>
                  <a:pt x="668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939000" y="3998520"/>
            <a:ext cx="1058760" cy="244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39000" y="4243320"/>
            <a:ext cx="1058760" cy="243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01080" y="3166920"/>
            <a:ext cx="633240" cy="182880"/>
          </a:xfrm>
          <a:custGeom>
            <a:avLst/>
            <a:gdLst/>
            <a:ahLst/>
            <a:rect l="l" t="t" r="r" b="b"/>
            <a:pathLst>
              <a:path w="399" h="115">
                <a:moveTo>
                  <a:pt x="3" y="107"/>
                </a:moveTo>
                <a:lnTo>
                  <a:pt x="353" y="20"/>
                </a:lnTo>
                <a:lnTo>
                  <a:pt x="356" y="20"/>
                </a:lnTo>
                <a:lnTo>
                  <a:pt x="357" y="20"/>
                </a:lnTo>
                <a:lnTo>
                  <a:pt x="359" y="21"/>
                </a:lnTo>
                <a:lnTo>
                  <a:pt x="359" y="23"/>
                </a:lnTo>
                <a:lnTo>
                  <a:pt x="359" y="24"/>
                </a:lnTo>
                <a:lnTo>
                  <a:pt x="359" y="26"/>
                </a:lnTo>
                <a:lnTo>
                  <a:pt x="358" y="27"/>
                </a:lnTo>
                <a:lnTo>
                  <a:pt x="356" y="29"/>
                </a:lnTo>
                <a:lnTo>
                  <a:pt x="6" y="115"/>
                </a:lnTo>
                <a:lnTo>
                  <a:pt x="5" y="115"/>
                </a:lnTo>
                <a:lnTo>
                  <a:pt x="2" y="114"/>
                </a:lnTo>
                <a:lnTo>
                  <a:pt x="1" y="113"/>
                </a:lnTo>
                <a:lnTo>
                  <a:pt x="0" y="112"/>
                </a:lnTo>
                <a:lnTo>
                  <a:pt x="0" y="110"/>
                </a:lnTo>
                <a:lnTo>
                  <a:pt x="1" y="108"/>
                </a:lnTo>
                <a:lnTo>
                  <a:pt x="2" y="107"/>
                </a:lnTo>
                <a:lnTo>
                  <a:pt x="3" y="107"/>
                </a:lnTo>
                <a:lnTo>
                  <a:pt x="3" y="107"/>
                </a:lnTo>
                <a:close/>
                <a:moveTo>
                  <a:pt x="339" y="0"/>
                </a:moveTo>
                <a:lnTo>
                  <a:pt x="399" y="13"/>
                </a:lnTo>
                <a:lnTo>
                  <a:pt x="352" y="52"/>
                </a:lnTo>
                <a:lnTo>
                  <a:pt x="339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191360" y="3506760"/>
            <a:ext cx="642960" cy="189000"/>
          </a:xfrm>
          <a:custGeom>
            <a:avLst/>
            <a:gdLst/>
            <a:ahLst/>
            <a:rect l="l" t="t" r="r" b="b"/>
            <a:pathLst>
              <a:path w="405" h="119">
                <a:moveTo>
                  <a:pt x="5" y="1"/>
                </a:moveTo>
                <a:lnTo>
                  <a:pt x="363" y="91"/>
                </a:lnTo>
                <a:lnTo>
                  <a:pt x="364" y="92"/>
                </a:lnTo>
                <a:lnTo>
                  <a:pt x="365" y="93"/>
                </a:lnTo>
                <a:lnTo>
                  <a:pt x="366" y="94"/>
                </a:lnTo>
                <a:lnTo>
                  <a:pt x="366" y="96"/>
                </a:lnTo>
                <a:lnTo>
                  <a:pt x="365" y="98"/>
                </a:lnTo>
                <a:lnTo>
                  <a:pt x="363" y="99"/>
                </a:lnTo>
                <a:lnTo>
                  <a:pt x="362" y="99"/>
                </a:lnTo>
                <a:lnTo>
                  <a:pt x="359" y="99"/>
                </a:lnTo>
                <a:lnTo>
                  <a:pt x="3" y="9"/>
                </a:lnTo>
                <a:lnTo>
                  <a:pt x="1" y="8"/>
                </a:lnTo>
                <a:lnTo>
                  <a:pt x="0" y="7"/>
                </a:lnTo>
                <a:lnTo>
                  <a:pt x="0" y="5"/>
                </a:lnTo>
                <a:lnTo>
                  <a:pt x="0" y="4"/>
                </a:lnTo>
                <a:lnTo>
                  <a:pt x="1" y="2"/>
                </a:lnTo>
                <a:lnTo>
                  <a:pt x="2" y="1"/>
                </a:lnTo>
                <a:lnTo>
                  <a:pt x="3" y="0"/>
                </a:lnTo>
                <a:lnTo>
                  <a:pt x="5" y="1"/>
                </a:lnTo>
                <a:lnTo>
                  <a:pt x="5" y="1"/>
                </a:lnTo>
                <a:close/>
                <a:moveTo>
                  <a:pt x="359" y="67"/>
                </a:moveTo>
                <a:lnTo>
                  <a:pt x="405" y="106"/>
                </a:lnTo>
                <a:lnTo>
                  <a:pt x="345" y="119"/>
                </a:lnTo>
                <a:lnTo>
                  <a:pt x="359" y="6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219800" y="3424320"/>
            <a:ext cx="758880" cy="15840"/>
          </a:xfrm>
          <a:custGeom>
            <a:avLst/>
            <a:gdLst/>
            <a:ahLst/>
            <a:rect l="l" t="t" r="r" b="b"/>
            <a:pathLst>
              <a:path w="478" h="10">
                <a:moveTo>
                  <a:pt x="0" y="0"/>
                </a:moveTo>
                <a:lnTo>
                  <a:pt x="36" y="0"/>
                </a:lnTo>
                <a:lnTo>
                  <a:pt x="36" y="10"/>
                </a:lnTo>
                <a:lnTo>
                  <a:pt x="0" y="10"/>
                </a:lnTo>
                <a:lnTo>
                  <a:pt x="0" y="0"/>
                </a:lnTo>
                <a:close/>
                <a:moveTo>
                  <a:pt x="63" y="0"/>
                </a:moveTo>
                <a:lnTo>
                  <a:pt x="99" y="0"/>
                </a:lnTo>
                <a:lnTo>
                  <a:pt x="99" y="10"/>
                </a:lnTo>
                <a:lnTo>
                  <a:pt x="63" y="10"/>
                </a:lnTo>
                <a:lnTo>
                  <a:pt x="63" y="0"/>
                </a:lnTo>
                <a:close/>
                <a:moveTo>
                  <a:pt x="126" y="0"/>
                </a:moveTo>
                <a:lnTo>
                  <a:pt x="163" y="0"/>
                </a:lnTo>
                <a:lnTo>
                  <a:pt x="163" y="10"/>
                </a:lnTo>
                <a:lnTo>
                  <a:pt x="126" y="10"/>
                </a:lnTo>
                <a:lnTo>
                  <a:pt x="126" y="0"/>
                </a:lnTo>
                <a:close/>
                <a:moveTo>
                  <a:pt x="190" y="0"/>
                </a:moveTo>
                <a:lnTo>
                  <a:pt x="226" y="0"/>
                </a:lnTo>
                <a:lnTo>
                  <a:pt x="226" y="10"/>
                </a:lnTo>
                <a:lnTo>
                  <a:pt x="190" y="10"/>
                </a:lnTo>
                <a:lnTo>
                  <a:pt x="190" y="0"/>
                </a:lnTo>
                <a:close/>
                <a:moveTo>
                  <a:pt x="253" y="0"/>
                </a:moveTo>
                <a:lnTo>
                  <a:pt x="288" y="0"/>
                </a:lnTo>
                <a:lnTo>
                  <a:pt x="288" y="10"/>
                </a:lnTo>
                <a:lnTo>
                  <a:pt x="253" y="10"/>
                </a:lnTo>
                <a:lnTo>
                  <a:pt x="253" y="0"/>
                </a:lnTo>
                <a:close/>
                <a:moveTo>
                  <a:pt x="315" y="0"/>
                </a:moveTo>
                <a:lnTo>
                  <a:pt x="352" y="0"/>
                </a:lnTo>
                <a:lnTo>
                  <a:pt x="352" y="10"/>
                </a:lnTo>
                <a:lnTo>
                  <a:pt x="315" y="10"/>
                </a:lnTo>
                <a:lnTo>
                  <a:pt x="315" y="0"/>
                </a:lnTo>
                <a:close/>
                <a:moveTo>
                  <a:pt x="379" y="0"/>
                </a:moveTo>
                <a:lnTo>
                  <a:pt x="415" y="0"/>
                </a:lnTo>
                <a:lnTo>
                  <a:pt x="415" y="10"/>
                </a:lnTo>
                <a:lnTo>
                  <a:pt x="379" y="10"/>
                </a:lnTo>
                <a:lnTo>
                  <a:pt x="379" y="0"/>
                </a:lnTo>
                <a:close/>
                <a:moveTo>
                  <a:pt x="442" y="0"/>
                </a:moveTo>
                <a:lnTo>
                  <a:pt x="478" y="0"/>
                </a:lnTo>
                <a:lnTo>
                  <a:pt x="478" y="10"/>
                </a:lnTo>
                <a:lnTo>
                  <a:pt x="442" y="10"/>
                </a:lnTo>
                <a:lnTo>
                  <a:pt x="442" y="0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07080" y="3673440"/>
            <a:ext cx="252360" cy="333360"/>
          </a:xfrm>
          <a:custGeom>
            <a:avLst/>
            <a:gdLst/>
            <a:ahLst/>
            <a:rect l="l" t="t" r="r" b="b"/>
            <a:pathLst>
              <a:path w="159" h="210">
                <a:moveTo>
                  <a:pt x="1" y="202"/>
                </a:moveTo>
                <a:lnTo>
                  <a:pt x="128" y="33"/>
                </a:lnTo>
                <a:lnTo>
                  <a:pt x="129" y="32"/>
                </a:lnTo>
                <a:lnTo>
                  <a:pt x="131" y="31"/>
                </a:lnTo>
                <a:lnTo>
                  <a:pt x="133" y="32"/>
                </a:lnTo>
                <a:lnTo>
                  <a:pt x="135" y="32"/>
                </a:lnTo>
                <a:lnTo>
                  <a:pt x="136" y="33"/>
                </a:lnTo>
                <a:lnTo>
                  <a:pt x="136" y="35"/>
                </a:lnTo>
                <a:lnTo>
                  <a:pt x="136" y="38"/>
                </a:lnTo>
                <a:lnTo>
                  <a:pt x="136" y="39"/>
                </a:lnTo>
                <a:lnTo>
                  <a:pt x="9" y="208"/>
                </a:lnTo>
                <a:lnTo>
                  <a:pt x="7" y="209"/>
                </a:lnTo>
                <a:lnTo>
                  <a:pt x="6" y="210"/>
                </a:lnTo>
                <a:lnTo>
                  <a:pt x="4" y="210"/>
                </a:lnTo>
                <a:lnTo>
                  <a:pt x="2" y="209"/>
                </a:lnTo>
                <a:lnTo>
                  <a:pt x="1" y="208"/>
                </a:lnTo>
                <a:lnTo>
                  <a:pt x="0" y="205"/>
                </a:lnTo>
                <a:lnTo>
                  <a:pt x="0" y="204"/>
                </a:lnTo>
                <a:lnTo>
                  <a:pt x="1" y="202"/>
                </a:lnTo>
                <a:lnTo>
                  <a:pt x="1" y="202"/>
                </a:lnTo>
                <a:close/>
                <a:moveTo>
                  <a:pt x="104" y="27"/>
                </a:moveTo>
                <a:lnTo>
                  <a:pt x="159" y="0"/>
                </a:lnTo>
                <a:lnTo>
                  <a:pt x="148" y="59"/>
                </a:lnTo>
                <a:lnTo>
                  <a:pt x="104" y="2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99280" y="2478240"/>
            <a:ext cx="42552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de-DE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de-D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7F3D-C425-4A84-90F3-C0B06FD0E87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076720" y="3608280"/>
            <a:ext cx="3888000" cy="2121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327640" y="108900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Arial"/>
              </a:rPr>
              <a:t>The fastNLO concept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500544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et of n discrete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's being equidistant in a function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ake set of Eigenfunction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(x)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around nodes </a:t>
            </a:r>
            <a:r>
              <a:rPr b="0" i="1" lang="de-DE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de-DE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 interpolation procedure also for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nodes in x and scales are stored together in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wo different observables can be chosen as scale in one ta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008000" y="3608280"/>
                <a:ext cx="28083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324000" y="5877000"/>
            <a:ext cx="8497800" cy="649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nvolution integrals become discrete su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&gt; Values of perturbative coefficents can be stored in a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1B09-D036-4EB6-A933-AA8DD49CCC9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lculations with fastNLO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become more difficult in NNLO than in 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rent available implementations 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L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Renormal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variations applying R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LO matrix element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ln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(c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)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, APPLgrid 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(</a:t>
            </a:r>
            <a:r>
              <a:rPr b="0" i="1" lang="fr-FR" sz="1000" spc="-1" strike="noStrike">
                <a:solidFill>
                  <a:srgbClr val="808080"/>
                </a:solidFill>
                <a:latin typeface="Tahoma"/>
                <a:ea typeface="Arial"/>
              </a:rPr>
              <a:t>EPJ C (2010) 66: 503</a:t>
            </a:r>
            <a:r>
              <a:rPr b="0" i="1" lang="en-US" sz="1000" spc="-1" strike="noStrike">
                <a:solidFill>
                  <a:srgbClr val="808080"/>
                </a:solidFill>
                <a:latin typeface="Tahoma"/>
                <a:ea typeface="Arial"/>
              </a:rPr>
              <a:t>)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00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tore scale-independent weights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cc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Factoriza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cale vari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LO DGLAP splitting functions using HOPPET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APPLgrid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coefficients for desired scale factors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lexible-scale implementation </a:t>
            </a:r>
            <a:r>
              <a:rPr b="0" i="1" lang="en-US" sz="1200" spc="-1" strike="noStrike">
                <a:solidFill>
                  <a:srgbClr val="cc0000"/>
                </a:solidFill>
                <a:latin typeface="Tahoma"/>
                <a:ea typeface="Arial"/>
              </a:rPr>
              <a:t>[fastNLO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variations for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posteriori renormalization scale variations become more complic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LO splitting functions are needed for factorization scale vari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ulations become slow again =&gt; Not desired for fast repeated calc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456000" y="3033720"/>
                <a:ext cx="293040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90AD-8F52-492A-B3F3-178BD5E4764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lexible-scale implement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rage of scale-independent weights enable full scale flexibility also in N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tional logs in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re weights: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F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 w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R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order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+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ontrib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0">
              <a:spcBef>
                <a:spcPts val="224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varie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dependently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b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time-consuming ‘re-calculation’ of splitting functions in NLO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ly small increase in amount of stored coeffic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spcBef>
                <a:spcPts val="349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imple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ifferent observables can be used for the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,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e.g.: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|y|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y fun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os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wo observ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be used for calculating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0">
              <a:spcBef>
                <a:spcPts val="400"/>
              </a:spcBef>
              <a:buNone/>
              <a:tabLst>
                <a:tab algn="l" pos="6116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6093000"/>
            <a:ext cx="8750160" cy="3603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exible-scale concept‘: Best choice for performant NNLO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76360" y="1616040"/>
            <a:ext cx="7886160" cy="661320"/>
            <a:chOff x="576360" y="1616040"/>
            <a:chExt cx="7886160" cy="661320"/>
          </a:xfrm>
        </p:grpSpPr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576360" y="1616040"/>
                  <a:ext cx="7886160" cy="34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ω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R</m:t>
                          </m:r>
                        </m:sub>
                      </m:sSub>
                      <m:r>
                        <m:t xml:space="preserve">+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FF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R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(</m:t>
                      </m:r>
                      <m:sSubSup>
                        <m:e>
                          <m:r>
                            <m:t xml:space="preserve">μ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F</m:t>
                              </m:r>
                            </m:sub>
                          </m:sSub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)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R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1" name=""/>
            <p:cNvSpPr/>
            <p:nvPr/>
          </p:nvSpPr>
          <p:spPr>
            <a:xfrm>
              <a:off x="4246920" y="1976400"/>
              <a:ext cx="417888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937040" y="1940040"/>
              <a:ext cx="23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additional log’s in N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67520" y="1976400"/>
              <a:ext cx="2433600" cy="0"/>
            </a:xfrm>
            <a:prstGeom prst="line">
              <a:avLst/>
            </a:prstGeom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284200" y="1940040"/>
              <a:ext cx="238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log’s for NL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A57D-A7CB-49A4-9B3C-829EE6CE6EC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03640" y="1486080"/>
            <a:ext cx="4043520" cy="40431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0920" y="1125360"/>
            <a:ext cx="4932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 of flexible-scale concept to NNLO calc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to DiffTop cod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T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for calculation of heavy quark production within threshold resummation formalism in Mellin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alk by M.Gu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ttbar cross sections in approx. N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/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nefit in spe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calculation O(days-week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NLO calculation O(&lt;1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 facilitates study of PDF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586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ly including PDF uncertain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2 re-calculation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51640" y="3403440"/>
            <a:ext cx="16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alk by M. Guz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508720" y="5516640"/>
            <a:ext cx="36352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6600"/>
                </a:solidFill>
                <a:latin typeface="Arial"/>
              </a:rPr>
              <a:t>786 repeated calculations needed including variation of </a:t>
            </a:r>
            <a:r>
              <a:rPr b="1" i="1" lang="en-US" sz="1600" spc="-1" strike="noStrike">
                <a:solidFill>
                  <a:srgbClr val="cc6600"/>
                </a:solidFill>
                <a:latin typeface="Times New Roman"/>
              </a:rPr>
              <a:t>m</a:t>
            </a:r>
            <a:r>
              <a:rPr b="1" i="1" lang="en-US" sz="1600" spc="-1" strike="noStrike" baseline="-25000">
                <a:solidFill>
                  <a:srgbClr val="cc66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2FF6-4DBC-4937-9972-875A64C7C04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to differential ttbar cross sections in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rox. NNLO</a:t>
            </a:r>
            <a:endParaRPr b="1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088640"/>
            <a:ext cx="4788000" cy="53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out recalculating the coeffici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the scales within milliseco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so choice of the scales possi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re:  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r/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f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,y,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5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Variation of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a third hard scale in this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s not factorized in the current appro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-10944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eparate fastNLO tables have been computed for different values of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515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4600" indent="-846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ast recomputation of cross sections for a given measurement enables application of time-consuming (N)NLO calculations to PDF and/or </a:t>
            </a: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fi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6240" indent="-1288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arge gluon uncertainties at high-x can be reduced using ttbar cross sec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472000" y="981000"/>
            <a:ext cx="2987640" cy="298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472000" y="3871800"/>
            <a:ext cx="2986200" cy="29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00BA-D4F5-49A7-B73D-E495FFFD91C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2240" y="103320"/>
            <a:ext cx="875952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uracy of fastNLO interpolation in NNLO</a:t>
            </a:r>
            <a:endParaRPr b="1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8560" y="944280"/>
            <a:ext cx="525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cross sections calcuated with DiffTop standalone compared to fastNL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polation accuracy depends on number of nodes and on chosen interpolation ker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kernels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contribution order by order separ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robe x-range of 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 x &lt;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20560" indent="-110880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 x-range has more distinct PDF sh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stNLO/DiffTo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ect agreement within numerical precision reachable (O(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NLO has same accuracy as 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18 nodes agreement better than 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339840" indent="-13032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idental ‘interference effects’ with PDF grid may cause small fluctuations O(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399960" indent="-58680">
              <a:spcBef>
                <a:spcPts val="349"/>
              </a:spcBef>
              <a:buClr>
                <a:srgbClr val="ff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&gt; Numerical uncertainty of PDF gri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950080"/>
            <a:ext cx="5041800" cy="64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36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stNLO interpolation does not introduce numerical bi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726160" y="822240"/>
            <a:ext cx="3222720" cy="2774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701880"/>
            <a:ext cx="3224520" cy="277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16160" y="300528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16160" y="588492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MSTW2008nn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73B2-60D7-46A6-AB57-9D0B5F7CF57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une 20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5-02-17T12:22:03Z</dcterms:modified>
  <cp:revision>667</cp:revision>
  <dc:subject/>
  <dc:title>My Unfolding</dc:title>
</cp:coreProperties>
</file>