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.png" ContentType="image/png"/>
  <Override PartName="/ppt/media/image26.wmf" ContentType="image/x-wmf"/>
  <Override PartName="/ppt/media/image3.wmf" ContentType="image/x-wmf"/>
  <Override PartName="/ppt/media/image3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46.wmf" ContentType="image/x-wmf"/>
  <Override PartName="/ppt/media/image36.wmf" ContentType="image/x-wmf"/>
  <Override PartName="/ppt/media/image37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7.wmf" ContentType="image/x-wmf"/>
  <Override PartName="/ppt/media/image44.wmf" ContentType="image/x-wmf"/>
  <Override PartName="/ppt/media/image45.wmf" ContentType="image/x-wmf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125460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BDFF-2AC2-419D-A791-1AA34D823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F1C-1317-4B2E-BD69-1FD5F2EE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5EA-4A9D-4907-AE3B-11F4B2F8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3E4-191F-4421-A828-06C99959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804-59A5-480C-9525-325743B7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C530-CD91-4319-A539-8C6867C8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8B93-27EC-492B-9563-885D0490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9D89-0D3F-4297-BD25-E1966E3D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43920"/>
            <a:ext cx="820728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87F-47E6-4079-AE4F-39743785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7218-9164-41EA-AEBB-4E83FD45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AF71-6A52-447D-8D6E-6DB4D8D8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2569-8065-4187-BD40-8B3DFB9D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-176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174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0360" y="6597360"/>
            <a:ext cx="374328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2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5CFC-F75F-4159-B68C-0CBA0286A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41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astNLO Collaboration</a:t>
            </a:r>
            <a:br>
              <a:rPr sz="2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iel Britz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omas Kluge, Klaus Rabbertz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d Stober, Markus Wobis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SY, Liverpool, KIT, KIT, Louisiana Te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32000" y="1052640"/>
            <a:ext cx="5478480" cy="1117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446520" y="1452600"/>
            <a:ext cx="8575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00"/>
                </a:solidFill>
                <a:latin typeface="Arial"/>
              </a:rPr>
              <a:t>v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17280" y="4651200"/>
            <a:ext cx="174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CD@LHC 201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gust 23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rcRect l="0" t="13232" r="47436" b="3628"/>
          <a:stretch/>
        </p:blipFill>
        <p:spPr>
          <a:xfrm>
            <a:off x="3995640" y="537372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table format in fastNLO 2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4176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fores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xed orders (LO, NLO, NNLO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reshold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-loop for inclusive jets avail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lectroweak cor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w physics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rrection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-perturbative cor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 correlated and uncorrelated uncertain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relation matr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version tool for v1.4 t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0" y="1341360"/>
            <a:ext cx="4362480" cy="4464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162560" y="1179360"/>
            <a:ext cx="183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CMS Note-2011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ABB9-6DF8-4077-86D4-9DB9A04AD9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flexibility in fastNLO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844200"/>
            <a:ext cx="82296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beyond LO have scale depende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0764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cale dependen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actoriz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187280" y="2332080"/>
                <a:ext cx="59565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187280" y="1197000"/>
                <a:ext cx="3961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∝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rn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O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95280" y="393228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rbitrary valu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or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unc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unctions of multiple variab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.g.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y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scale can be chosen to be any function of bo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68280" y="467820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f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68360" y="573408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an be functions of multiple observ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699080" y="4713120"/>
                <a:ext cx="334620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g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m>
                      <m:mr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or</m:t>
                          </m:r>
                        </m:e>
                        <m:e>
                          <m:r>
                            <m:t xml:space="preserve">μ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  <m:r>
                                <m:t xml:space="preserve">y</m:t>
                              </m:r>
                            </m:sup>
                          </m:sSup>
                        </m:e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468360" y="314172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individual sca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1D47-E02B-4944-BDC0-77C240E770E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Features for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3164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77040" indent="-770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ales can be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functions of multiple observ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for DIS je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observables are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cales can be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br>
              <a:rPr sz="1600"/>
            </a:b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0.8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0.3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+ 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7040" indent="-77040">
              <a:spcBef>
                <a:spcPts val="451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dependent scale variation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+ p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-24300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×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Q</a:t>
            </a:r>
            <a:r>
              <a:rPr b="0" lang="de-DE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13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9480" t="26236" r="27956" b="13622"/>
          <a:stretch/>
        </p:blipFill>
        <p:spPr>
          <a:xfrm>
            <a:off x="4788000" y="981000"/>
            <a:ext cx="424800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rot="20744400">
            <a:off x="6958800" y="4580640"/>
            <a:ext cx="1942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2335800">
            <a:off x="4430880" y="4263840"/>
            <a:ext cx="1925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factor 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060440" y="1996920"/>
            <a:ext cx="105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[p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57340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ility for studies of scale 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431-7BD6-4D6B-B066-492CDF42907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490920" y="3924360"/>
            <a:ext cx="5616720" cy="195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92360" y="1862280"/>
            <a:ext cx="5616720" cy="1952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tudy: Scale studies for ATLAS Dije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j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2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9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 and y* (or 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,ma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y*) are stored as scale variables in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ormalization and factorization scales can b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any functi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 = f(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2060640"/>
            <a:ext cx="388764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y* is a fixed factor per y*-b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Differential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y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siblity to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var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arameter '0.3'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oul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y functions (e.g. co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e.g. find optimal sca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á la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AC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P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011240" y="2739960"/>
                <a:ext cx="234324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1114560" y="532440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95280" y="6014880"/>
            <a:ext cx="84247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ossiblites to study the best inclusion of y* into the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803-0CB8-4200-B4DE-2B5111D518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18600" y="6237360"/>
            <a:ext cx="23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fastNLO, arXiv:1109:13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8064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/Theory Comparision of Jet Cross 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360072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number of calculations are available at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astnlo.hepforge.or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inclusive je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@ RH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and ZEUS @ H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F and D0 @ Tevat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MS and ATLAS @ L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/theory compari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including threshold correc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(2-loop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635280" y="909720"/>
            <a:ext cx="5300640" cy="58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543-0FD8-4EAA-9317-20AAFD08E41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72007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-dependence of cross se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t production does not distinguish between quark flav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identify four subprocesses (qq, gg, gq, q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wo x-values: We stud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event contributes to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07640" y="3068640"/>
            <a:ext cx="33843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S inclusive je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PhysRevLett. 107.13200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=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0 &lt; |y| &lt;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33 &lt;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lt; 153 G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8518" t="29085" r="14845" b="7502"/>
          <a:stretch/>
        </p:blipFill>
        <p:spPr>
          <a:xfrm>
            <a:off x="2700360" y="2457360"/>
            <a:ext cx="6192720" cy="3203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5972040"/>
            <a:ext cx="8424720" cy="3708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ular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in in forward region probes two separated x-ra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230160" y="357192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g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5800" y="3932280"/>
            <a:ext cx="16682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qq -&gt;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qg -&gt; jets (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 &lt; x</a:t>
            </a:r>
            <a:r>
              <a:rPr b="1" lang="en-US" sz="1400" spc="-1" strike="noStrike" baseline="-25000">
                <a:solidFill>
                  <a:srgbClr val="66ff33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66ff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gq -&gt; jets (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g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 &gt; x</a:t>
            </a:r>
            <a:r>
              <a:rPr b="1" lang="en-US" sz="1400" spc="-1" strike="noStrike" baseline="-25000">
                <a:solidFill>
                  <a:srgbClr val="00ffff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287-B1B9-4D44-B5AA-7A4D1603E39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: 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5360" y="1196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435640" y="1352520"/>
            <a:ext cx="3529080" cy="2724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85760" y="1628640"/>
                <a:ext cx="5157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324000" y="3325680"/>
            <a:ext cx="53276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 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s 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9040" y="4964040"/>
                <a:ext cx="55339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CBD-AA81-40E6-A20A-06A6A13EBCC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1267920"/>
            <a:ext cx="78598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turbative coefficients have only dependence on momentum fra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26920" y="43920"/>
            <a:ext cx="7490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1410" b="0"/>
          <a:stretch/>
        </p:blipFill>
        <p:spPr>
          <a:xfrm>
            <a:off x="5133960" y="2206800"/>
            <a:ext cx="3759120" cy="3166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286240" y="4006800"/>
            <a:ext cx="3519720" cy="0"/>
          </a:xfrm>
          <a:prstGeom prst="line">
            <a:avLst/>
          </a:prstGeom>
          <a:ln w="507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05600" y="3344760"/>
            <a:ext cx="504720" cy="57636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1989000"/>
            <a:ext cx="475128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rect dependence of the two momentum fractions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ach slice calculates basically </a:t>
            </a:r>
            <a:r>
              <a:rPr b="0" lang="de-DE" sz="1800" spc="-1" strike="noStrike">
                <a:solidFill>
                  <a:srgbClr val="333399"/>
                </a:solidFill>
                <a:latin typeface="Arial"/>
              </a:rPr>
              <a:t>same coefficient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actorization is independent of incoming par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53640" y="3573360"/>
            <a:ext cx="331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μ</a:t>
            </a:r>
            <a:r>
              <a:rPr b="0" i="1" lang="de-DE" sz="1800" spc="-1" strike="noStrike" baseline="-25000">
                <a:solidFill>
                  <a:srgbClr val="ff0000"/>
                </a:solidFill>
                <a:latin typeface="Times New Roman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ion of only a single fastNLO table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4365720"/>
            <a:ext cx="47512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Integration a-posteri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ate one fastNLO table with hadron energy = proton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9EA-3EA9-42C6-91C4-8982AD606E8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429080" y="981000"/>
            <a:ext cx="4714920" cy="33861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43920"/>
            <a:ext cx="7775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s in diffractive DIS with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1054080"/>
            <a:ext cx="44640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Fixed center-of-mass calc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only one fastNLO table at proton energy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d number of x-nod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low-x 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Adapt the slicing meth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e arbitrary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lic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cross section by Rieman-integra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66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 over x wrt. 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733320" y="3933720"/>
                <a:ext cx="697716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190440" y="4941720"/>
            <a:ext cx="8352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l becomes a standard fastNLO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per integration interval needs to be respected proper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950080"/>
            <a:ext cx="81356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 procedure improves previously us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56DB-F51B-4943-AD7C-C5FF01C6E81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: Diffractive PDF 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ijet production in diffractive DIS (H1) </a:t>
            </a:r>
            <a:r>
              <a:rPr b="1" lang="de-DE" sz="1000" spc="-1" strike="noStrike">
                <a:solidFill>
                  <a:srgbClr val="ff9900"/>
                </a:solidFill>
                <a:latin typeface="Arial"/>
              </a:rPr>
              <a:t>EPJ C72 (2012) 1970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lculations available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Q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p*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ossibility to derive by restricting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gration inter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0000" indent="-1857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/d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fastNLO features acce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cale studies are easily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are various scale cho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face various D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62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rect access to k-fac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284720" y="836640"/>
            <a:ext cx="4859280" cy="4711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516640"/>
            <a:ext cx="8353440" cy="6998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ilitate inclusion of diffractive jets in DPDF 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Will help to constrain the gluon in diffractive PD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4A49-69AC-4E6D-8BFB-6F315A86B24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NLO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features of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d concept in fastNLO v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 of flexible scale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t production in diffractive D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o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3B7A-C836-47AE-9C9E-D6A627694EC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78920" y="909360"/>
            <a:ext cx="5545080" cy="53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de download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+ and Fortran code (No further dependenc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alculations available for all experimen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LAS, CMS, CDF, D0, H1, ZEUS, S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features in v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technical improv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ble format forsees different physics contribu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Flexible scale'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composition of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and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y ren./fact. scales independent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ale variations in any order without recalculations or integ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ractive jet production in D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concept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dy to use in DPDF f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084720" y="4765680"/>
            <a:ext cx="2159280" cy="2092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651640" y="3573360"/>
            <a:ext cx="3168360" cy="11001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896080" y="189000"/>
            <a:ext cx="301140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B1B6-EAE2-4146-B7EE-4A6BB003EA0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release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4608360" cy="2449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New release of C++ and fortran code within the next wee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ny new calcula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LHC, Tevatron, HERA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iffractive DIS code and tabl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5667480" y="2349360"/>
            <a:ext cx="3476520" cy="45086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851280" y="907920"/>
            <a:ext cx="4033800" cy="936720"/>
          </a:xfrm>
          <a:prstGeom prst="cloudCallout">
            <a:avLst>
              <a:gd name="adj1" fmla="val 25601"/>
              <a:gd name="adj2" fmla="val 13643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07920" y="119052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astnlo.hepforge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5ACC-62C3-428E-94A6-3C79783C581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00360" y="2997360"/>
            <a:ext cx="43923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http://www.msurebounders.com/images/sparty.gif"/>
          <p:cNvPicPr/>
          <p:nvPr/>
        </p:nvPicPr>
        <p:blipFill>
          <a:blip r:embed="rId1"/>
          <a:stretch/>
        </p:blipFill>
        <p:spPr>
          <a:xfrm>
            <a:off x="1258920" y="0"/>
            <a:ext cx="4199040" cy="544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1BA-96AA-477C-AC29-61592D8B518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Pr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48355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Parame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scale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Affect the interpolation pr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feature in v2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exible # x-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x-nodes chosen depending on x-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rison vs. 'plain' NLOJet++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bitrary precision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O(MB) tables, reach better than 1 per m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859280" y="1820880"/>
            <a:ext cx="4067280" cy="391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738920" y="30592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(10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-6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7451640" y="3203640"/>
            <a:ext cx="287280" cy="287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4560" y="3716280"/>
            <a:ext cx="2611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99ff"/>
                </a:solidFill>
                <a:latin typeface="Arial"/>
              </a:rPr>
              <a:t>Filled area shows maximum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olid line shows mean deviation of all b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85080" y="1484280"/>
            <a:ext cx="36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1 Incl. Jets @ High Q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24 bi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1FF8-90E7-429E-8A64-669BB22EA11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6372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cale studies with ATLAS Dijet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79200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 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LAS Dijet Invariant Mass Measurement, r=0.6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86 (2012) 014022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T and y* are stored as scale variables in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76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normalization and factorization scale can be any function of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y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4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0720" y="2544840"/>
            <a:ext cx="4643280" cy="33321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79280" y="2205000"/>
            <a:ext cx="424836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ity to study variations of ATLAS dijet scale cho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las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choose any parameter '0.3'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ould use different functions (e.g. cos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an e.g. find optimal scale (FAC,P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: fastNLO vs. plain NLOJet++ calculation with free choice of ren./fac.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120" indent="-295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cision ~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16000" y="3068640"/>
                <a:ext cx="24494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y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819C-C7A4-45B1-AA8C-2D38AA8A7F9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7817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zed fastNLO concept in v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8920" y="907560"/>
            <a:ext cx="4745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kn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can use variables from look-up tables for 'any' further calculation (like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α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  <a:ea typeface="Times New Roman"/>
              </a:rPr>
              <a:t>s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179280" y="2565000"/>
            <a:ext cx="4680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ale independent weigh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'log(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/Q)'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can be done at evalu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'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e 'freely' choosable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-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1400" spc="-1" strike="noStrike">
                <a:solidFill>
                  <a:srgbClr val="cc99ff"/>
                </a:solidFill>
                <a:latin typeface="Arial"/>
                <a:ea typeface="Times New Roman"/>
              </a:rPr>
              <a:t>μ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(Q,p</a:t>
            </a:r>
            <a:r>
              <a:rPr b="1" lang="en-US" sz="1400" spc="-1" strike="noStrike" baseline="-25000">
                <a:solidFill>
                  <a:srgbClr val="cc99ff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-83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store scale independent contrib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ree tables holding the we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8480" indent="-885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scale-variables -&gt;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σ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ijk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ed more dimen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3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345960" y="1314360"/>
                <a:ext cx="42973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acc>
                      <m:accPr>
                        <m:chr m:val="⃗"/>
                      </m:accPr>
                      <m:e>
                        <m:r>
                          <m:rPr>
                            <m:lit/>
                            <m:nor/>
                          </m:rPr>
                          <m:t xml:space="preserve">fastNLO</m:t>
                        </m:r>
                      </m:e>
                    </m:acc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σ</m:t>
                                    </m:r>
                                  </m:e>
                                </m:acc>
                              </m:e>
                            </m:nary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692760" y="98100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92760" y="141444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012000" y="141300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μ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70920" y="141444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70920" y="98100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72360" y="191772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22200" y="2930400"/>
                <a:ext cx="4176720" cy="6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)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620040" y="3141720"/>
            <a:ext cx="64908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F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92760" y="3575160"/>
            <a:ext cx="57636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70920" y="357516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dim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70920" y="3141720"/>
            <a:ext cx="147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33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im W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72360" y="407844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00760" y="3141720"/>
            <a:ext cx="64764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R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3120" y="3141720"/>
            <a:ext cx="576360" cy="370800"/>
          </a:xfrm>
          <a:prstGeom prst="rect">
            <a:avLst/>
          </a:prstGeom>
          <a:solidFill>
            <a:srgbClr val="a50021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0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72360" y="4581360"/>
            <a:ext cx="178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. ext.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43680" y="3573360"/>
            <a:ext cx="576360" cy="33732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Q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040" y="3573360"/>
            <a:ext cx="576000" cy="370800"/>
          </a:xfrm>
          <a:prstGeom prst="rect">
            <a:avLst/>
          </a:prstGeom>
          <a:solidFill>
            <a:srgbClr val="ff9933"/>
          </a:solidFill>
          <a:ln w="1908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249228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51360" y="5734080"/>
            <a:ext cx="8595000" cy="717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We can choose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ependently from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We can choose the functional form of </a:t>
            </a:r>
            <a:r>
              <a:rPr b="1" lang="el-GR" sz="1800" spc="-1" strike="noStrike">
                <a:solidFill>
                  <a:srgbClr val="cc99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cc99ff"/>
                </a:solidFill>
                <a:latin typeface="Arial"/>
              </a:rPr>
              <a:t>R/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s functions of </a:t>
            </a: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ook-up-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559116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87480" y="2635200"/>
            <a:ext cx="140148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in v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0364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465300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Q,p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56360" y="407664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α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56360" y="1916280"/>
            <a:ext cx="1079640" cy="360360"/>
          </a:xfrm>
          <a:prstGeom prst="roundRect">
            <a:avLst>
              <a:gd name="adj" fmla="val 50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(x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l-GR" sz="1800" spc="-1" strike="noStrike">
                <a:solidFill>
                  <a:srgbClr val="ffffff"/>
                </a:solidFill>
                <a:latin typeface="Arial"/>
              </a:rPr>
              <a:t>μ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863-991A-47BD-A81D-ECF639CA90AA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7804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5160" y="1052640"/>
            <a:ext cx="11059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5520" y="4856040"/>
            <a:ext cx="124452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55160" y="3860640"/>
            <a:ext cx="130860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093080" y="4869000"/>
            <a:ext cx="1871640" cy="52020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 use it within a fitting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907920"/>
            <a:ext cx="91440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84360" y="2930400"/>
            <a:ext cx="7524720" cy="1578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908000" y="1052640"/>
            <a:ext cx="5929560" cy="13032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2241720" y="5084640"/>
            <a:ext cx="5595840" cy="134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13E-886D-4F56-8720-D0CAA3E9890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7640" y="1123560"/>
            <a:ext cx="482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roduce n discrete x-nodes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 ..&lt; 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&lt;..&lt;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owest x-value in each 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-1724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s reasonable choice of discretization e.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ound each 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define n (cubic) Eigenfunction E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dron-hadron collision need two dimen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D-Eigen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30480" indent="-842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reduce to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076720" y="2349360"/>
            <a:ext cx="3600720" cy="2395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5580000" y="1125360"/>
            <a:ext cx="2808360" cy="12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2060640"/>
                <a:ext cx="20890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1187280" y="3141720"/>
                <a:ext cx="187200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    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i</m:t>
                                  </m:r>
                                  <m:r>
                                    <m:t xml:space="preserve">≠</m:t>
                                  </m:r>
                                  <m:r>
                                    <m:t xml:space="preserve">j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11280" y="488484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435640" y="4941720"/>
            <a:ext cx="3097080" cy="12798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46120" y="566100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D286-7034-4683-B495-C3DDA2E1F4E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572000" y="4149720"/>
            <a:ext cx="4427640" cy="241632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4681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atten PDFs by reweighting with simple functio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cho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high-x glu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 curvatures are reduced for all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of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-257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w(x)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bsorbed i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360" indent="-81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eigen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09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00000" y="5084640"/>
                <a:ext cx="30243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9325080" y="5157720"/>
            <a:ext cx="3095640" cy="11912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&gt; We only have to store a table of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396360" y="4221000"/>
            <a:ext cx="2879640" cy="641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&gt; More technical details: TeV4LHC Workshop 2005 (Talk: M. Wobis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ascaud, Zomer: 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168720" cy="3124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187280" y="1989000"/>
                <a:ext cx="2737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438-30C0-4916-A3A1-ECC1283C52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these definitions the cross section rea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express PDF linear combination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y the 2D-eigenfun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9560" indent="-79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write the cross se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826920" y="1557360"/>
                <a:ext cx="625032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55640" y="3116160"/>
                <a:ext cx="804852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nary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900000" y="4581360"/>
                <a:ext cx="748836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)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7</m:t>
                            </m:r>
                          </m:sup>
                          <m:e/>
                        </m:nary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1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  <m:sup>
                                            <m:r>
                                              <m:t xml:space="preserve">(</m:t>
                                            </m:r>
                                            <m:r>
                                              <m:t xml:space="preserve">j</m:t>
                                            </m:r>
                                            <m:r>
                                              <m:t xml:space="preserve">)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⋅</m:t>
                                </m:r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</m:nary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d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e>
                                </m:nary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Independent  of  PDFs  and  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lim>
                        </m:limLow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468360" y="5661000"/>
            <a:ext cx="820728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Integral is independent of PDF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837B-2BC5-445B-BB5A-98C371EC9A7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pretation of experimental data relies 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of reasonably fast theory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needed: Repeated computation of same quantit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for a specific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of various PDFs (CTEQ, MSTW, NNPDF, HERAPDF, ABM,…) for data/theory compa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PDF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ata set in fit of PDFs or 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ivation of scale uncertain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ion to different scale cho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metimes NLO or even NNLO predictions can be computed fas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some are very s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69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Jet cross sections, Drell-Yan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58960" y="5805360"/>
            <a:ext cx="7458120" cy="5814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rocedure for fast repeated computations of higher order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9B0B-37D6-410E-BAE6-E8E56CFB5A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turbative coefficients are scale depen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Fs and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ed to be evaluated at certain scale valu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e interpolation procedure also for sc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r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μ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roduc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scale nodes with dist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435640" y="2276640"/>
                <a:ext cx="255096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395280" y="2852640"/>
            <a:ext cx="835344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efficient table gets one additional dimension for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fin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and store it as 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B1D1-0546-4200-865C-F9FFF26E35D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ractive di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3059280" y="681120"/>
            <a:ext cx="2860560" cy="3252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940360" y="825480"/>
            <a:ext cx="2870280" cy="302436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324000" y="825480"/>
            <a:ext cx="2765160" cy="2951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4"/>
          <a:stretch/>
        </p:blipFill>
        <p:spPr>
          <a:xfrm>
            <a:off x="3059280" y="3772080"/>
            <a:ext cx="2879640" cy="27921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5"/>
          <a:stretch/>
        </p:blipFill>
        <p:spPr>
          <a:xfrm>
            <a:off x="6084720" y="3772080"/>
            <a:ext cx="2880000" cy="27921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6"/>
          <a:stretch/>
        </p:blipFill>
        <p:spPr>
          <a:xfrm>
            <a:off x="0" y="3772080"/>
            <a:ext cx="2987640" cy="28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856-672B-4136-8EBF-06C7F65A2AB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tproduction in diffractive 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5360" y="980640"/>
            <a:ext cx="8018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production in diffractive DIS (t=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2808360" cy="216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95280" y="1341360"/>
                <a:ext cx="47372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P</m:t>
                                </m:r>
                              </m:sub>
                            </m:sSub>
                          </m:e>
                        </m:nary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2852640"/>
            <a:ext cx="4752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ethod of calculating NLO cross sections:  'Slicing method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emann-Integration of d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retize th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ange into k bins (k~1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5560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eated cross section calculation for each slice of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value of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,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reduced center of mass energy of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qrt(s) = 4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ce-width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11280" y="5603760"/>
                <a:ext cx="5256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f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P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5972040" y="3357720"/>
            <a:ext cx="3137040" cy="3240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454520" y="364500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1-07/07-6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8FC7-6E59-48FB-A5FC-CA976D1B7AB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7720" y="43920"/>
            <a:ext cx="5700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36007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sensi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4880" indent="-87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are jet cross section at fixed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vatron give more constraints on PDFs in high 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g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800" indent="-82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HC data with impact for low-x glu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780000" y="981000"/>
            <a:ext cx="5364000" cy="4959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955800" y="3213000"/>
                <a:ext cx="20095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2916-6014-45BA-B0A8-0B4EA47FBB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x-region do we test with jet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 dijets @ high Q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bi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Q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and high &lt;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three contributions in D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uon, Delta, Sigma induced proce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9480" y="1125000"/>
            <a:ext cx="403848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gluon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s mostly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Delta induc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'low' x-region only at low &lt;pt&gt; and low Q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843120" y="2708280"/>
            <a:ext cx="3803400" cy="1832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716360" y="2714760"/>
            <a:ext cx="3679920" cy="18558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4741920" y="4722840"/>
            <a:ext cx="3727440" cy="186228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26920" y="4710240"/>
            <a:ext cx="3697560" cy="18428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1800" y="438156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1880" y="4363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9800" y="63817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22720" y="633564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554480" y="43527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85012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99040" y="63374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94320" y="634824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15480" y="635940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10760" y="637056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82000" y="436392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677640" y="4375080"/>
            <a:ext cx="429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7840-175E-43CD-9FF1-064DC759BE0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-dependence of jet cross 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rcRect l="7475" t="28272" r="14558" b="5003"/>
          <a:stretch/>
        </p:blipFill>
        <p:spPr>
          <a:xfrm>
            <a:off x="1403280" y="3789360"/>
            <a:ext cx="5580000" cy="29844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rcRect l="8518" t="29085" r="14845" b="7502"/>
          <a:stretch/>
        </p:blipFill>
        <p:spPr>
          <a:xfrm>
            <a:off x="1403280" y="907920"/>
            <a:ext cx="5580000" cy="288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B9AD-E024-4C57-B375-88C1780A2747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765000"/>
            <a:ext cx="4753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stNLO v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for fast repeated theory cross sections allowing to chang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PDF and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flexible table format for various multiplicative and additive con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++ and fortran versions with lots of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calculation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Flexible scale'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to vary ren. and fact. scale independ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s composition can be choosen as function of pre-defin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w options for scans of scale dependence (e.g. à la FAC, P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2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4248360" cy="1024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3" name="" descr=""/>
          <p:cNvPicPr/>
          <p:nvPr/>
        </p:nvPicPr>
        <p:blipFill>
          <a:blip r:embed="rId2"/>
          <a:srcRect l="0" t="19695" r="0" b="0"/>
          <a:stretch/>
        </p:blipFill>
        <p:spPr>
          <a:xfrm>
            <a:off x="5508720" y="5084640"/>
            <a:ext cx="3186000" cy="147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5003640" y="692280"/>
            <a:ext cx="3926160" cy="43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C5DD-A442-4A43-8CE6-3216A82C7BD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2691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ying the scale choice of AT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7640" y="90792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981000"/>
            <a:ext cx="4178160" cy="2997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4572000" y="3757680"/>
            <a:ext cx="3960720" cy="28400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34920" y="3860640"/>
            <a:ext cx="4175280" cy="29973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861520" y="6308640"/>
            <a:ext cx="22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arXiv:1112.6297 [hep-ex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56E6-A6E2-4EC8-845A-381BF4C027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in FastN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astNLO tables come with 3 (4) simultaneous </a:t>
            </a:r>
            <a:r>
              <a:rPr b="0" lang="de-DE" sz="1800" spc="-1" strike="noStrike">
                <a:solidFill>
                  <a:srgbClr val="0033cc"/>
                </a:solidFill>
                <a:latin typeface="Arial"/>
              </a:rPr>
              <a:t>scale variations tables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.g. 0.5, 1.0, 2.0 times the nominal sc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 posterior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scale vari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f the renormalizatoin scale allows study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ymetric sca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ari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6-points: (1/2,1/2), (1/2,1), (1,1/2), (1,2), (2,1), (2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oiding of rel. 'factor' 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s in v 2.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s get own dim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cubic interpolation of scale-value to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 6 scale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s already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S incl. j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0 3-jet m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72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994200" cy="403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2E16-1585-4399-9F5F-F5C8FD21BFF9}" type="slidenum">
              <a:t>3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LO QCD cross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9760" y="907560"/>
            <a:ext cx="7716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t production in hadron-hadron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t cross section calculations are time consu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trong cou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 order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f two hadrons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arton flavor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,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perturbative coeffic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,b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renormaliz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factorization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36360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momentum fractio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318960" y="1698480"/>
                <a:ext cx="829944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/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395280" y="6086520"/>
            <a:ext cx="8209080" cy="405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de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ctorize the PDFs and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364000" y="2706840"/>
            <a:ext cx="2880000" cy="2342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5300640"/>
            <a:ext cx="8209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re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turbative coefficients are independent from PDF and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98C8-040F-4BB0-BF16-F4E5BDCCB58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astNLO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148360" y="3468600"/>
            <a:ext cx="3887640" cy="2121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268280"/>
            <a:ext cx="4897440" cy="40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set of n discret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x-node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's being equidistant in a function f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ke set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igenfunctions E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ound nodes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&gt;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DF is replaced by a linear combination of interpolation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 interpolation by reweighting 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16000" y="3645000"/>
                <a:ext cx="280836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≃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nary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22960" y="1127160"/>
            <a:ext cx="3352680" cy="2230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1474200" y="422100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</a:rPr>
              <a:t>LAL 94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7101000"/>
            <a:ext cx="820728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a table with the convolution of the pert. coefficients with the interpolation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1200" y="4941360"/>
            <a:ext cx="505152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dure also fo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e gets own dimension and look-up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F1C7-361B-48C7-8B68-1F0926BC1D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NLO for hadron-hadron coll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2360" y="981000"/>
            <a:ext cx="4824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dron-hadron coll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2D interpolation ker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mmetries of matrix el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90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13 partonic subprocesses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reduce to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62120" y="1557360"/>
                <a:ext cx="338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55640" y="2779560"/>
                <a:ext cx="46022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457200" y="3716280"/>
            <a:ext cx="822960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nal fastNLO cross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mput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-table in each bin and store it in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fastNLO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tains all information on the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771560" y="4437000"/>
                <a:ext cx="438480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5445000"/>
            <a:ext cx="8353440" cy="9921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 cross section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360600" y="5661000"/>
                <a:ext cx="52437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h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Bin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3504960" cy="1349280"/>
          </a:xfrm>
          <a:prstGeom prst="rect">
            <a:avLst/>
          </a:prstGeom>
          <a:ln w="25560">
            <a:solidFill>
              <a:srgbClr val="ffff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D45F-38EB-4872-8E8E-BB2A96F30A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ory predi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ncept does not include the theoretical calculation itsel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Requires existing computer code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NLOJET++ (</a:t>
            </a:r>
            <a:r>
              <a:rPr b="1" lang="de-DE" sz="1000" spc="-1" strike="noStrike">
                <a:solidFill>
                  <a:srgbClr val="ff9933"/>
                </a:solidFill>
                <a:latin typeface="Arial"/>
              </a:rPr>
              <a:t>Z. Nagy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PRD68 2003, PRL88 200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8161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reshold corrections (</a:t>
            </a:r>
            <a:r>
              <a:rPr b="1" lang="en-US" sz="1000" spc="-1" strike="noStrike">
                <a:solidFill>
                  <a:srgbClr val="ff9933"/>
                </a:solidFill>
                <a:latin typeface="Arial"/>
              </a:rPr>
              <a:t>Kidonakis, Owens, PRD 63, 054019 (2001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ced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de-DE" sz="1600" spc="-1" strike="noStrike">
                <a:solidFill>
                  <a:srgbClr val="333399"/>
                </a:solidFill>
                <a:latin typeface="Arial"/>
              </a:rPr>
              <a:t>first computation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no time is sa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 calculations wit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y high statistic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LO events -&gt; up to several years of CPU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y further recalculations tak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O(m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an be used for any observable in hadron-induced proce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072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adron-hadron, DIS, photoproduction, fragmentation functions 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5800" y="6014880"/>
            <a:ext cx="81885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labeled “fastNLO” method can be used at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3786120"/>
            <a:ext cx="590544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FastNLO example code in c++ for reading CMS inc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// jets (PRL 107 (2011) 132001) with CT10 PDF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stNLOLHAPDF fnlo("fnl1014.tab","CT10.LHgrid"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nlo.PrintCrossSections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24720" y="3949560"/>
            <a:ext cx="1297080" cy="744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====================================================================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Cross Sections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The scale chosen here are: mu_f =  1.000 * pT_jet_[GeV], and mu_r =  1.000 * pT_jet_[GeV]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IObs  Bin Size IODim1  [ pT_[GeV]     ]    IODim2  [  |y|           ]  LO cross section   NLO cross section   K NLO     K NPC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-------------------------------------------------------------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  3.000         1  18.00      21.00         1  0.00E+00  5.00E-01  1.55277802824E+07  1.63811325684E+07   1.05496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  3.000         2  21.00      24.00         1  0.00E+00  5.00E-01  8.30682860853E+06  8.77287665130E+06   1.05610   1.38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  4.000         3  24.00      28.00         1  0.00E+00  5.00E-01  4.41134160762E+06  4.62463577873E+06   1.04835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4  4.000         4  28.00      32.00         1  0.00E+00  5.00E-01  2.30882413125E+06  2.47472392075E+06   1.07185   1.2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5  5.000         5  32.00      37.00         1  0.00E+00  5.00E-01  1.22487109201E+06  1.30677111896E+06   1.06686   1.1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6  6.000         6  37.00      43.00         1  0.00E+00  5.00E-01  6.18412283065E+05  6.58015663350E+05   1.06404   1.1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7  6.000         7  43.00      49.00         1  0.00E+00  5.00E-01  3.18610165168E+05  3.42097336205E+05   1.07372   1.1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8  7.000         8  49.00      56.00         1  0.00E+00  5.00E-01  1.69694938829E+05  1.82786902463E+05   1.07715   1.09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9  8.000         9  56.00      64.00         1  0.00E+00  5.00E-01  8.88506455202E+04  9.52323847828E+04   1.07183   1.07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0  10.00        10  64.00      74.00         1  0.00E+00  5.00E-01  4.48760868947E+04  4.82703440385E+04   1.07564   1.06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1  10.00        11  74.00      84.00         1  0.00E+00  5.00E-01  2.26829562240E+04  2.43722369908E+04   1.07447   1.05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2  13.00        12  84.00      97.00         1  0.00E+00  5.00E-01  1.14507422191E+04  1.24049331317E+04   1.08333   1.04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3  17.00        13  97.00      114.0         1  0.00E+00  5.00E-01  5.23097360990E+03  5.67721041625E+03   1.08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4  19.00        14  114.0      133.0         1  0.00E+00  5.00E-01  2.28063559003E+03  2.48513079140E+03   1.0896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5  20.00        15  133.0      153.0         1  0.00E+00  5.00E-01  1.03505174962E+03  1.13314049111E+03   1.0947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6  21.00        16  153.0      174.0         1  0.00E+00  5.00E-01  4.96802383700E+02  5.46247174813E+02   1.09953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7  22.00        17  174.0      196.0         1  0.00E+00  5.00E-01  2.49815289171E+02  2.75364800692E+02   1.10227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8  24.00        18  196.0      220.0         1  0.00E+00  5.00E-01  1.29012893548E+02  1.42599549941E+02   1.10531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19  25.00        19  220.0      245.0         1  0.00E+00  5.00E-01  6.80355225457E+01  7.55493261942E+01   1.11044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0  27.00        20  245.0      272.0         1  0.00E+00  5.00E-01  3.67048355857E+01  4.09487347532E+01   1.11562   1.03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1  28.00        21  272.0      300.0         1  0.00E+00  5.00E-01  2.01613029168E+01  2.25604162288E+01   1.119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2  30.00        22  300.0      330.0         1  0.00E+00  5.00E-01  1.12824854482E+01  1.26866111428E+01   1.12445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3  32.00        23  330.0      362.0         1  0.00E+00  5.00E-01  6.35845842969E+00  7.17233587864E+00   1.12800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4  33.00        24  362.0      395.0         1  0.00E+00  5.00E-01  3.63706128628E+00  4.12851783408E+00   1.13512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5  35.00        25  395.0      430.0         1  0.00E+00  5.00E-01  2.11227877473E+00  2.40602532981E+00   1.13907   1.0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6  38.00        26  430.0      468.0         1  0.00E+00  5.00E-01  1.22524458697E+00  1.40203526441E+00   1.14429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7  39.00        27  468.0      507.0         1  0.00E+00  5.00E-01  7.14187420152E-01  8.19893199048E-01   1.14801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8  41.00        28  507.0      548.0         1  0.00E+00  5.00E-01  4.21748162421E-01  4.88300824898E-01   1.1578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29  44.00        29  548.0      592.0         1  0.00E+00  5.00E-01  2.48791400377E-01  2.88852906110E-01   1.1610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0  46.00        30  592.0      638.0         1  0.00E+00  5.00E-01  1.46515601054E-01  1.71074985050E-01   1.16762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1  48.00        31  638.0      686.0         1  0.00E+00  5.00E-01  8.66490094287E-02  1.01902201541E-01   1.17603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2  51.00        32  686.0      737.0         1  0.00E+00  5.00E-01  5.11700908830E-02  6.04966189129E-02   1.1822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3  109.0        33  737.0      846.0         1  0.00E+00  5.00E-01  2.37402790440E-02  2.83054753812E-02   1.19230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4  838.0        34  846.0      1684.         1  0.00E+00  5.00E-01  1.78674955347E-03  2.17513026527E-03   1.21737   1.01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5  3.000         1  18.00      21.00         2  5.00E-01  1.00E+00  1.50754366012E+07  1.60609009301E+07   1.06537   1.40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6  3.000         2  21.00      24.00         2  5.00E-01  1.00E+00  8.05442518090E+06  8.54078421141E+06   1.06038   1.3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" spc="-1" strike="noStrike">
                <a:solidFill>
                  <a:srgbClr val="000000"/>
                </a:solidFill>
                <a:latin typeface="Courier New"/>
              </a:rPr>
              <a:t>37  4.000         3  24.00      28.00         2  5.00E-01  1.00E+00  4.26021653062E+06  4.54082512372E+06   1.06587   1.22000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4309920"/>
            <a:ext cx="4320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A54-2E01-4E9D-ABFA-474E9FA3E2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4399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MS inclusive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termination of PDF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DF-error prediction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à la </a:t>
            </a:r>
            <a:r>
              <a:rPr b="0" lang="el-GR" sz="1600" spc="-1" strike="noStrike">
                <a:solidFill>
                  <a:srgbClr val="ff0000"/>
                </a:solidFill>
                <a:latin typeface="Arial"/>
                <a:ea typeface="Arial"/>
              </a:rPr>
              <a:t>PDF4LHC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rcRect l="7061" t="0" r="168" b="0"/>
          <a:stretch/>
        </p:blipFill>
        <p:spPr>
          <a:xfrm>
            <a:off x="4211640" y="3606840"/>
            <a:ext cx="4932360" cy="2343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788000" y="6093000"/>
            <a:ext cx="410364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138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96240" y="346392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33"/>
                </a:solidFill>
                <a:latin typeface="Arial"/>
              </a:rPr>
              <a:t>PLB 704 (2011) 434-4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3672000" cy="3612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50440" y="6093000"/>
            <a:ext cx="3886920" cy="39888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9 repeated NLO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981000"/>
            <a:ext cx="4608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5680" indent="-85680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0 three-jet invariant m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PDF depen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scale depende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(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+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/3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2.0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br>
              <a:rPr sz="1600"/>
            </a:b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0.5 ×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185760"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udy of 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ce using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dependent PDF 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8FC-1C9F-4C5D-A643-B83F32DD315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79912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in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64101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pre-computed fastNLO t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mati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djustm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hase spac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unda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xible # x-nodes for analysis b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nterpolation in ren./fact. sc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bitrary number of dimensions for binning of obser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s of fastNLO reading too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hensive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volutions provid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,3-,4-loop iterative solution, flavor matching ON/OFF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external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evolu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.g. LHAPDF, QCDNUM, etc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face to CRunDec (</a:t>
            </a:r>
            <a:r>
              <a:rPr b="1" lang="en-US" sz="1200" spc="-1" strike="noStrike">
                <a:solidFill>
                  <a:srgbClr val="ff9933"/>
                </a:solidFill>
                <a:latin typeface="Arial"/>
              </a:rPr>
              <a:t>arXiv:1201.6149v1, arXiv:hep-ph/0004189v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 to PDFs from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HAPD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QCD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y implementation of new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nstall (autotoo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implement in fitting codes and to interface PD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-274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dependent C++ and Fortran ver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-1857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reement at double precision O(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5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32720" y="1236600"/>
            <a:ext cx="1800000" cy="368280"/>
          </a:xfrm>
          <a:prstGeom prst="rect">
            <a:avLst/>
          </a:prstGeom>
          <a:solidFill>
            <a:srgbClr val="a50021"/>
          </a:solidFill>
          <a:ln w="381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2997360"/>
            <a:ext cx="1944720" cy="64260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astN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020000" y="472428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20000" y="4149720"/>
            <a:ext cx="1295280" cy="337320"/>
          </a:xfrm>
          <a:prstGeom prst="rect">
            <a:avLst/>
          </a:prstGeom>
          <a:solidFill>
            <a:srgbClr val="3333cc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ader_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6560" y="5950080"/>
            <a:ext cx="7921800" cy="313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further dependencies (No ROOT, No CERNLIB, etc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aniel Britzger - QCD@LHC - MS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438-C098-41F1-81F1-E5496C38A1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ugust 23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8:22:28Z</dcterms:created>
  <dc:creator>Jeff Lebowski</dc:creator>
  <dc:description/>
  <dc:language>en-US</dc:language>
  <cp:lastModifiedBy>Jeff Lebowski</cp:lastModifiedBy>
  <dcterms:modified xsi:type="dcterms:W3CDTF">2012-08-23T16:13:01Z</dcterms:modified>
  <cp:revision>418</cp:revision>
  <dc:subject/>
  <dc:title>My Unfolding</dc:title>
</cp:coreProperties>
</file>