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.png" ContentType="image/png"/>
  <Override PartName="/ppt/media/image26.wmf" ContentType="image/x-wmf"/>
  <Override PartName="/ppt/media/image3.wmf" ContentType="image/x-wmf"/>
  <Override PartName="/ppt/media/image33.wmf" ContentType="image/x-wmf"/>
  <Override PartName="/ppt/media/image14.png" ContentType="image/png"/>
  <Override PartName="/ppt/media/image9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46.wmf" ContentType="image/x-wmf"/>
  <Override PartName="/ppt/media/image36.wmf" ContentType="image/x-wmf"/>
  <Override PartName="/ppt/media/image37.png" ContentType="image/png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7.wmf" ContentType="image/x-wmf"/>
  <Override PartName="/ppt/media/image44.wmf" ContentType="image/x-wmf"/>
  <Override PartName="/ppt/media/image45.wmf" ContentType="image/x-wmf"/>
  <Override PartName="/ppt/media/image13.wmf" ContentType="image/x-wmf"/>
  <Override PartName="/ppt/media/image40.png" ContentType="image/png"/>
  <Override PartName="/ppt/media/image38.wmf" ContentType="image/x-wmf"/>
  <Override PartName="/ppt/media/image8.wmf" ContentType="image/x-wmf"/>
  <Override PartName="/ppt/media/image12.wmf" ContentType="image/x-wmf"/>
  <Override PartName="/ppt/media/image27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550C-D25F-45D5-9B28-21CEF7638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19B8-B58A-4392-B9CE-4FAA046B4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10FE-49A0-4AA8-8306-7C98EE278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C3F1-F4BD-44E5-BC73-AEC512C80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44E3-CA5C-4E0C-9E76-EA0EAE0E3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96AB-26DB-42F8-8D8F-F5BE91E93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C3B4-6579-4B14-A3C6-FF480E335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4C47-0DD4-444B-912A-10B0A0BEA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A9CA-776E-4145-A4CF-363133637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6D10-FA17-4939-9C5C-45795AA0F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04F4-98DD-4E48-B101-DBB172BB2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6C63-31A3-4836-98EE-030B32146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DED94-6996-4DD5-A596-B7C87176F9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41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4464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astNLO Collaboration</a:t>
            </a:r>
            <a:br>
              <a:rPr sz="2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niel Britz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omas Kluge, Klaus Rabbertz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d Stober, Markus Wobis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SY, Liverpool, KIT, KIT, Louisiana Te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5478480" cy="1117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446520" y="1452600"/>
            <a:ext cx="8575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Arial"/>
              </a:rPr>
              <a:t>v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17280" y="4651200"/>
            <a:ext cx="174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CD@LHC 201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gust 23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 table format in fastNLO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417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t fores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ixed orders (LO, NLO, NNLO,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eshold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-loop for inclusive jets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ctroweak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w physics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rrection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-perturbative corr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ing correlated and uncorrelated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relation 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version tool for v1.4 t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0" y="1341360"/>
            <a:ext cx="4362480" cy="4464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162560" y="1179360"/>
            <a:ext cx="183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CMS Note-2011-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1772-A9E0-45C5-815C-9DCA1F36FCE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20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 flexibility in fastNLO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84420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beyond LO have 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cale dependen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be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actoriz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187280" y="2332080"/>
                <a:ext cx="59565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187280" y="1197000"/>
                <a:ext cx="39610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LO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95280" y="3932280"/>
            <a:ext cx="82296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rbitrary valu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or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unc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unctions of multiple vari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.g.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y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 scale can be chosen to be any function of bo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268280" y="4678200"/>
                <a:ext cx="21607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468360" y="573408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an be functions of multiple 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699080" y="4713120"/>
                <a:ext cx="33462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m>
                      <m:mr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or</m:t>
                          </m:r>
                        </m:e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  <m:r>
                                <m:t xml:space="preserve">y</m:t>
                              </m:r>
                            </m:sup>
                          </m:sSup>
                        </m:e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468360" y="314172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individual sca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pen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effic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B3E2-DDF3-47FA-8390-731B93D8EA0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Features for S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164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77040" indent="-77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functions of multiple observ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for DIS je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observables are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ales can be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0.8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0.3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+ Q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·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7040" indent="-77040"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Independent scale variation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e po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×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×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19480" t="26236" r="27956" b="13622"/>
          <a:stretch/>
        </p:blipFill>
        <p:spPr>
          <a:xfrm>
            <a:off x="4788000" y="981000"/>
            <a:ext cx="4248000" cy="3889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rot="20744400">
            <a:off x="6958800" y="4580640"/>
            <a:ext cx="1942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335800">
            <a:off x="4430880" y="4263840"/>
            <a:ext cx="192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4060440" y="1996920"/>
            <a:ext cx="1050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[p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57340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ility for studies of scale depend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6679-C28E-4E4D-8BCF-D16C61A0314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490920" y="3924360"/>
            <a:ext cx="5616720" cy="1952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492360" y="1862280"/>
            <a:ext cx="5616720" cy="1952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Study: Scale studies for ATLAS Dije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2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9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and y* (or 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,ma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y*) are stored as scale variables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s can b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any func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 = f(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2060640"/>
            <a:ext cx="38876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y* is a fixed factor per y*-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Differential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y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siblity to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va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arameter '0.3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ul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y functions (e.g. cos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e.g. find optimal sca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á la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FAC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P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011240" y="2739960"/>
                <a:ext cx="23432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,ma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114560" y="532440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395280" y="60148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possiblites to study the best inclusion of y* into the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53D7-B88F-41D3-A028-2126A109E19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8600" y="6237360"/>
            <a:ext cx="23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fastNLO, arXiv:1109:13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43920"/>
            <a:ext cx="8064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/Theory Comparision of Jet Cross S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36007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number of calculations are available at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astnlo.hepforge.or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view of inclusive je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 @ RH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and ZEUS @ H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F and D0 @ Tevat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S and ATLAS @ LH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/theory compari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including threshold correction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(2-loop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635280" y="909720"/>
            <a:ext cx="5300640" cy="58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B8F8-4812-441A-BD4D-888BB5328F7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72007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-dependence of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t production does not distinguish between quark flav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identify four subprocesses (qq, gg, gq, q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x-values: We stud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event contributes to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07640" y="3068640"/>
            <a:ext cx="33843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S inclusive je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PhysRevLett. 107.1320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0 &lt; |y| &lt; 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3 &lt;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&lt; 153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8518" t="29085" r="14845" b="7502"/>
          <a:stretch/>
        </p:blipFill>
        <p:spPr>
          <a:xfrm>
            <a:off x="2700360" y="2457360"/>
            <a:ext cx="6192720" cy="3203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5280" y="5972040"/>
            <a:ext cx="8424720" cy="370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in in forward region probes two separated x-r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30160" y="357192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gg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05800" y="393228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qq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D857-6105-4076-8A4B-5F38F3712ACA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: 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5360" y="1196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435640" y="1352520"/>
            <a:ext cx="3529080" cy="2724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85760" y="1628640"/>
                <a:ext cx="515772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324000" y="3325680"/>
            <a:ext cx="53276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 </a:t>
            </a: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s 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89040" y="4964040"/>
                <a:ext cx="55339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1424-11C4-4D19-B35C-887046358A66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6840" y="126792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20680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286240" y="400680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05600" y="334476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1989000"/>
            <a:ext cx="475128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53640" y="357336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on of only a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436572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9F84-1DDE-41FD-93ED-7181C5428B5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429080" y="981000"/>
            <a:ext cx="4714920" cy="33861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9280" y="1054080"/>
            <a:ext cx="44640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number of x-nod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low-x re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 over x wrt.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33320" y="3933720"/>
                <a:ext cx="697716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190440" y="4941720"/>
            <a:ext cx="835200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724F-6EC9-4B80-9EC9-0C13C029D1C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Diffractive PDF 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284720" y="836640"/>
            <a:ext cx="4859280" cy="4711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0CE5-5712-4A1A-A13F-E53910D0205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7848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features of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ized concept in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application of flexible scale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6537-CAB0-423D-A388-07892043A29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920" y="909360"/>
            <a:ext cx="554508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de download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+ and Fortran code (No further dependenc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calculations available for all experimen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, CMS, CDF, D0, H1, ZEUS, ST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features in v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technical impro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ble format forsees different physics contribu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'Flexible scale'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composition of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ary ren./fact. scales independent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cale variations in any order without recalculations or integ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ractive jet production in D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concept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y to use in DPDF f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084720" y="4765680"/>
            <a:ext cx="2159280" cy="2092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651640" y="3573360"/>
            <a:ext cx="3168360" cy="11001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5896080" y="189000"/>
            <a:ext cx="3011400" cy="331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E649-B9C2-4FC6-8290-4149A82A4621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release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0920" y="2492280"/>
            <a:ext cx="4608360" cy="2449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New release of C++ and fortran code within the next wee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Many new calculatio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LHC, Tevatron, HERA,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iffractive DIS code and tabl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5667480" y="2349360"/>
            <a:ext cx="3476520" cy="4508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851280" y="907920"/>
            <a:ext cx="4033800" cy="936720"/>
          </a:xfrm>
          <a:prstGeom prst="cloudCallout">
            <a:avLst>
              <a:gd name="adj1" fmla="val 25601"/>
              <a:gd name="adj2" fmla="val 136439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07920" y="1190520"/>
            <a:ext cx="25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astnlo.hepforg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27E8-B83A-4FE2-971B-A702A8B06D03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00360" y="2997360"/>
            <a:ext cx="43923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1258920" y="0"/>
            <a:ext cx="4199040" cy="544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029C-579E-4578-B205-7F9E438B11D5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Pr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483552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e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scale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Affect the interpolation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feature in v2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x-nodes chosen depending on x-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ison vs. 'plain' NLOJet+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bitrary precision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O(MB) tables, reach better than 1 per m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859280" y="1820880"/>
            <a:ext cx="4067280" cy="3913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738920" y="30592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(10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-6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7451640" y="3203640"/>
            <a:ext cx="287280" cy="287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54560" y="3716280"/>
            <a:ext cx="261144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Arial"/>
              </a:rPr>
              <a:t>Filled area shows maximum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olid line shows mean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85080" y="1484280"/>
            <a:ext cx="36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1 Incl. Jets @ High Q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24 bi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5204-1DC0-4944-B319-FDEB340E9458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6372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Scale studies with ATLAS Dijet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 and y* are stored as scale variables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any function of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00720" y="2544840"/>
            <a:ext cx="4643280" cy="33321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79280" y="2205000"/>
            <a:ext cx="424836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choose any parameter '0.3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use different functions (e.g. cos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an e.g. find optimal scale (FAC,P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e: fastNLO vs. plain NLOJet++ calculation with free choice of ren./fac.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cision ~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116000" y="3068640"/>
                <a:ext cx="24494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DDE8-656B-4231-8018-794104C512A7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0C61-A475-4934-9BE5-C23DB7E70E35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B8FB-7EC8-4F30-9A31-6165FFF47A35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FC67-660F-415B-8177-9F6EA43743FF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A132-61E2-4B8D-8851-B110CCEC31AF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C97D-3CE7-421A-97EE-838920E288B7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same quantit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for a specific analy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EQ, MSTW, NNPDF, HERAPDF, ABM,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ion to different scale cho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times NLO or even NNLO predictions can be computed fas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Jet cross sections, Drell-Yan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58960" y="5805360"/>
            <a:ext cx="745812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higher order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6AFA-90FF-41EA-93D3-5DCEED29D7A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5683-D9AD-48F5-8CA5-ECB12B3308B5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059280" y="681120"/>
            <a:ext cx="2860560" cy="32526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940360" y="825480"/>
            <a:ext cx="2870280" cy="30243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324000" y="825480"/>
            <a:ext cx="2765160" cy="2951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3059280" y="3772080"/>
            <a:ext cx="2879640" cy="27921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6084720" y="3772080"/>
            <a:ext cx="2880000" cy="27921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6"/>
          <a:stretch/>
        </p:blipFill>
        <p:spPr>
          <a:xfrm>
            <a:off x="0" y="3772080"/>
            <a:ext cx="2987640" cy="289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917C-DB59-47D9-AD44-295BFD47D785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5435640" y="1125360"/>
            <a:ext cx="2808360" cy="2167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395280" y="134136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4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5972040" y="3357720"/>
            <a:ext cx="3137040" cy="3240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7454520" y="364500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3CC8-DE7D-4CA1-92C0-25A6F16E882F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700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36007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 on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880" indent="-87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jet cross section at fixe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vatron give more constraints on PDFs in high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g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HC data with impact for low-x glu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780000" y="981000"/>
            <a:ext cx="5364000" cy="4959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955800" y="3213000"/>
                <a:ext cx="20095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s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7C38-8A99-4B39-A2A6-D4D0D6E07E8E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x-region do we test with jet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dijets @ high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bin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Q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&lt;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three contributions in D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luon, Delta, Sigma induced proces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948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gluon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Delta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low' x-region only at low &lt;pt&gt; and 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843120" y="2708280"/>
            <a:ext cx="3803400" cy="18320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4716360" y="2714760"/>
            <a:ext cx="3679920" cy="18558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4741920" y="4722840"/>
            <a:ext cx="3727440" cy="18622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826920" y="4710240"/>
            <a:ext cx="3697560" cy="18428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141800" y="438156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021880" y="43639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029800" y="63817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122720" y="633564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554480" y="43527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5012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499040" y="63374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794320" y="63482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15480" y="635940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10760" y="63705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8200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77640" y="437508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873A-492A-4672-9FCC-263A78D8BFC3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dependence of jet cross 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rcRect l="7475" t="28272" r="14558" b="5003"/>
          <a:stretch/>
        </p:blipFill>
        <p:spPr>
          <a:xfrm>
            <a:off x="1403280" y="3789360"/>
            <a:ext cx="5580000" cy="29844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rcRect l="8518" t="29085" r="14845" b="7502"/>
          <a:stretch/>
        </p:blipFill>
        <p:spPr>
          <a:xfrm>
            <a:off x="1403280" y="907920"/>
            <a:ext cx="5580000" cy="288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9BA7-DBBD-45E3-AC85-876A08EC4538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475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 for fast repeated theory cross sections allowing to chang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PDF and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le table format for various multiplicative and additive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+ and fortran versions with lots of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calculation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'Flexible scale'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to vary ren. and fact. scale independ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omposition can be choosen as function of pre-defined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w options for scans of scale dependence (e.g. à la FAC, P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4248360" cy="1024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3" name="" descr=""/>
          <p:cNvPicPr/>
          <p:nvPr/>
        </p:nvPicPr>
        <p:blipFill>
          <a:blip r:embed="rId2"/>
          <a:srcRect l="0" t="19695" r="0" b="0"/>
          <a:stretch/>
        </p:blipFill>
        <p:spPr>
          <a:xfrm>
            <a:off x="5508720" y="5084640"/>
            <a:ext cx="3186000" cy="147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5003640" y="692280"/>
            <a:ext cx="3926160" cy="43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71F3-58B9-4926-BEBE-95CF5C54A290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269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ying the scale choice of AT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427640" y="90792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4572000" y="3757680"/>
            <a:ext cx="3960720" cy="28400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34920" y="3860640"/>
            <a:ext cx="4175280" cy="2997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861520" y="6308640"/>
            <a:ext cx="22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arXiv:1112.6297 [hep-ex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2DD0-75C8-4463-8884-834751BA905E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s in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84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tables come with 3 (4) simultaneous </a:t>
            </a:r>
            <a:r>
              <a:rPr b="0" lang="de-DE" sz="1800" spc="-1" strike="noStrike">
                <a:solidFill>
                  <a:srgbClr val="0033cc"/>
                </a:solidFill>
                <a:latin typeface="Arial"/>
              </a:rPr>
              <a:t>scale variations tables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.g. 0.5, 1.0, 2.0 times the nominal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 posterior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scale vari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the renormalizatoin scale allows study of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symetric sca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ari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6-points: (1/2,1/2), (1/2,1), (1,1/2), (1,2), (2,1), (2,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oiding of rel. 'factor' 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ments in v 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get own dime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of scale-value to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cally 6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s already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S incl.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0 3-jet m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3994200" cy="4032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1421-43F5-419A-BEFE-A63717603FFF}" type="slidenum">
              <a:t>3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LO QCD cross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9760" y="907560"/>
            <a:ext cx="7716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hadron-hadron colli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 cross section calculations are time consu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rong coup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order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DF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f two hadrons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arton flavo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,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erturbative coeffic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,b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renormaliz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factorization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momentum fractio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18960" y="1698480"/>
                <a:ext cx="8299440" cy="9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395280" y="6086520"/>
            <a:ext cx="8209080" cy="405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torize the PDFs and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α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64000" y="2706840"/>
            <a:ext cx="2880000" cy="2342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5280" y="5300640"/>
            <a:ext cx="8209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F7F5-131F-42D7-B810-298293970A4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148360" y="3468600"/>
            <a:ext cx="3887640" cy="2121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1268280"/>
            <a:ext cx="489744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set of n discret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x-nod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's being equidistant in a function 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ke set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igenfunctions E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(x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ound nodes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116000" y="3645000"/>
                <a:ext cx="280836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22960" y="112716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1474200" y="42210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7101000"/>
            <a:ext cx="8207280" cy="642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a table with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1200" y="4941360"/>
            <a:ext cx="50515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dure also for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gets own dimension and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C389-0DBF-4CA3-954D-AD695A53D47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for hadron-hadron coll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2360" y="981000"/>
            <a:ext cx="4824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2D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metries of matrix el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reduce to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762120" y="155736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755640" y="277956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ut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in each bin and store it in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508720" y="2205000"/>
            <a:ext cx="3504960" cy="13492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69D2-EB08-402E-B9D0-1C9BBED1F74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ory predi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ncept does not include the theoretical calculation its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Requires existing computer co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LOJET++ (</a:t>
            </a:r>
            <a:r>
              <a:rPr b="1" lang="de-DE" sz="1000" spc="-1" strike="noStrike">
                <a:solidFill>
                  <a:srgbClr val="ff9933"/>
                </a:solidFill>
                <a:latin typeface="Arial"/>
              </a:rPr>
              <a:t>Z. Nagy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68 2003, PRL88 200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reshold corrections (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Kidonakis, Owens, PRD 63, 054019 (2001)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uring the </a:t>
            </a: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irst comput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no time is sa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calculations with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ery high statistic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LO events -&gt; up to several years of CPU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further recalculations tak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nly O(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n be used for any observable in hadron-induced proc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dron-hadron, DIS, photoproduction, fragmentation functions 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5800" y="6014880"/>
            <a:ext cx="818856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 labeled “fastNLO” method can be used at any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3786120"/>
            <a:ext cx="5905440" cy="1159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CMS in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jets (PRL 107 (2011) 132001) with CT10 PDF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stNLOLHAPDF fnlo("fnl1014.tab","CT10.LHgrid",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nlo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24720" y="3949560"/>
            <a:ext cx="1297080" cy="744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======================================================================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Cross Sections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The scale chosen here are: mu_f =  1.000 * pT_jet_[GeV], and mu_r =  1.000 * pT_jet_[GeV]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IObs  Bin Size IODim1  [ pT_[GeV]     ]    IODim2  [  |y|           ]  LO cross section   NLO cross section   K NLO     K NPC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  3.000         1  18.00      21.00         1  0.00E+00  5.00E-01  1.55277802824E+07  1.63811325684E+07   1.05496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  3.000         2  21.00      24.00         1  0.00E+00  5.00E-01  8.30682860853E+06  8.77287665130E+06   1.05610   1.38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  4.000         3  24.00      28.00         1  0.00E+00  5.00E-01  4.41134160762E+06  4.62463577873E+06   1.04835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4  4.000         4  28.00      32.00         1  0.00E+00  5.00E-01  2.30882413125E+06  2.47472392075E+06   1.07185   1.2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5  5.000         5  32.00      37.00         1  0.00E+00  5.00E-01  1.22487109201E+06  1.30677111896E+06   1.06686   1.1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6  6.000         6  37.00      43.00         1  0.00E+00  5.00E-01  6.18412283065E+05  6.58015663350E+05   1.06404   1.1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7  6.000         7  43.00      49.00         1  0.00E+00  5.00E-01  3.18610165168E+05  3.42097336205E+05   1.07372   1.1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8  7.000         8  49.00      56.00         1  0.00E+00  5.00E-01  1.69694938829E+05  1.82786902463E+05   1.07715   1.09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9  8.000         9  56.00      64.00         1  0.00E+00  5.00E-01  8.88506455202E+04  9.52323847828E+04   1.07183   1.07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0  10.00        10  64.00      74.00         1  0.00E+00  5.00E-01  4.48760868947E+04  4.82703440385E+04   1.07564   1.0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1  10.00        11  74.00      84.00         1  0.00E+00  5.00E-01  2.26829562240E+04  2.43722369908E+04   1.07447   1.05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2  13.00        12  84.00      97.00         1  0.00E+00  5.00E-01  1.14507422191E+04  1.24049331317E+04   1.08333   1.04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3  17.00        13  97.00      114.0         1  0.00E+00  5.00E-01  5.23097360990E+03  5.67721041625E+03   1.08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4  19.00        14  114.0      133.0         1  0.00E+00  5.00E-01  2.28063559003E+03  2.48513079140E+03   1.0896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5  20.00        15  133.0      153.0         1  0.00E+00  5.00E-01  1.03505174962E+03  1.13314049111E+03   1.0947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6  21.00        16  153.0      174.0         1  0.00E+00  5.00E-01  4.96802383700E+02  5.46247174813E+02   1.09953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7  22.00        17  174.0      196.0         1  0.00E+00  5.00E-01  2.49815289171E+02  2.75364800692E+02   1.1022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8  24.00        18  196.0      220.0         1  0.00E+00  5.00E-01  1.29012893548E+02  1.42599549941E+02   1.10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9  25.00        19  220.0      245.0         1  0.00E+00  5.00E-01  6.80355225457E+01  7.55493261942E+01   1.11044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0  27.00        20  245.0      272.0         1  0.00E+00  5.00E-01  3.67048355857E+01  4.09487347532E+01   1.11562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1  28.00        21  272.0      300.0         1  0.00E+00  5.00E-01  2.01613029168E+01  2.25604162288E+01   1.119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2  30.00        22  300.0      330.0         1  0.00E+00  5.00E-01  1.12824854482E+01  1.26866111428E+01   1.12445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3  32.00        23  330.0      362.0         1  0.00E+00  5.00E-01  6.35845842969E+00  7.17233587864E+00   1.128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4  33.00        24  362.0      395.0         1  0.00E+00  5.00E-01  3.63706128628E+00  4.12851783408E+00   1.13512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5  35.00        25  395.0      430.0         1  0.00E+00  5.00E-01  2.11227877473E+00  2.40602532981E+00   1.13907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6  38.00        26  430.0      468.0         1  0.00E+00  5.00E-01  1.22524458697E+00  1.40203526441E+00   1.14429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7  39.00        27  468.0      507.0         1  0.00E+00  5.00E-01  7.14187420152E-01  8.19893199048E-01   1.14801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8  41.00        28  507.0      548.0         1  0.00E+00  5.00E-01  4.21748162421E-01  4.88300824898E-01   1.1578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9  44.00        29  548.0      592.0         1  0.00E+00  5.00E-01  2.48791400377E-01  2.88852906110E-01   1.1610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0  46.00        30  592.0      638.0         1  0.00E+00  5.00E-01  1.46515601054E-01  1.71074985050E-01   1.1676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1  48.00        31  638.0      686.0         1  0.00E+00  5.00E-01  8.66490094287E-02  1.01902201541E-01   1.17603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2  51.00        32  686.0      737.0         1  0.00E+00  5.00E-01  5.11700908830E-02  6.04966189129E-02   1.1822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3  109.0        33  737.0      846.0         1  0.00E+00  5.00E-01  2.37402790440E-02  2.83054753812E-02   1.1923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4  838.0        34  846.0      1684.         1  0.00E+00  5.00E-01  1.78674955347E-03  2.17513026527E-03   1.2173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5  3.000         1  18.00      21.00         2  5.00E-01  1.00E+00  1.50754366012E+07  1.60609009301E+07   1.06537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6  3.000         2  21.00      24.00         2  5.00E-01  1.00E+00  8.05442518090E+06  8.54078421141E+06   1.06038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7  4.000         3  24.00      28.00         2  5.00E-01  1.00E+00  4.26021653062E+06  4.54082512372E+06   1.06587   1.2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4309920"/>
            <a:ext cx="432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C495-8405-4A88-A788-6964C6C4FC6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39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MS inclusive j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envelo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DF-error prediction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à la </a:t>
            </a:r>
            <a:r>
              <a:rPr b="0" lang="el-GR" sz="1600" spc="-1" strike="noStrike">
                <a:solidFill>
                  <a:srgbClr val="ff0000"/>
                </a:solidFill>
                <a:latin typeface="Arial"/>
                <a:ea typeface="Arial"/>
              </a:rPr>
              <a:t>PDF4LHC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7061" t="0" r="168" b="0"/>
          <a:stretch/>
        </p:blipFill>
        <p:spPr>
          <a:xfrm>
            <a:off x="4211640" y="3606840"/>
            <a:ext cx="4932360" cy="2343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788000" y="6093000"/>
            <a:ext cx="410364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138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96240" y="3463920"/>
            <a:ext cx="215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PLB 704 (2011) 434-4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3672000" cy="3612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50440" y="6093000"/>
            <a:ext cx="388692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9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981000"/>
            <a:ext cx="460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0 three-jet invariant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scale dependen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)/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2.0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br>
              <a:rPr sz="1600"/>
            </a:b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0.5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ce us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PDF 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1E97-3961-4ECE-AAB2-B4DD634510B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91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in version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64101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pre-computed fastNLO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c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just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hase spa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und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exible # x-nodes for analysis b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in ren./fact.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itrary number of dimensions for binning of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fastNLO reading to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rehensiv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volutions provid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,3-,4-loop iterative solution, flavor matching ON/OFF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external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volu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LHAPDF, QCDNUM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CRunDec (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arXiv:1201.6149v1, arXiv:hep-ph/0004189v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 to PDFs from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LHAPD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QCD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y implementation of new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nstall (autotoo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mplement in fitting codes and to interface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ndependent C++ and Fortran ver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reement at double precision O(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32720" y="1236600"/>
            <a:ext cx="1800000" cy="368280"/>
          </a:xfrm>
          <a:prstGeom prst="rect">
            <a:avLst/>
          </a:prstGeom>
          <a:solidFill>
            <a:srgbClr val="a50021"/>
          </a:solidFill>
          <a:ln w="381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59640" y="2997360"/>
            <a:ext cx="1944720" cy="64260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20000" y="472428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20000" y="414972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6560" y="5950080"/>
            <a:ext cx="7921800" cy="313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further dependencies (No ROOT, No CERNLIB, etc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8D4F-C508-4AEF-8C08-82D44A934FE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08-23T16:13:01Z</dcterms:modified>
  <cp:revision>418</cp:revision>
  <dc:subject/>
  <dc:title>My Unfolding</dc:title>
</cp:coreProperties>
</file>