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15.wmf" ContentType="image/x-wmf"/>
  <Override PartName="/ppt/media/image1.jpeg" ContentType="image/jpeg"/>
  <Override PartName="/ppt/media/image4.wmf" ContentType="image/x-wmf"/>
  <Override PartName="/ppt/media/image3.png" ContentType="image/png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7.wmf" ContentType="image/x-wmf"/>
  <Override PartName="/ppt/media/image11.jpeg" ContentType="image/jpeg"/>
  <Override PartName="/ppt/media/image12.jpeg" ContentType="image/jpeg"/>
  <Override PartName="/ppt/media/image13.png" ContentType="image/png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B304D-9FDA-4AB1-B4E5-48A9BFC2B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06881-690D-4094-A322-AEA04447C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FA025-C9B0-40B4-ACE7-5619EAB11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4964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000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928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4964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000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2D463-EBAB-44E0-806A-4B7C073EA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E6994-C9F7-41F0-8FA1-57DB23086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4506A-525C-4EB6-BEA1-A1F76334A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972F4-7E32-43B3-BE09-D1DCA82B9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00622-9865-4D0E-BDA4-BDFCF4611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2240" y="103320"/>
            <a:ext cx="8759520" cy="306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E498C-EC4A-4F3E-911A-248FD6401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F6670-7616-4FC7-8CE0-42E5251C5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39A16-001C-484F-83CF-2A204C0A0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26F74-EBBE-413A-9637-BAD9881A2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00720" y="7102080"/>
            <a:ext cx="244152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720"/>
            <a:ext cx="3743280" cy="2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618240" y="6546600"/>
            <a:ext cx="24415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Freestyle Scrip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8B72B-3A71-4995-9D2F-0E91BA2E821E}" type="slidenum">
              <a:rPr b="0" lang="de-DE" sz="1400" spc="-1" strike="noStrike">
                <a:solidFill>
                  <a:srgbClr val="000000"/>
                </a:solidFill>
                <a:latin typeface="Freestyle Scrip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http://psi.fuw.edu.pl/pub/Main/CR2011Venue/venue01.jpg"/>
          <p:cNvPicPr/>
          <p:nvPr/>
        </p:nvPicPr>
        <p:blipFill>
          <a:blip r:embed="rId1"/>
          <a:stretch/>
        </p:blipFill>
        <p:spPr>
          <a:xfrm>
            <a:off x="-1405080" y="-19080"/>
            <a:ext cx="11954160" cy="68961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11280" y="1160640"/>
            <a:ext cx="777240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Arial"/>
              </a:rPr>
              <a:t>Application of fastNLO to NNLO calculation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53840" y="4724280"/>
            <a:ext cx="5647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IS 2014 </a:t>
            </a:r>
            <a:br>
              <a:rPr sz="16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XXII. International Workshop on Deep-Inelastic Scattering and Related Subject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pril 30, 20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199" r="47471" b="3600"/>
          <a:stretch/>
        </p:blipFill>
        <p:spPr>
          <a:xfrm>
            <a:off x="4103640" y="5680080"/>
            <a:ext cx="892080" cy="8809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2951280" y="2673360"/>
            <a:ext cx="2873160" cy="5875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-149400" y="4005360"/>
            <a:ext cx="929340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aniel Britzge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 Marco Guzzi, Klaus Rabbertz, Georg Sieber, Fred Stober,Markus Wobisch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DESY, DESY, KIT , KIT, KIT, Louisiana Tech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tool: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78920" y="1089000"/>
            <a:ext cx="871380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about application of fastNLO to other processes/programs 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rdly any theoretical limitation of fastNLO concept to pQCD or EW calcul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y not used more frequently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of fastNLO to theory programs often very complicated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ory codes are not optimized (at all) for fastNL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chnical difficulties are mostly limiting factor in u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oal: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simple and flexible code to interface fastNLO to any kind of (N)NLO progra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08000" y="5229360"/>
            <a:ext cx="5256360" cy="3988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ewly developed tool: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i="1" lang="en-US" sz="2000" spc="-1" strike="noStrike">
                <a:solidFill>
                  <a:srgbClr val="a50021"/>
                </a:solidFill>
                <a:latin typeface="Tahoma"/>
              </a:rPr>
              <a:t>fast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NLO Toolk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http://www.schoepfung.eu/fileadmin/win/sc/dateien/5/luft/bartkauz.jpg"/>
          <p:cNvPicPr/>
          <p:nvPr/>
        </p:nvPicPr>
        <p:blipFill>
          <a:blip r:embed="rId1"/>
          <a:srcRect l="0" t="19548" r="0" b="0"/>
          <a:stretch/>
        </p:blipFill>
        <p:spPr>
          <a:xfrm>
            <a:off x="7831080" y="1484280"/>
            <a:ext cx="1312920" cy="15843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http://www.crazy4me.com/wp-content/uploads/2010/01/Pink-Question-Mark.jpg"/>
          <p:cNvPicPr/>
          <p:nvPr/>
        </p:nvPicPr>
        <p:blipFill>
          <a:blip r:embed="rId2"/>
          <a:srcRect l="25087" t="6454" r="23944" b="6170"/>
          <a:stretch/>
        </p:blipFill>
        <p:spPr>
          <a:xfrm>
            <a:off x="8280360" y="476280"/>
            <a:ext cx="260280" cy="4460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http://www.crazy4me.com/wp-content/uploads/2010/01/Pink-Question-Mark.jpg"/>
          <p:cNvPicPr/>
          <p:nvPr/>
        </p:nvPicPr>
        <p:blipFill>
          <a:blip r:embed="rId3"/>
          <a:srcRect l="25087" t="6454" r="23944" b="6170"/>
          <a:stretch/>
        </p:blipFill>
        <p:spPr>
          <a:xfrm>
            <a:off x="8640720" y="297000"/>
            <a:ext cx="174600" cy="2998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http://www.crazy4me.com/wp-content/uploads/2010/01/Pink-Question-Mark.jpg"/>
          <p:cNvPicPr/>
          <p:nvPr/>
        </p:nvPicPr>
        <p:blipFill>
          <a:blip r:embed="rId4"/>
          <a:srcRect l="25087" t="6454" r="23944" b="6170"/>
          <a:stretch/>
        </p:blipFill>
        <p:spPr>
          <a:xfrm>
            <a:off x="7812000" y="765000"/>
            <a:ext cx="463680" cy="7938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http://www.crazy4me.com/wp-content/uploads/2010/01/Pink-Question-Mark.jpg"/>
          <p:cNvPicPr/>
          <p:nvPr/>
        </p:nvPicPr>
        <p:blipFill>
          <a:blip r:embed="rId5"/>
          <a:srcRect l="25087" t="6454" r="23944" b="6170"/>
          <a:stretch/>
        </p:blipFill>
        <p:spPr>
          <a:xfrm>
            <a:off x="8856720" y="152280"/>
            <a:ext cx="133200" cy="228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794B9-EEA5-4D5A-ADA1-AD7B6E661740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3573360"/>
            <a:ext cx="5543640" cy="244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BCAF0-F0C5-4744-B044-E01C02FE0BCC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3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1D7AD-B62F-43D0-BB12-1138FD2AF40B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6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BAA87-8130-4A44-9D10-5D81F74103D6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hink about a general interface to any kind of theoretical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86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32939-9F59-4101-A9D5-D6765F18EA2A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cxnSp>
        <p:nvCxnSpPr>
          <p:cNvPr id="203" name=""/>
          <p:cNvCxnSpPr>
            <a:stCxn id="204" idx="2"/>
            <a:endCxn id="205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0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7E9D0-65DC-4BAC-B5EE-4329CD5975AF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6" name=""/>
          <p:cNvCxnSpPr>
            <a:stCxn id="217" idx="2"/>
            <a:endCxn id="218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19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392D4-D6A6-4082-8064-788A0E6FCAED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28" name=""/>
          <p:cNvCxnSpPr>
            <a:stCxn id="229" idx="2"/>
            <a:endCxn id="230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31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C485C-5B57-498A-9EAB-575E27C784CC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49" name=""/>
          <p:cNvCxnSpPr>
            <a:stCxn id="250" idx="2"/>
            <a:endCxn id="251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5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465280" y="4581360"/>
            <a:ext cx="4019760" cy="36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574" y="17033"/>
                </a:moveTo>
                <a:lnTo>
                  <a:pt x="-409" y="6851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ff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NumberOfEvents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nevents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WriteTable(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382920" y="4976640"/>
            <a:ext cx="0" cy="74628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695680" y="5727600"/>
            <a:ext cx="13716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fastNLO 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410160" y="4581360"/>
            <a:ext cx="2625840" cy="505080"/>
          </a:xfrm>
          <a:prstGeom prst="rect">
            <a:avLst/>
          </a:prstGeom>
          <a:noFill/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t normalization of the MC integration and write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venient implementation of fastNLO into an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N)NLO program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410160" y="5337000"/>
            <a:ext cx="2625840" cy="505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inimum implementation: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1 lines of c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A5F29-0FCB-42DA-ABC4-CEB39A3B7736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developments for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) Creation of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 stand-alone c++ librar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hird party packages need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timally: Only 11 lines of code necessar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pending on (N)NLO program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s are specified in steering c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nning (also double- or triple- differentiall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 optimiz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ching of interpolation valu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tomatic optimization of grids to phase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parton combinations for different subproces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cified in stee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red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4832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) fastNLO table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rther contributions are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W corrections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ombinations are stored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age of uncertainties soon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EDPDFs or p-Pb collisions also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) Evaluating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 interface in PYTH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y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s to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routi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HAPDF5, LHAPDF6, Hoppet, QCDNUM,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ALPHAS, CRunDec,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mproved speed for flexible-scale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 of 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valu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(even) faster re-evalu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967280" y="5589720"/>
            <a:ext cx="3925800" cy="1159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FastNLO example code in c++ for reading CMS inc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jets (PRL 107 (2011) 132001) with CT10 PDF 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astNLOLHAPDF fnlo("fnl1014.tab","CT10.LHgrid",0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nlo.PrintCrossSections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22C20-B62A-4868-81C8-AA11B96CBA5D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Motivation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9280" y="1015560"/>
            <a:ext cx="87854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(almost) same cross s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, binning, phase space given by experimental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s for a specific analysi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, MSTW, NNPDF, 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and/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etimes NLO predictions can be computed fas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jet cross sections, VB+jets, Drell-Yan,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fastNLO (in use by most PDF fitting group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E45C2-8B0A-4AB3-A47E-FF5BBF04240B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ummary and Outlook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enables fast re-evalution of perturbative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venient for scale or PDF studies (e.g. uncertainti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datory tool for phenomenological analysis (e.g.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o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fi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-independent concept successfully applied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s applicable to a wide range of processes and corre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w tool: ‘fastNLO toolkit’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cilitates creation of tables and interface to other (N)NLO progra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ry flexible cod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few modifications in (N)NLO programs are needed (O(11) lines of cod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de and manual is released soon after confer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ython interface available for reading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-release version of ‘fastNLO toolkit’ is available on requ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re information: http://fastnlo.hepforge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7093080" y="189000"/>
            <a:ext cx="1871640" cy="38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254D9-7BD2-4761-B7F6-4BBA0C450D8F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AE6BF-FCDC-48C9-BB68-0F79B68ADFE6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of flexible scale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clusive jet production in DIS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wo scales are stored in tab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of the j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y function of the two can be used as sca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4832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 can be varied seperatel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oose for scale stud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lor code shows 5% change in cross section w.r.t. to scale factor of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ther scale choices also shown without scale factor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rcRect l="0" t="0" r="33548" b="66634"/>
          <a:stretch/>
        </p:blipFill>
        <p:spPr>
          <a:xfrm>
            <a:off x="971640" y="3470400"/>
            <a:ext cx="6696000" cy="305424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324000" y="1197000"/>
            <a:ext cx="3636720" cy="9316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0482B-31CE-4447-AEA0-1D6DF19F6D5B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Basic working principle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Cross section in hadron-hadron collisions in pQC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ny cross section calculations are time consuming (e.g. je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rong coupling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in order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DFs of two hadr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arton flavor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a,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erturbative coefficent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a,b,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normalization and factorization scales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,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omentum fra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826920" y="1484280"/>
                <a:ext cx="6516720" cy="7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" name=""/>
          <p:cNvSpPr/>
          <p:nvPr/>
        </p:nvSpPr>
        <p:spPr>
          <a:xfrm>
            <a:off x="431640" y="4653000"/>
            <a:ext cx="820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5624640"/>
            <a:ext cx="8497800" cy="36036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 fontScale="95000"/>
          </a:bodyPr>
          <a:p>
            <a:pPr marL="81360" indent="-8136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dea: factorize PDF, </a:t>
            </a:r>
            <a:r>
              <a:rPr b="1" i="1" lang="de-DE" sz="1800" spc="-1" strike="noStrike">
                <a:solidFill>
                  <a:srgbClr val="333399"/>
                </a:solidFill>
                <a:latin typeface="Times New Roman"/>
              </a:rPr>
              <a:t>α</a:t>
            </a:r>
            <a:r>
              <a:rPr b="1" i="1" lang="de-DE" sz="1800" spc="-1" strike="noStrike" baseline="-25000">
                <a:solidFill>
                  <a:srgbClr val="333399"/>
                </a:solidFill>
                <a:latin typeface="Times New Roman"/>
              </a:rPr>
              <a:t>s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and scale dependenc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470560" y="257652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2"/>
                </a:moveTo>
                <a:lnTo>
                  <a:pt x="316" y="22"/>
                </a:lnTo>
                <a:lnTo>
                  <a:pt x="319" y="23"/>
                </a:lnTo>
                <a:lnTo>
                  <a:pt x="320" y="24"/>
                </a:lnTo>
                <a:lnTo>
                  <a:pt x="321" y="25"/>
                </a:lnTo>
                <a:lnTo>
                  <a:pt x="322" y="27"/>
                </a:lnTo>
                <a:lnTo>
                  <a:pt x="321" y="28"/>
                </a:lnTo>
                <a:lnTo>
                  <a:pt x="320" y="30"/>
                </a:lnTo>
                <a:lnTo>
                  <a:pt x="319" y="30"/>
                </a:lnTo>
                <a:lnTo>
                  <a:pt x="31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932520" y="257652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3"/>
                </a:moveTo>
                <a:lnTo>
                  <a:pt x="676" y="23"/>
                </a:lnTo>
                <a:lnTo>
                  <a:pt x="677" y="23"/>
                </a:lnTo>
                <a:lnTo>
                  <a:pt x="680" y="24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30"/>
                </a:lnTo>
                <a:lnTo>
                  <a:pt x="677" y="30"/>
                </a:lnTo>
                <a:lnTo>
                  <a:pt x="67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6939000" y="237456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939000" y="261936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607080" y="2854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9" y="3"/>
                </a:moveTo>
                <a:lnTo>
                  <a:pt x="136" y="171"/>
                </a:lnTo>
                <a:lnTo>
                  <a:pt x="136" y="173"/>
                </a:lnTo>
                <a:lnTo>
                  <a:pt x="136" y="175"/>
                </a:lnTo>
                <a:lnTo>
                  <a:pt x="136" y="177"/>
                </a:lnTo>
                <a:lnTo>
                  <a:pt x="135" y="178"/>
                </a:lnTo>
                <a:lnTo>
                  <a:pt x="133" y="179"/>
                </a:lnTo>
                <a:lnTo>
                  <a:pt x="131" y="179"/>
                </a:lnTo>
                <a:lnTo>
                  <a:pt x="129" y="178"/>
                </a:lnTo>
                <a:lnTo>
                  <a:pt x="128" y="177"/>
                </a:lnTo>
                <a:lnTo>
                  <a:pt x="1" y="8"/>
                </a:lnTo>
                <a:lnTo>
                  <a:pt x="0" y="6"/>
                </a:lnTo>
                <a:lnTo>
                  <a:pt x="0" y="5"/>
                </a:lnTo>
                <a:lnTo>
                  <a:pt x="1" y="3"/>
                </a:lnTo>
                <a:lnTo>
                  <a:pt x="2" y="1"/>
                </a:lnTo>
                <a:lnTo>
                  <a:pt x="4" y="0"/>
                </a:lnTo>
                <a:lnTo>
                  <a:pt x="6" y="0"/>
                </a:lnTo>
                <a:lnTo>
                  <a:pt x="7" y="1"/>
                </a:lnTo>
                <a:lnTo>
                  <a:pt x="9" y="3"/>
                </a:lnTo>
                <a:lnTo>
                  <a:pt x="9" y="3"/>
                </a:lnTo>
                <a:close/>
                <a:moveTo>
                  <a:pt x="148" y="151"/>
                </a:moveTo>
                <a:lnTo>
                  <a:pt x="159" y="210"/>
                </a:lnTo>
                <a:lnTo>
                  <a:pt x="104" y="183"/>
                </a:lnTo>
                <a:lnTo>
                  <a:pt x="148" y="151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</a:path>
            </a:pathLst>
          </a:cu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02640" y="3236760"/>
            <a:ext cx="1407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5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937560" y="3249720"/>
            <a:ext cx="1058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Times New Roman"/>
              </a:rPr>
              <a:t>ˆ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470560" y="419904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3"/>
                </a:moveTo>
                <a:lnTo>
                  <a:pt x="316" y="23"/>
                </a:lnTo>
                <a:lnTo>
                  <a:pt x="319" y="23"/>
                </a:lnTo>
                <a:lnTo>
                  <a:pt x="320" y="24"/>
                </a:lnTo>
                <a:lnTo>
                  <a:pt x="321" y="26"/>
                </a:lnTo>
                <a:lnTo>
                  <a:pt x="322" y="27"/>
                </a:lnTo>
                <a:lnTo>
                  <a:pt x="321" y="29"/>
                </a:lnTo>
                <a:lnTo>
                  <a:pt x="320" y="30"/>
                </a:lnTo>
                <a:lnTo>
                  <a:pt x="319" y="31"/>
                </a:lnTo>
                <a:lnTo>
                  <a:pt x="316" y="33"/>
                </a:lnTo>
                <a:lnTo>
                  <a:pt x="4" y="33"/>
                </a:lnTo>
                <a:lnTo>
                  <a:pt x="2" y="31"/>
                </a:lnTo>
                <a:lnTo>
                  <a:pt x="1" y="30"/>
                </a:lnTo>
                <a:lnTo>
                  <a:pt x="0" y="29"/>
                </a:lnTo>
                <a:lnTo>
                  <a:pt x="0" y="27"/>
                </a:lnTo>
                <a:lnTo>
                  <a:pt x="0" y="26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99280" y="412596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932520" y="420048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2"/>
                </a:moveTo>
                <a:lnTo>
                  <a:pt x="676" y="22"/>
                </a:lnTo>
                <a:lnTo>
                  <a:pt x="677" y="23"/>
                </a:lnTo>
                <a:lnTo>
                  <a:pt x="680" y="23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29"/>
                </a:lnTo>
                <a:lnTo>
                  <a:pt x="677" y="30"/>
                </a:lnTo>
                <a:lnTo>
                  <a:pt x="676" y="32"/>
                </a:lnTo>
                <a:lnTo>
                  <a:pt x="4" y="32"/>
                </a:lnTo>
                <a:lnTo>
                  <a:pt x="2" y="30"/>
                </a:lnTo>
                <a:lnTo>
                  <a:pt x="1" y="29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3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6939000" y="399852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939000" y="424332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201080" y="3166920"/>
            <a:ext cx="633240" cy="182880"/>
          </a:xfrm>
          <a:custGeom>
            <a:avLst/>
            <a:gdLst/>
            <a:ahLst/>
            <a:rect l="l" t="t" r="r" b="b"/>
            <a:pathLst>
              <a:path w="399" h="115">
                <a:moveTo>
                  <a:pt x="3" y="107"/>
                </a:moveTo>
                <a:lnTo>
                  <a:pt x="353" y="20"/>
                </a:lnTo>
                <a:lnTo>
                  <a:pt x="356" y="20"/>
                </a:lnTo>
                <a:lnTo>
                  <a:pt x="357" y="20"/>
                </a:lnTo>
                <a:lnTo>
                  <a:pt x="359" y="21"/>
                </a:lnTo>
                <a:lnTo>
                  <a:pt x="359" y="23"/>
                </a:lnTo>
                <a:lnTo>
                  <a:pt x="359" y="24"/>
                </a:lnTo>
                <a:lnTo>
                  <a:pt x="359" y="26"/>
                </a:lnTo>
                <a:lnTo>
                  <a:pt x="358" y="27"/>
                </a:lnTo>
                <a:lnTo>
                  <a:pt x="356" y="29"/>
                </a:lnTo>
                <a:lnTo>
                  <a:pt x="6" y="115"/>
                </a:lnTo>
                <a:lnTo>
                  <a:pt x="5" y="115"/>
                </a:lnTo>
                <a:lnTo>
                  <a:pt x="2" y="114"/>
                </a:lnTo>
                <a:lnTo>
                  <a:pt x="1" y="113"/>
                </a:lnTo>
                <a:lnTo>
                  <a:pt x="0" y="112"/>
                </a:lnTo>
                <a:lnTo>
                  <a:pt x="0" y="110"/>
                </a:lnTo>
                <a:lnTo>
                  <a:pt x="1" y="108"/>
                </a:lnTo>
                <a:lnTo>
                  <a:pt x="2" y="107"/>
                </a:lnTo>
                <a:lnTo>
                  <a:pt x="3" y="107"/>
                </a:lnTo>
                <a:lnTo>
                  <a:pt x="3" y="107"/>
                </a:lnTo>
                <a:close/>
                <a:moveTo>
                  <a:pt x="339" y="0"/>
                </a:moveTo>
                <a:lnTo>
                  <a:pt x="399" y="13"/>
                </a:lnTo>
                <a:lnTo>
                  <a:pt x="352" y="52"/>
                </a:lnTo>
                <a:lnTo>
                  <a:pt x="339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191360" y="3506760"/>
            <a:ext cx="642960" cy="189000"/>
          </a:xfrm>
          <a:custGeom>
            <a:avLst/>
            <a:gdLst/>
            <a:ahLst/>
            <a:rect l="l" t="t" r="r" b="b"/>
            <a:pathLst>
              <a:path w="405" h="119">
                <a:moveTo>
                  <a:pt x="5" y="1"/>
                </a:moveTo>
                <a:lnTo>
                  <a:pt x="363" y="91"/>
                </a:lnTo>
                <a:lnTo>
                  <a:pt x="364" y="92"/>
                </a:lnTo>
                <a:lnTo>
                  <a:pt x="365" y="93"/>
                </a:lnTo>
                <a:lnTo>
                  <a:pt x="366" y="94"/>
                </a:lnTo>
                <a:lnTo>
                  <a:pt x="366" y="96"/>
                </a:lnTo>
                <a:lnTo>
                  <a:pt x="365" y="98"/>
                </a:lnTo>
                <a:lnTo>
                  <a:pt x="363" y="99"/>
                </a:lnTo>
                <a:lnTo>
                  <a:pt x="362" y="99"/>
                </a:lnTo>
                <a:lnTo>
                  <a:pt x="359" y="99"/>
                </a:lnTo>
                <a:lnTo>
                  <a:pt x="3" y="9"/>
                </a:lnTo>
                <a:lnTo>
                  <a:pt x="1" y="8"/>
                </a:lnTo>
                <a:lnTo>
                  <a:pt x="0" y="7"/>
                </a:lnTo>
                <a:lnTo>
                  <a:pt x="0" y="5"/>
                </a:lnTo>
                <a:lnTo>
                  <a:pt x="0" y="4"/>
                </a:lnTo>
                <a:lnTo>
                  <a:pt x="1" y="2"/>
                </a:lnTo>
                <a:lnTo>
                  <a:pt x="2" y="1"/>
                </a:lnTo>
                <a:lnTo>
                  <a:pt x="3" y="0"/>
                </a:lnTo>
                <a:lnTo>
                  <a:pt x="5" y="1"/>
                </a:lnTo>
                <a:lnTo>
                  <a:pt x="5" y="1"/>
                </a:lnTo>
                <a:close/>
                <a:moveTo>
                  <a:pt x="359" y="67"/>
                </a:moveTo>
                <a:lnTo>
                  <a:pt x="405" y="106"/>
                </a:lnTo>
                <a:lnTo>
                  <a:pt x="345" y="119"/>
                </a:lnTo>
                <a:lnTo>
                  <a:pt x="359" y="6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219800" y="3424320"/>
            <a:ext cx="758880" cy="15840"/>
          </a:xfrm>
          <a:custGeom>
            <a:avLst/>
            <a:gdLst/>
            <a:ahLst/>
            <a:rect l="l" t="t" r="r" b="b"/>
            <a:pathLst>
              <a:path w="478" h="10">
                <a:moveTo>
                  <a:pt x="0" y="0"/>
                </a:moveTo>
                <a:lnTo>
                  <a:pt x="36" y="0"/>
                </a:lnTo>
                <a:lnTo>
                  <a:pt x="36" y="10"/>
                </a:lnTo>
                <a:lnTo>
                  <a:pt x="0" y="10"/>
                </a:lnTo>
                <a:lnTo>
                  <a:pt x="0" y="0"/>
                </a:lnTo>
                <a:close/>
                <a:moveTo>
                  <a:pt x="63" y="0"/>
                </a:moveTo>
                <a:lnTo>
                  <a:pt x="99" y="0"/>
                </a:lnTo>
                <a:lnTo>
                  <a:pt x="99" y="10"/>
                </a:lnTo>
                <a:lnTo>
                  <a:pt x="63" y="10"/>
                </a:lnTo>
                <a:lnTo>
                  <a:pt x="63" y="0"/>
                </a:lnTo>
                <a:close/>
                <a:moveTo>
                  <a:pt x="126" y="0"/>
                </a:moveTo>
                <a:lnTo>
                  <a:pt x="163" y="0"/>
                </a:lnTo>
                <a:lnTo>
                  <a:pt x="163" y="10"/>
                </a:lnTo>
                <a:lnTo>
                  <a:pt x="126" y="10"/>
                </a:lnTo>
                <a:lnTo>
                  <a:pt x="126" y="0"/>
                </a:lnTo>
                <a:close/>
                <a:moveTo>
                  <a:pt x="190" y="0"/>
                </a:moveTo>
                <a:lnTo>
                  <a:pt x="226" y="0"/>
                </a:lnTo>
                <a:lnTo>
                  <a:pt x="226" y="10"/>
                </a:lnTo>
                <a:lnTo>
                  <a:pt x="190" y="10"/>
                </a:lnTo>
                <a:lnTo>
                  <a:pt x="190" y="0"/>
                </a:lnTo>
                <a:close/>
                <a:moveTo>
                  <a:pt x="253" y="0"/>
                </a:moveTo>
                <a:lnTo>
                  <a:pt x="288" y="0"/>
                </a:lnTo>
                <a:lnTo>
                  <a:pt x="288" y="10"/>
                </a:lnTo>
                <a:lnTo>
                  <a:pt x="253" y="10"/>
                </a:lnTo>
                <a:lnTo>
                  <a:pt x="253" y="0"/>
                </a:lnTo>
                <a:close/>
                <a:moveTo>
                  <a:pt x="315" y="0"/>
                </a:moveTo>
                <a:lnTo>
                  <a:pt x="352" y="0"/>
                </a:lnTo>
                <a:lnTo>
                  <a:pt x="352" y="10"/>
                </a:lnTo>
                <a:lnTo>
                  <a:pt x="315" y="10"/>
                </a:lnTo>
                <a:lnTo>
                  <a:pt x="315" y="0"/>
                </a:lnTo>
                <a:close/>
                <a:moveTo>
                  <a:pt x="379" y="0"/>
                </a:moveTo>
                <a:lnTo>
                  <a:pt x="415" y="0"/>
                </a:lnTo>
                <a:lnTo>
                  <a:pt x="415" y="10"/>
                </a:lnTo>
                <a:lnTo>
                  <a:pt x="379" y="10"/>
                </a:lnTo>
                <a:lnTo>
                  <a:pt x="379" y="0"/>
                </a:lnTo>
                <a:close/>
                <a:moveTo>
                  <a:pt x="442" y="0"/>
                </a:moveTo>
                <a:lnTo>
                  <a:pt x="478" y="0"/>
                </a:lnTo>
                <a:lnTo>
                  <a:pt x="478" y="10"/>
                </a:lnTo>
                <a:lnTo>
                  <a:pt x="442" y="10"/>
                </a:lnTo>
                <a:lnTo>
                  <a:pt x="442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607080" y="3673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1" y="202"/>
                </a:moveTo>
                <a:lnTo>
                  <a:pt x="128" y="33"/>
                </a:lnTo>
                <a:lnTo>
                  <a:pt x="129" y="32"/>
                </a:lnTo>
                <a:lnTo>
                  <a:pt x="131" y="31"/>
                </a:lnTo>
                <a:lnTo>
                  <a:pt x="133" y="32"/>
                </a:lnTo>
                <a:lnTo>
                  <a:pt x="135" y="32"/>
                </a:lnTo>
                <a:lnTo>
                  <a:pt x="136" y="33"/>
                </a:lnTo>
                <a:lnTo>
                  <a:pt x="136" y="35"/>
                </a:lnTo>
                <a:lnTo>
                  <a:pt x="136" y="38"/>
                </a:lnTo>
                <a:lnTo>
                  <a:pt x="136" y="39"/>
                </a:lnTo>
                <a:lnTo>
                  <a:pt x="9" y="208"/>
                </a:lnTo>
                <a:lnTo>
                  <a:pt x="7" y="209"/>
                </a:lnTo>
                <a:lnTo>
                  <a:pt x="6" y="210"/>
                </a:lnTo>
                <a:lnTo>
                  <a:pt x="4" y="210"/>
                </a:lnTo>
                <a:lnTo>
                  <a:pt x="2" y="209"/>
                </a:lnTo>
                <a:lnTo>
                  <a:pt x="1" y="208"/>
                </a:lnTo>
                <a:lnTo>
                  <a:pt x="0" y="205"/>
                </a:lnTo>
                <a:lnTo>
                  <a:pt x="0" y="204"/>
                </a:lnTo>
                <a:lnTo>
                  <a:pt x="1" y="202"/>
                </a:lnTo>
                <a:lnTo>
                  <a:pt x="1" y="202"/>
                </a:lnTo>
                <a:close/>
                <a:moveTo>
                  <a:pt x="104" y="27"/>
                </a:moveTo>
                <a:lnTo>
                  <a:pt x="159" y="0"/>
                </a:lnTo>
                <a:lnTo>
                  <a:pt x="148" y="59"/>
                </a:lnTo>
                <a:lnTo>
                  <a:pt x="104" y="2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299280" y="247824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5D8FC-815E-4395-816B-616DCB3620C9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076720" y="3608280"/>
            <a:ext cx="3888000" cy="2121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5327640" y="108900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The fastNLO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5005440" cy="52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t of n discrete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's being equidistant in a function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ake set of Eigenfun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(x)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around 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ilar interpolation procedure also for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nodes in x and scales are stored together in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wo different observables can be chosen as scale in one tab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1008000" y="3608280"/>
                <a:ext cx="280836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2" name=""/>
          <p:cNvSpPr/>
          <p:nvPr/>
        </p:nvSpPr>
        <p:spPr>
          <a:xfrm>
            <a:off x="324000" y="5877000"/>
            <a:ext cx="8497800" cy="649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nvolution integrals become discrete su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=&gt; Values of perturbative coefficents can be stored in a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067BD-D9E7-4465-8FD0-7D86D812D495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alculations with fastNLO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bl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become more difficult in NNLO than in 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rrent available implementations for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NLO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Renormal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applying R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 LO matrix element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s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ln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(c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)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, APPLgrid 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(</a:t>
            </a:r>
            <a:r>
              <a:rPr b="0" i="1" lang="fr-FR" sz="1000" spc="-1" strike="noStrike">
                <a:solidFill>
                  <a:srgbClr val="808080"/>
                </a:solidFill>
                <a:latin typeface="Tahoma"/>
                <a:ea typeface="Arial"/>
              </a:rPr>
              <a:t>EPJ C (2010) 66: 503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)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tore scale-independent weights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Factor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LO DGLAP splitting functions using HOPPET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APPLgrid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coefficients for desired scale factors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variations for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-posteriori renormalization scale variations become more complic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LO splitting functions are needed for factorization scale vari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culations become slow again =&gt; Not desired for fast repeated calcul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3456000" y="3033720"/>
                <a:ext cx="2930400" cy="2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DE876-C44F-4445-ADCB-A300305ABCF2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lexible-scale implement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orage of scale-independent weights enable full scale flexibility also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itional logs in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weights: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order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+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contribu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varie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ndependently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by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a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ime-consuming ‘re-calculation’ of splitting functions in NLO necess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small increase in amount of stored coeffici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mplement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different observables can be used for the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,m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  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|y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 func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thos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 observ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an be used for calculating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50920" y="609300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exible-scale concept‘: Best choice for performant NNLO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576360" y="1616040"/>
            <a:ext cx="7886160" cy="661320"/>
            <a:chOff x="576360" y="1616040"/>
            <a:chExt cx="7886160" cy="661320"/>
          </a:xfrm>
        </p:grpSpPr>
        <mc:AlternateContent>
          <mc:Choice xmlns:a14="http://schemas.microsoft.com/office/drawing/2010/main" Requires="a14">
            <p:sp>
              <p:nvSpPr>
                <p:cNvPr id="90" name=""/>
                <p:cNvSpPr txBox="1"/>
                <p:nvPr/>
              </p:nvSpPr>
              <p:spPr>
                <a:xfrm>
                  <a:off x="576360" y="1616040"/>
                  <a:ext cx="7886160" cy="344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ω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R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FF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F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91" name=""/>
            <p:cNvSpPr/>
            <p:nvPr/>
          </p:nvSpPr>
          <p:spPr>
            <a:xfrm>
              <a:off x="4246920" y="1976400"/>
              <a:ext cx="417888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937040" y="1940040"/>
              <a:ext cx="2360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additional log’s in N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667520" y="1976400"/>
              <a:ext cx="24336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284200" y="1940040"/>
              <a:ext cx="2380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log’s for 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D5E27-FF1C-413B-B114-D05DC312D15F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003640" y="1486080"/>
            <a:ext cx="4043520" cy="40431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0920" y="1125360"/>
            <a:ext cx="493236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plication of flexible-scale concept to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to DiffTop cod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T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for calculation of heavy quark production within threshold resummation formalism in Mellin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alk by M.Guzz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erential ttbar cross sections in approx.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nefit in spe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calculation O(days-week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stNLO calculation O(&lt;1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facilitates study of PDF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ly including PDF uncertainti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62 re-calculations are requi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651640" y="3403440"/>
            <a:ext cx="169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limin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talk by M. Guzz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508720" y="5516640"/>
            <a:ext cx="363528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6600"/>
                </a:solidFill>
                <a:latin typeface="Arial"/>
              </a:rPr>
              <a:t>786 repeated calculations needed including variation of </a:t>
            </a:r>
            <a:r>
              <a:rPr b="1" i="1" lang="en-US" sz="1600" spc="-1" strike="noStrike">
                <a:solidFill>
                  <a:srgbClr val="cc6600"/>
                </a:solidFill>
                <a:latin typeface="Times New Roman"/>
              </a:rPr>
              <a:t>m</a:t>
            </a:r>
            <a:r>
              <a:rPr b="1" i="1" lang="en-US" sz="1600" spc="-1" strike="noStrike" baseline="-25000">
                <a:solidFill>
                  <a:srgbClr val="cc66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82EEA-2626-421F-9DB9-6C3AA9825DC6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788000" cy="53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thout recalculating the coefficien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the scales within milliseco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so choice of the scales possibl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re:  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/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=  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(p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y,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56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Variation of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a third hard scale in this pro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not factorized in the current appro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-10944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eparate fastNLO tables have been computed for different values of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ast recomputation of cross sections for a given measurement enables application of time-consuming (N)NLO calculations to PDF and/or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fi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arge gluon uncertainties at high-x can be reduced using ttbar cross sectio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0A2B3-33FB-4D0C-BCEC-34146DEBB14C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ccuracy of fastNLO interpol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58560" y="944280"/>
            <a:ext cx="525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cross sections calcuated with DiffTop standalone compared to fast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accuracy depends on number of nodes and on chosen interpolation kern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kernels u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contribution order by order separate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 probe x-range of 2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 x &lt;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igh x-range has more distinct PDF shap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/DiffTop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ect agreement within numerical precision reachable (O(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6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has same accuracy as 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18 nodes agreement better than 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idental ‘interference effects’ with PDF grid may cause small fluctuations O(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349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&gt; Numerical uncertainty of PDF gri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0920" y="5950080"/>
            <a:ext cx="5041800" cy="647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stNLO interpolation does not introduce numerical bi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726160" y="822240"/>
            <a:ext cx="3222720" cy="27748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724360" y="3701880"/>
            <a:ext cx="3224520" cy="27752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7616160" y="300528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616160" y="588492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A8839-459C-476B-B8AF-FA9375DEF0A7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5-02-17T12:22:03Z</dcterms:modified>
  <cp:revision>667</cp:revision>
  <dc:subject/>
  <dc:title>My Unfolding</dc:title>
</cp:coreProperties>
</file>