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10.wmf" ContentType="image/x-wmf"/>
  <Override PartName="/ppt/media/image2.png" ContentType="image/png"/>
  <Override PartName="/ppt/media/image5.wmf" ContentType="image/x-wmf"/>
  <Override PartName="/ppt/media/image4.wmf" ContentType="image/x-wmf"/>
  <Override PartName="/ppt/media/image25.wmf" ContentType="image/x-wmf"/>
  <Override PartName="/ppt/media/image24.wmf" ContentType="image/x-wmf"/>
  <Override PartName="/ppt/media/image23.png" ContentType="image/png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F6E19-96D6-4FC8-863E-2FB6F7980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3D73B-9C18-4447-A859-2E5E89C28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CDC7C-03C6-412A-8E83-063AEBAD1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36071-AA78-4B7A-A419-94ECF3A65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ED1D0-8A44-466F-A353-EAE49E367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3AEC8-5C9E-4F56-A9C8-F847679FD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151DE-349A-4D0F-A625-F0B9FEA82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F8F90-8440-4E28-B851-B4F05000F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A817E-F4FB-4690-AF40-2BEACD206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7D5AE-3EE8-4492-8481-17369A1FA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45D49-6031-414D-8E02-DF9014D0A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19CDD-360D-4C0D-97D9-C0C23B8B0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9930C-EA3F-4929-96ED-C28C708351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884160"/>
            <a:ext cx="9144000" cy="7746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11280" y="54936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astNLO for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etproduction in Diffractive DIS</a:t>
            </a:r>
            <a:br>
              <a:rPr sz="3200"/>
            </a:br>
            <a:br>
              <a:rPr sz="32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. Britzger, F. Ceccopie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934000" y="4437000"/>
            <a:ext cx="3129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1 Collaboration Meeting 201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PI Muni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ptember 12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cenario: Diffractive Dijets dQ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19440" y="836640"/>
            <a:ext cx="4229280" cy="41022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rcRect l="0" t="4914" r="0" b="0"/>
          <a:stretch/>
        </p:blipFill>
        <p:spPr>
          <a:xfrm>
            <a:off x="179280" y="839880"/>
            <a:ext cx="3996000" cy="431784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132000" y="765000"/>
            <a:ext cx="2665440" cy="9352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ed dashed lines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should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be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4920" y="4868640"/>
            <a:ext cx="851220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mall differen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ic (but wrong) nlojet++ interpolation of NLO subtraction te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-finder recombination scheme (~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t (but very fine) xIP (and dxIP) slicing (~0-2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ited statistic (2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6·106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s. very high statistic (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10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(&lt;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71F96-E5DE-4551-83A8-2C463052CD00}" type="slidenum">
              <a:t>10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659480" y="3594240"/>
            <a:ext cx="4484520" cy="321948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62080" y="3933720"/>
            <a:ext cx="438120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near or logarithmic slicing of xIP 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are availa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in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og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any oth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d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Slicing( 30, xp, dxp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656240" y="549360"/>
            <a:ext cx="4487760" cy="32209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684360" y="735120"/>
            <a:ext cx="3311280" cy="321156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slicing is preferr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068200" y="3032280"/>
            <a:ext cx="1733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log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10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(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89000" y="30322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533360" y="60436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F87B5-367B-41A8-B8E3-8B1537E5A6F6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vergence of slic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3961080" cy="43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udy cross section dependence on number of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and logarithmic slic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vergence after 10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garithmic slicing seems to converge fast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t one must know lowest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Otherwise bias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uctu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ise from discret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nterpolation within fast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pite (simple) 'smoothing' at upper integration interval at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~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,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211640" y="1074600"/>
            <a:ext cx="5184720" cy="37227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95280" y="5516640"/>
            <a:ext cx="83534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ry fast convergence of cross s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stNLO accuracy (for this table) could be estimated to &lt; 0.25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7480" indent="-181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uracy smaller than cut on log(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,m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for log sli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95954-9ED7-4769-93F9-9A6E2824DB81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about d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700360" y="1989000"/>
            <a:ext cx="3763800" cy="2902320"/>
          </a:xfrm>
          <a:prstGeom prst="rect">
            <a:avLst/>
          </a:prstGeom>
          <a:noFill/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arning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le through restricting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 inter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≠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higher or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arton momentum fraction compared to Hadron (Pomer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B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 (1+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/Q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23F0E-114C-43EB-ABF1-4B126D1FDB51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5329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ew method of calculating diffractive jet-cross sections was develop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code was developed and intensively test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for jet production in diffractive DIS is ready to 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se it for your analysis or for fits of diffractive PDF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651640" y="3357720"/>
            <a:ext cx="3097080" cy="30034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940360" y="981000"/>
            <a:ext cx="2808360" cy="2365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294CE-FF57-4993-A52A-08259336DC2C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987640" y="519120"/>
            <a:ext cx="3129120" cy="35575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6012000" y="692280"/>
            <a:ext cx="3139920" cy="33084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34920" y="700200"/>
            <a:ext cx="3024360" cy="32274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71280" y="3932280"/>
            <a:ext cx="2957760" cy="28684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3132000" y="3944880"/>
            <a:ext cx="2957760" cy="28688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6"/>
          <a:stretch/>
        </p:blipFill>
        <p:spPr>
          <a:xfrm>
            <a:off x="6151680" y="3944880"/>
            <a:ext cx="2957400" cy="286884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44280"/>
            <a:ext cx="82072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8399A-F2D4-4BA3-9AE6-508095E29945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8B442-93F1-446C-94C6-90FEDD275B8A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DB55A-B4C6-4370-BB28-0E2FE097A238}" type="slidenum">
              <a:t>17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5C267-9E08-4480-8B2B-D65E101EA0E1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A25CF-9DCB-405D-AF37-834FFCCAF065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98320" y="1268280"/>
            <a:ext cx="79344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tion of jet cross sections in higher orders are time consu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ten: Calculations have to be repeated for same measurement but different  PDFs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e.g. PDF uncertainties, scale variations, etc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sion of jet-data in a fit (e.g. PDF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requires very fast recomputation of almost the same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00000" y="4503600"/>
            <a:ext cx="734400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846520" y="5445000"/>
            <a:ext cx="3454200" cy="7048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125800" y="558972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D23A7-DA98-49AC-82FA-EDB8050FC5C5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D171F-84C7-4F5B-A723-71DD564DA58D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9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A727F-7D33-4703-BC2F-394AD2D51B7B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CADDD-B64C-4DD2-B7CB-D0041A1072D8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620640"/>
            <a:ext cx="87948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56520" indent="-5652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t-production cross section in D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duce interpolation kernels for 'x' using Eigenfunctions 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1692360" y="1339920"/>
                <a:ext cx="500220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j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x</m:t>
                                </m:r>
                              </m:den>
                            </m:f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2411280" y="2708280"/>
                <a:ext cx="288144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250920" y="4005360"/>
            <a:ext cx="8642160" cy="15026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can calculate once a table with perturbative coeff. using e.g. nlojet+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oss section is then just a su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 all interpolation no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4356000" y="4611600"/>
                <a:ext cx="439128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IS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56" name=""/>
          <p:cNvSpPr/>
          <p:nvPr/>
        </p:nvSpPr>
        <p:spPr>
          <a:xfrm>
            <a:off x="250920" y="5661000"/>
            <a:ext cx="864216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re features of fastNL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Scale interpolation, PDF reweighting, scale independent contr., etc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32985-3BB5-45C4-A9A0-44B0A198EE52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508720" y="1144440"/>
            <a:ext cx="3240000" cy="25005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395280" y="153360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1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with reduced hadron energy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084720" y="3789360"/>
            <a:ext cx="2509920" cy="25923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7095960" y="393372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4B490-6575-411B-92A6-AA5BF4F6C44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6840" y="112500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06388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5286240" y="386388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05600" y="320184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1846440"/>
            <a:ext cx="4751280" cy="35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53640" y="343044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354640"/>
            <a:ext cx="81356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lculation of only one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ery high statistical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limitations in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68360" y="405936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1FD3B-2E38-4E9E-A908-7AB9AAFD188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of of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211640" y="1494000"/>
            <a:ext cx="4897440" cy="35193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95280" y="5589720"/>
            <a:ext cx="8353440" cy="737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erfect agre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turbative coefficients are identical for each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50560" y="837720"/>
            <a:ext cx="432108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two cross section calculations for one single fixed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lice at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= 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-1.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ff0066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Cross section contribution with reduced CME (standard slicing method)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Hadron = Pomer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h 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·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Calculate matrix elements using proton energy (new method)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Hadron = Proton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z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cross section contributi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hadr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adron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/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&lt; 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hadr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eing the momentum fraction of the parton wrt. to the incoming hadron (Pomeron) momentu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AD7F9-2A5D-44E4-9A8D-33E1CEE36DB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79280" y="836280"/>
            <a:ext cx="712944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d number of x-nodes in low-x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grate x wrt.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ulae calculated properly by Federico 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690480" y="3357720"/>
                <a:ext cx="6977160" cy="105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81" name=""/>
          <p:cNvSpPr/>
          <p:nvPr/>
        </p:nvSpPr>
        <p:spPr>
          <a:xfrm>
            <a:off x="179280" y="4365720"/>
            <a:ext cx="835200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integration runs over discrete x-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most x-node is weighted according to its range inside/outside of the integration interv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602136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E29AC-D034-4AC3-9E73-DDE7A667031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example for pre-calculated fastNLO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1280" y="1052640"/>
            <a:ext cx="7921440" cy="243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H1 diffractive dijets dP*_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Eur.Phys.J. C70 (2010) 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astNLODiffH12006FitB fnlodiff( "fnhd1012.tab"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SetXPomLinSlicing( 30, 0.0, 0.1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vector&lt;double&gt;  xs = fnlodiff.GetDiffCrossSection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ptional printo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11280" y="5799240"/>
            <a:ext cx="7921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tty easy to use (if fastNLO table is already calculat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11280" y="3716280"/>
            <a:ext cx="7921440" cy="17694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utput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 This is a single-differential table in p*_T,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 ---  p*_T,1  ---        - Bin -       -- XS-FNLO 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4.000 -     6.500     0          9.4173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6.500 -     8.500     1          6.6364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8.500 -    12.000     2          1.6610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B8832-3C66-44E0-BF14-1275EBEDD845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Scale st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211640" y="836640"/>
            <a:ext cx="4680000" cy="4540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53733-7C12-4851-99FF-52758A863CC2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10-17T10:05:57Z</dcterms:modified>
  <cp:revision>444</cp:revision>
  <dc:subject/>
  <dc:title>My Unfolding</dc:title>
</cp:coreProperties>
</file>