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wmf" ContentType="image/x-wmf"/>
  <Override PartName="/ppt/media/image1.png" ContentType="image/png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19.png" ContentType="image/png"/>
  <Override PartName="/ppt/media/image20.png" ContentType="image/png"/>
  <Override PartName="/ppt/media/image18.wmf" ContentType="image/x-wmf"/>
  <Override PartName="/ppt/media/image2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2.png" ContentType="image/png"/>
  <Override PartName="/ppt/media/image26.wmf" ContentType="image/x-wmf"/>
  <Override PartName="/ppt/media/image3.wmf" ContentType="image/x-wmf"/>
  <Override PartName="/ppt/media/image33.wmf" ContentType="image/x-wmf"/>
  <Override PartName="/ppt/media/image14.png" ContentType="image/png"/>
  <Override PartName="/ppt/media/image9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46.wmf" ContentType="image/x-wmf"/>
  <Override PartName="/ppt/media/image36.wmf" ContentType="image/x-wmf"/>
  <Override PartName="/ppt/media/image37.png" ContentType="image/png"/>
  <Override PartName="/ppt/media/image42.wmf" ContentType="image/x-wmf"/>
  <Override PartName="/ppt/media/image31.wmf" ContentType="image/x-wmf"/>
  <Override PartName="/ppt/media/image43.wmf" ContentType="image/x-wmf"/>
  <Override PartName="/ppt/media/image32.wmf" ContentType="image/x-wmf"/>
  <Override PartName="/ppt/media/image7.wmf" ContentType="image/x-wmf"/>
  <Override PartName="/ppt/media/image44.wmf" ContentType="image/x-wmf"/>
  <Override PartName="/ppt/media/image45.wmf" ContentType="image/x-wmf"/>
  <Override PartName="/ppt/media/image13.wmf" ContentType="image/x-wmf"/>
  <Override PartName="/ppt/media/image40.png" ContentType="image/png"/>
  <Override PartName="/ppt/media/image38.wmf" ContentType="image/x-wmf"/>
  <Override PartName="/ppt/media/image8.wmf" ContentType="image/x-wmf"/>
  <Override PartName="/ppt/media/image12.wmf" ContentType="image/x-wmf"/>
  <Override PartName="/ppt/media/image27.png" ContentType="image/png"/>
  <Override PartName="/ppt/media/image30.wmf" ContentType="image/x-wmf"/>
  <Override PartName="/ppt/media/image10.png" ContentType="image/png"/>
  <Override PartName="/ppt/media/image28.wmf" ContentType="image/x-wmf"/>
  <Override PartName="/ppt/media/image6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B0B17-7752-4853-9443-136F96D43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93ACE-4589-4D9E-99BE-5376915C6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B4AA3-F18A-4AD5-99D6-3BEC596C6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126A6-96DE-48B9-80AB-2CC7E34D1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9B162-A14B-4015-92EE-44D786CC0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93DA3-5E09-4473-8964-961D9ED45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CF1FD-1AE3-4757-9646-7B8B257B6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E38BE-CA6C-4726-A602-989F58774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7C2DA-86C5-4C02-9EB9-A35462036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A430A-18C6-48EB-968B-1AD38ECC5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CFFF6-7F39-44C0-A31E-141B7822E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24409-2C4D-4C34-B7F9-3C87B1877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3039D-8A5A-451A-B825-C095228C77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26.wmf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image" Target="../media/image32.wmf"/><Relationship Id="rId5" Type="http://schemas.openxmlformats.org/officeDocument/2006/relationships/image" Target="../media/image33.wmf"/><Relationship Id="rId6" Type="http://schemas.openxmlformats.org/officeDocument/2006/relationships/image" Target="../media/image18.wmf"/><Relationship Id="rId7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png"/><Relationship Id="rId3" Type="http://schemas.openxmlformats.org/officeDocument/2006/relationships/image" Target="../media/image38.wmf"/><Relationship Id="rId4" Type="http://schemas.openxmlformats.org/officeDocument/2006/relationships/image" Target="../media/image39.wmf"/><Relationship Id="rId5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41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image" Target="../media/image43.wmf"/><Relationship Id="rId3" Type="http://schemas.openxmlformats.org/officeDocument/2006/relationships/image" Target="../media/image44.wmf"/><Relationship Id="rId4" Type="http://schemas.openxmlformats.org/officeDocument/2006/relationships/image" Target="../media/image45.wmf"/><Relationship Id="rId5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84464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fastNLO Collaboration</a:t>
            </a:r>
            <a:br>
              <a:rPr sz="2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niel Britz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Thomas Kluge, Klaus Rabbertz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d Stober, Markus Wobisch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DESY, Liverpool, KIT, KIT, Louisiana Tec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332000" y="1052640"/>
            <a:ext cx="5478480" cy="1117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446520" y="1452600"/>
            <a:ext cx="85752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Arial"/>
              </a:rPr>
              <a:t>v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17280" y="4651200"/>
            <a:ext cx="1748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CD@LHC 2012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gust 23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exible table format in fastNLO 2.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417672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mat forese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Fixed orders (LO, NLO, NNLO,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hreshold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-loop for inclusive jets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lectroweak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w physics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rrection fa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n-perturbative corre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luding correlated and uncorrelated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rrelation matri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version tool for v1.4 tab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0" y="1341360"/>
            <a:ext cx="4362480" cy="4464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7162560" y="1179360"/>
            <a:ext cx="183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CMS Note-2011-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124A3-88E1-480B-B6A4-B1259C993335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20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 flexibility in fastNLO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95280" y="844200"/>
            <a:ext cx="82296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beyond LO have 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Scale dependen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n be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factoriz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1187280" y="2332080"/>
                <a:ext cx="595656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1187280" y="1197000"/>
                <a:ext cx="396108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LO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95280" y="3932280"/>
            <a:ext cx="822960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rbitrary valu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- or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unctio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functions of multiple vari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.g.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y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nal scale can be chosen to be any function of bo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1268280" y="4678200"/>
                <a:ext cx="21607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→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5" name=""/>
          <p:cNvSpPr/>
          <p:nvPr/>
        </p:nvSpPr>
        <p:spPr>
          <a:xfrm>
            <a:off x="468360" y="573408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an be functions of multiple 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699080" y="4713120"/>
                <a:ext cx="3346200" cy="3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g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m>
                      <m:mr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5</m:t>
                          </m:r>
                          <m:r>
                            <m:t xml:space="preserve">⋅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or</m:t>
                          </m:r>
                        </m:e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  <m:r>
                            <m:t xml:space="preserve">⋅</m:t>
                          </m:r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3</m:t>
                              </m:r>
                              <m:r>
                                <m:t xml:space="preserve">y</m:t>
                              </m:r>
                            </m:sup>
                          </m:sSup>
                        </m:e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107" name=""/>
          <p:cNvSpPr/>
          <p:nvPr/>
        </p:nvSpPr>
        <p:spPr>
          <a:xfrm>
            <a:off x="468360" y="314172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individual scal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depend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effic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FA20A-0AA1-4205-BB26-E977E97FECAF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Features for Sc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1640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77040" indent="-77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functions of multiple observ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for DIS jet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observables are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ales can be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0.8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0.3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+ Q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·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7040" indent="-77040"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Independent scale variations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f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re po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×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×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19480" t="26236" r="27956" b="13622"/>
          <a:stretch/>
        </p:blipFill>
        <p:spPr>
          <a:xfrm>
            <a:off x="4788000" y="981000"/>
            <a:ext cx="4248000" cy="38894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 rot="20744400">
            <a:off x="6958800" y="4580640"/>
            <a:ext cx="1942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2335800">
            <a:off x="4430880" y="4263840"/>
            <a:ext cx="1925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6200000">
            <a:off x="4060440" y="1996920"/>
            <a:ext cx="10508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[pb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4000" y="57340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ility for studies of scale dependen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4C07F-5C1D-4070-B855-922CBA3989E9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490920" y="3924360"/>
            <a:ext cx="5616720" cy="19526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3492360" y="1862280"/>
            <a:ext cx="5616720" cy="195264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50920" y="43920"/>
            <a:ext cx="8642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Study: Scale studies for ATLAS Dijets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j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52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9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gt; and y* (or 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,ma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y*) are stored as scale variables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s can b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any functi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f = f(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50920" y="2060640"/>
            <a:ext cx="3887640" cy="38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y* is a fixed factor per y*-b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Differentialy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y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siblity to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var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arameter '0.3'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ul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y functions (e.g. cosh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e.g. find optimal sca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á la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FAC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P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1011240" y="2739960"/>
                <a:ext cx="23432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,max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1114560" y="532440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e>
                    </m:d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395280" y="60148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possiblites to study the best inclusion of y* into the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FF6C8-99A4-4532-BDDE-48D36BCBD918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18600" y="6237360"/>
            <a:ext cx="232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fastNLO, arXiv:1109:13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9640" y="43920"/>
            <a:ext cx="80647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/Theory Comparision of Jet Cross S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36007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rge number of calculations are available at</a:t>
            </a:r>
            <a:br>
              <a:rPr sz="1800"/>
            </a:b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astnlo.hepforge.or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verview of inclusive je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R @ RH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and ZEUS @ H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DF and D0 @ Tevat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MS and ATLAS @ LH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/theory comparis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including threshold correction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(2-loop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635280" y="909720"/>
            <a:ext cx="5300640" cy="5832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97409-FAD9-4F76-B0EA-FEAF78F76592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50920" y="836280"/>
            <a:ext cx="720072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-dependence of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et production does not distinguish between quark flav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identify four subprocesses (qq, gg, gq, q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wo x-values: We stud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event contributes to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07640" y="3068640"/>
            <a:ext cx="338436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MS inclusive jet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1" lang="en-US" sz="1400" spc="-1" strike="noStrike">
                <a:solidFill>
                  <a:srgbClr val="ff9900"/>
                </a:solidFill>
                <a:latin typeface="Arial"/>
              </a:rPr>
              <a:t>PhysRevLett. 107.13200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0 &lt; |y| &lt; 2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33 &lt;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&lt; 153 G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rcRect l="8518" t="29085" r="14845" b="7502"/>
          <a:stretch/>
        </p:blipFill>
        <p:spPr>
          <a:xfrm>
            <a:off x="2700360" y="2457360"/>
            <a:ext cx="6192720" cy="32036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395280" y="5972040"/>
            <a:ext cx="8424720" cy="3708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in in forward region probes two separated x-ra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230160" y="357192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gg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205800" y="393228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Arial"/>
              </a:rPr>
              <a:t>qq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FA7E0-9F23-403D-9D9C-305A74F11461}" type="slidenum">
              <a:t>1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: 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5360" y="1196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5435640" y="1352520"/>
            <a:ext cx="3529080" cy="27241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185760" y="1628640"/>
                <a:ext cx="515772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38" name=""/>
          <p:cNvSpPr/>
          <p:nvPr/>
        </p:nvSpPr>
        <p:spPr>
          <a:xfrm>
            <a:off x="324000" y="3325680"/>
            <a:ext cx="532764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 </a:t>
            </a:r>
            <a:r>
              <a:rPr b="1" lang="de-DE" sz="14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eds 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689040" y="4964040"/>
                <a:ext cx="553392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B2EAE-5489-49E0-BF9F-1894789CF194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6840" y="126792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20680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5286240" y="400680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005600" y="334476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8360" y="1989000"/>
            <a:ext cx="4751280" cy="35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453640" y="357336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ion of only a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68360" y="436572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EADE2-7121-4C52-BE0A-147621671191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429080" y="981000"/>
            <a:ext cx="4714920" cy="338616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79280" y="1054080"/>
            <a:ext cx="446400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reased number of x-nod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low-x reg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grate over x wrt.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733320" y="3933720"/>
                <a:ext cx="6977160" cy="105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53" name=""/>
          <p:cNvSpPr/>
          <p:nvPr/>
        </p:nvSpPr>
        <p:spPr>
          <a:xfrm>
            <a:off x="190440" y="4941720"/>
            <a:ext cx="8352000" cy="15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E13AB-C8DC-4C20-BF46-537D718BED40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Diffractive PDF f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284720" y="836640"/>
            <a:ext cx="4859280" cy="471168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D9D85-D7DE-49AE-AC71-DEA1A7CC4421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78487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features of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ralized concept in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 application of flexible scale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E2F4E-62AF-4B28-A1D2-5A31E1E7624D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78920" y="909360"/>
            <a:ext cx="5545080" cy="53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co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ode download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+ and Fortran code (No further dependenci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calculations available for all experimen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, CMS, CDF, D0, H1, ZEUS, ST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features in v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technical improv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ble format forsees different physics contribu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'Flexible scale'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oose composition of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and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Vary ren./fact. scales independentl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Scale variations in any order without recalculations or integr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ffractive jet production in DI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w concept develop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ady to use in DPDF f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6084720" y="4765680"/>
            <a:ext cx="2159280" cy="20923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5651640" y="3573360"/>
            <a:ext cx="3168360" cy="11001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5896080" y="189000"/>
            <a:ext cx="3011400" cy="331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821C4-50C1-46C0-8D75-70A147F3AF11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release s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0920" y="2492280"/>
            <a:ext cx="4608360" cy="2449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New release of C++ and fortran code within the next week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Many new calculation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LHC, Tevatron, HERA, …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Diffractive DIS code and table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5667480" y="2349360"/>
            <a:ext cx="3476520" cy="450864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3851280" y="907920"/>
            <a:ext cx="4033800" cy="936720"/>
          </a:xfrm>
          <a:prstGeom prst="cloudCallout">
            <a:avLst>
              <a:gd name="adj1" fmla="val 25601"/>
              <a:gd name="adj2" fmla="val 136439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507920" y="1190520"/>
            <a:ext cx="25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astnlo.hepforge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B7A13-1AFB-429E-BABA-E7FAF998DE3A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00360" y="2997360"/>
            <a:ext cx="43923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1258920" y="0"/>
            <a:ext cx="4199040" cy="5445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A78F2-3403-4A60-BFF5-02E5E8AEAE82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Prec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483552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ee Paramet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scale 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Affect the interpolation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w feature in v2.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exible 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x-nodes chosen depending on x-r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arison vs. 'plain' NLOJet++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bitrary precision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O(MB) tables, reach better than 1 per mi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4859280" y="1820880"/>
            <a:ext cx="4067280" cy="39132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7738920" y="305928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O(10</a:t>
            </a:r>
            <a:r>
              <a:rPr b="1" lang="en-US" sz="1600" spc="-1" strike="noStrike" baseline="30000">
                <a:solidFill>
                  <a:srgbClr val="ff0000"/>
                </a:solidFill>
                <a:latin typeface="Arial"/>
              </a:rPr>
              <a:t>-6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7451640" y="3203640"/>
            <a:ext cx="287280" cy="2872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154560" y="3716280"/>
            <a:ext cx="2611440" cy="10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ff"/>
                </a:solidFill>
                <a:latin typeface="Arial"/>
              </a:rPr>
              <a:t>Filled area shows maximum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Solid line shows mean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185080" y="1484280"/>
            <a:ext cx="369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1 Incl. Jets @ High Q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24 bi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AB24D-05AA-48D9-ADAA-8AF9ED25513B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6372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Scale studies with ATLAS Dijet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T and y* are stored as scale variables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any function of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4500720" y="2544840"/>
            <a:ext cx="4643280" cy="333216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179280" y="2205000"/>
            <a:ext cx="424836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choose any parameter '0.3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use different functions (e.g. cos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an e.g. find optimal scale (FAC,P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re: fastNLO vs. plain NLOJet++ calculation with free choice of ren./fac. sc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cision ~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1116000" y="3068640"/>
                <a:ext cx="244944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62474-7E61-449A-B94D-20BDAB8FE495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E6664-81AF-4605-9357-1C35D8ADA1CB}" type="slidenum">
              <a:t>2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10F36-DDC9-44A9-97A0-CA8DEA859DDB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3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EB02E-99B5-4984-9C98-5EF4C2081E9D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6341E-60AF-487A-81F7-5ED46CCFF71C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5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24434-045F-4FDB-9DA2-3E7B39EAD0A6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same quantiti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s for a specific analys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EQ, MSTW, NNPDF, HERAPDF, ABM,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arision to different scale cho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metimes NLO or even NNLO predictions can be computed fas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Jet cross sections, Drell-Yan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58960" y="5805360"/>
            <a:ext cx="745812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higher order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3FEC3-4428-4857-B3AB-BAFC71D2F38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5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C5088-5205-4FBF-AD52-DA50A9B4B1F0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3059280" y="681120"/>
            <a:ext cx="2860560" cy="32526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940360" y="825480"/>
            <a:ext cx="2870280" cy="302436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3"/>
          <a:stretch/>
        </p:blipFill>
        <p:spPr>
          <a:xfrm>
            <a:off x="324000" y="825480"/>
            <a:ext cx="2765160" cy="295128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4"/>
          <a:stretch/>
        </p:blipFill>
        <p:spPr>
          <a:xfrm>
            <a:off x="3059280" y="3772080"/>
            <a:ext cx="2879640" cy="279216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5"/>
          <a:stretch/>
        </p:blipFill>
        <p:spPr>
          <a:xfrm>
            <a:off x="6084720" y="3772080"/>
            <a:ext cx="2880000" cy="279216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6"/>
          <a:stretch/>
        </p:blipFill>
        <p:spPr>
          <a:xfrm>
            <a:off x="0" y="3772080"/>
            <a:ext cx="2987640" cy="2896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B8DCE-727F-48F6-947C-D1A2AAB2CDF9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5435640" y="1125360"/>
            <a:ext cx="2808360" cy="2167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395280" y="134136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70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4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5972040" y="3357720"/>
            <a:ext cx="3137040" cy="324000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7454520" y="364500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C938C-E850-43AB-9A95-8587F2C4CBF3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700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36007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 onl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4880" indent="-87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jet cross section at fixe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vatron give more constraints on PDFs in high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reg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HC data with impact for low-x glu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3780000" y="981000"/>
            <a:ext cx="5364000" cy="4959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955800" y="3213000"/>
                <a:ext cx="200952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s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94E5D-51E1-4228-8E33-3ED7104C373E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x-region do we test with jet dat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dijets @ high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bins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Q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&lt;p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ly three contributions in DI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luon, Delta, Sigma induced process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5948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gluon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gh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Delta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low' x-region only at low &lt;pt&gt; and 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843120" y="2708280"/>
            <a:ext cx="3803400" cy="183204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2"/>
          <a:stretch/>
        </p:blipFill>
        <p:spPr>
          <a:xfrm>
            <a:off x="4716360" y="2714760"/>
            <a:ext cx="3679920" cy="185580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3"/>
          <a:stretch/>
        </p:blipFill>
        <p:spPr>
          <a:xfrm>
            <a:off x="4741920" y="4722840"/>
            <a:ext cx="3727440" cy="186228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4"/>
          <a:stretch/>
        </p:blipFill>
        <p:spPr>
          <a:xfrm>
            <a:off x="826920" y="4710240"/>
            <a:ext cx="3697560" cy="184284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4141800" y="438156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8021880" y="43639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8029800" y="63817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122720" y="633564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554480" y="43527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85012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499040" y="63374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794320" y="63482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415480" y="635940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710760" y="63705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38200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677640" y="437508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30619-E2CB-41C1-91C1-B2F163DA656F}" type="slidenum">
              <a:t>34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-dependence of jet cross s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rcRect l="7475" t="28272" r="14558" b="5003"/>
          <a:stretch/>
        </p:blipFill>
        <p:spPr>
          <a:xfrm>
            <a:off x="1403280" y="3789360"/>
            <a:ext cx="5580000" cy="298440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2"/>
          <a:srcRect l="8518" t="29085" r="14845" b="7502"/>
          <a:stretch/>
        </p:blipFill>
        <p:spPr>
          <a:xfrm>
            <a:off x="1403280" y="907920"/>
            <a:ext cx="5580000" cy="2886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99E71-8E50-4614-BF24-53B3589EF583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78920" y="765000"/>
            <a:ext cx="475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 for fast repeated theory cross sections allowing to change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PDF and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le table format for various multiplicative and additive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++ and fortran versions with lots of interf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 calculations avai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'Flexible scale'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tential to vary ren. and fact. scale independen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omposition can be choosen as function of pre-defined 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ew options for scans of scale dependence (e.g. à la FAC, P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539640" y="1125360"/>
            <a:ext cx="4248360" cy="10242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3" name="" descr=""/>
          <p:cNvPicPr/>
          <p:nvPr/>
        </p:nvPicPr>
        <p:blipFill>
          <a:blip r:embed="rId2"/>
          <a:srcRect l="0" t="19695" r="0" b="0"/>
          <a:stretch/>
        </p:blipFill>
        <p:spPr>
          <a:xfrm>
            <a:off x="5508720" y="5084640"/>
            <a:ext cx="3186000" cy="14702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4" name="" descr=""/>
          <p:cNvPicPr/>
          <p:nvPr/>
        </p:nvPicPr>
        <p:blipFill>
          <a:blip r:embed="rId3"/>
          <a:stretch/>
        </p:blipFill>
        <p:spPr>
          <a:xfrm>
            <a:off x="5003640" y="692280"/>
            <a:ext cx="3926160" cy="4319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2A793-2E35-47F6-A49D-75A364849AB2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2691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ying the scale choice of ATL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4427640" y="90792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2"/>
          <a:stretch/>
        </p:blipFill>
        <p:spPr>
          <a:xfrm>
            <a:off x="0" y="98100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3"/>
          <a:stretch/>
        </p:blipFill>
        <p:spPr>
          <a:xfrm>
            <a:off x="4572000" y="3757680"/>
            <a:ext cx="3960720" cy="284004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4"/>
          <a:stretch/>
        </p:blipFill>
        <p:spPr>
          <a:xfrm>
            <a:off x="34920" y="3860640"/>
            <a:ext cx="4175280" cy="299736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5861520" y="6308640"/>
            <a:ext cx="226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arXiv:1112.6297 [hep-ex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40D46-B5BB-4B4D-83C2-3EE11A0AF481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s in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384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tables come with 3 (4) simultaneous </a:t>
            </a:r>
            <a:r>
              <a:rPr b="0" lang="de-DE" sz="1800" spc="-1" strike="noStrike">
                <a:solidFill>
                  <a:srgbClr val="0033cc"/>
                </a:solidFill>
                <a:latin typeface="Arial"/>
              </a:rPr>
              <a:t>scale variations tables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.g. 0.5, 1.0, 2.0 times the nominal sc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A posterior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scale vari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f the renormalizatoin scale allows study of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symetric sca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vari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6-points: (1/2,1/2), (1/2,1), (1,1/2), (1,2), (2,1), (2,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voiding of rel. 'factor' 4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ments in v 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get own dimen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of scale-value to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ypically 6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s already f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MS incl.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0 3-jet m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48320" y="1052280"/>
            <a:ext cx="403848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72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4643280" y="1628640"/>
            <a:ext cx="3994200" cy="40323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CC8C1-0B3D-45EC-9F1E-B960D10EE35C}" type="slidenum">
              <a:t>38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LO QCD cross s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9760" y="907560"/>
            <a:ext cx="771696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hadron-hadron colli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 cross section calculations are time consu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trong coupl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order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DF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of two hadrons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arton flavor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,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erturbative coefficen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a,b,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renormalizati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d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factorization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momentum fraction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318960" y="1698480"/>
                <a:ext cx="8299440" cy="96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395280" y="6086520"/>
            <a:ext cx="8209080" cy="40572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dea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torize the PDFs and </a:t>
            </a:r>
            <a:r>
              <a:rPr b="0" i="1" lang="el-GR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α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364000" y="2706840"/>
            <a:ext cx="2880000" cy="23428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95280" y="5300640"/>
            <a:ext cx="820908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43BA8-0908-4905-A37F-412FC57DB3A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148360" y="3468600"/>
            <a:ext cx="3887640" cy="21211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50920" y="1268280"/>
            <a:ext cx="4897440" cy="40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set of n discret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x-nod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's being equidistant in a function 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ke set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Eigenfunctions E</a:t>
            </a:r>
            <a:r>
              <a:rPr b="0" lang="en-US" sz="1600" spc="-1" strike="noStrike" baseline="-25000">
                <a:solidFill>
                  <a:srgbClr val="333399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(x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round nodes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1116000" y="3645000"/>
                <a:ext cx="2808360" cy="61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322960" y="112716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-1474200" y="422100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4000" y="7101000"/>
            <a:ext cx="8207280" cy="6426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a table with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1200" y="4941360"/>
            <a:ext cx="505152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edure also for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gets own dimension and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560DB-A3E3-4B16-8222-C67AD27EE3D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for hadron-hadron colli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52360" y="981000"/>
            <a:ext cx="482436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2D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mmetries of matrix el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reduce to 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762120" y="155736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755640" y="277956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9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ut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in each bin and store it in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508720" y="2205000"/>
            <a:ext cx="3504960" cy="1349280"/>
          </a:xfrm>
          <a:prstGeom prst="rect">
            <a:avLst/>
          </a:prstGeom>
          <a:ln w="25560">
            <a:solidFill>
              <a:srgbClr val="ffff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EC5DA-96B6-459C-B9B2-4A8BEF60E8F7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ory predic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oncept does not include the theoretical calculation itsel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Requires existing computer cod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LOJET++ (</a:t>
            </a:r>
            <a:r>
              <a:rPr b="1" lang="de-DE" sz="1000" spc="-1" strike="noStrike">
                <a:solidFill>
                  <a:srgbClr val="ff9933"/>
                </a:solidFill>
                <a:latin typeface="Arial"/>
              </a:rPr>
              <a:t>Z. Nagy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68 2003, PRL88 200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hreshold corrections (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Kidonakis, Owens, PRD 63, 054019 (2001)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uring the </a:t>
            </a: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first computatio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no time is sa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calculations with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very high statistic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LO events -&gt; up to several years of CPU 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y further recalculations tak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only O(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n be used for any observable in hadron-induced process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adron-hadron, DIS, photoproduction, fragmentation functions …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15800" y="6014880"/>
            <a:ext cx="818856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though labeled “fastNLO” method can be used at any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971640" y="3786120"/>
            <a:ext cx="5905440" cy="1159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CMS inc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jets (PRL 107 (2011) 132001) with CT10 PDF 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stNLOLHAPDF fnlo("fnl1014.tab","CT10.LHgrid",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nlo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24720" y="3949560"/>
            <a:ext cx="1297080" cy="744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==================================================================================================================================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Cross Sections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The scale chosen here are: mu_f =  1.000 * pT_jet_[GeV], and mu_r =  1.000 * pT_jet_[GeV]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IObs  Bin Size IODim1  [ pT_[GeV]     ]    IODim2  [  |y|           ]  LO cross section   NLO cross section   K NLO     K NPC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  3.000         1  18.00      21.00         1  0.00E+00  5.00E-01  1.55277802824E+07  1.63811325684E+07   1.05496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  3.000         2  21.00      24.00         1  0.00E+00  5.00E-01  8.30682860853E+06  8.77287665130E+06   1.05610   1.38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  4.000         3  24.00      28.00         1  0.00E+00  5.00E-01  4.41134160762E+06  4.62463577873E+06   1.04835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4  4.000         4  28.00      32.00         1  0.00E+00  5.00E-01  2.30882413125E+06  2.47472392075E+06   1.07185   1.2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5  5.000         5  32.00      37.00         1  0.00E+00  5.00E-01  1.22487109201E+06  1.30677111896E+06   1.06686   1.1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6  6.000         6  37.00      43.00         1  0.00E+00  5.00E-01  6.18412283065E+05  6.58015663350E+05   1.06404   1.1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7  6.000         7  43.00      49.00         1  0.00E+00  5.00E-01  3.18610165168E+05  3.42097336205E+05   1.07372   1.1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8  7.000         8  49.00      56.00         1  0.00E+00  5.00E-01  1.69694938829E+05  1.82786902463E+05   1.07715   1.09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9  8.000         9  56.00      64.00         1  0.00E+00  5.00E-01  8.88506455202E+04  9.52323847828E+04   1.07183   1.07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0  10.00        10  64.00      74.00         1  0.00E+00  5.00E-01  4.48760868947E+04  4.82703440385E+04   1.07564   1.0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1  10.00        11  74.00      84.00         1  0.00E+00  5.00E-01  2.26829562240E+04  2.43722369908E+04   1.07447   1.05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2  13.00        12  84.00      97.00         1  0.00E+00  5.00E-01  1.14507422191E+04  1.24049331317E+04   1.08333   1.04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3  17.00        13  97.00      114.0         1  0.00E+00  5.00E-01  5.23097360990E+03  5.67721041625E+03   1.08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4  19.00        14  114.0      133.0         1  0.00E+00  5.00E-01  2.28063559003E+03  2.48513079140E+03   1.0896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5  20.00        15  133.0      153.0         1  0.00E+00  5.00E-01  1.03505174962E+03  1.13314049111E+03   1.0947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6  21.00        16  153.0      174.0         1  0.00E+00  5.00E-01  4.96802383700E+02  5.46247174813E+02   1.09953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7  22.00        17  174.0      196.0         1  0.00E+00  5.00E-01  2.49815289171E+02  2.75364800692E+02   1.1022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8  24.00        18  196.0      220.0         1  0.00E+00  5.00E-01  1.29012893548E+02  1.42599549941E+02   1.10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9  25.00        19  220.0      245.0         1  0.00E+00  5.00E-01  6.80355225457E+01  7.55493261942E+01   1.11044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0  27.00        20  245.0      272.0         1  0.00E+00  5.00E-01  3.67048355857E+01  4.09487347532E+01   1.11562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1  28.00        21  272.0      300.0         1  0.00E+00  5.00E-01  2.01613029168E+01  2.25604162288E+01   1.119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2  30.00        22  300.0      330.0         1  0.00E+00  5.00E-01  1.12824854482E+01  1.26866111428E+01   1.12445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3  32.00        23  330.0      362.0         1  0.00E+00  5.00E-01  6.35845842969E+00  7.17233587864E+00   1.128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4  33.00        24  362.0      395.0         1  0.00E+00  5.00E-01  3.63706128628E+00  4.12851783408E+00   1.13512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5  35.00        25  395.0      430.0         1  0.00E+00  5.00E-01  2.11227877473E+00  2.40602532981E+00   1.13907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6  38.00        26  430.0      468.0         1  0.00E+00  5.00E-01  1.22524458697E+00  1.40203526441E+00   1.14429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7  39.00        27  468.0      507.0         1  0.00E+00  5.00E-01  7.14187420152E-01  8.19893199048E-01   1.14801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8  41.00        28  507.0      548.0         1  0.00E+00  5.00E-01  4.21748162421E-01  4.88300824898E-01   1.1578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9  44.00        29  548.0      592.0         1  0.00E+00  5.00E-01  2.48791400377E-01  2.88852906110E-01   1.1610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0  46.00        30  592.0      638.0         1  0.00E+00  5.00E-01  1.46515601054E-01  1.71074985050E-01   1.1676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1  48.00        31  638.0      686.0         1  0.00E+00  5.00E-01  8.66490094287E-02  1.01902201541E-01   1.17603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2  51.00        32  686.0      737.0         1  0.00E+00  5.00E-01  5.11700908830E-02  6.04966189129E-02   1.1822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3  109.0        33  737.0      846.0         1  0.00E+00  5.00E-01  2.37402790440E-02  2.83054753812E-02   1.1923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4  838.0        34  846.0      1684.         1  0.00E+00  5.00E-01  1.78674955347E-03  2.17513026527E-03   1.2173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5  3.000         1  18.00      21.00         2  5.00E-01  1.00E+00  1.50754366012E+07  1.60609009301E+07   1.06537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6  3.000         2  21.00      24.00         2  5.00E-01  1.00E+00  8.05442518090E+06  8.54078421141E+06   1.06038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7  4.000         3  24.00      28.00         2  5.00E-01  1.00E+00  4.26021653062E+06  4.54082512372E+06   1.06587   1.2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948360" y="4309920"/>
            <a:ext cx="4320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D31E0-A6E4-4671-98E7-6E887E8B7C8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4399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MS inclusive je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envelop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DF-error prediction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à la </a:t>
            </a:r>
            <a:r>
              <a:rPr b="0" lang="el-GR" sz="1600" spc="-1" strike="noStrike">
                <a:solidFill>
                  <a:srgbClr val="ff0000"/>
                </a:solidFill>
                <a:latin typeface="Arial"/>
                <a:ea typeface="Arial"/>
              </a:rPr>
              <a:t>PDF4LHC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rcRect l="7061" t="0" r="168" b="0"/>
          <a:stretch/>
        </p:blipFill>
        <p:spPr>
          <a:xfrm>
            <a:off x="4211640" y="3606840"/>
            <a:ext cx="4932360" cy="23432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4788000" y="6093000"/>
            <a:ext cx="410364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138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996240" y="3463920"/>
            <a:ext cx="215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PLB 704 (2011) 434-44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68360" y="2276640"/>
            <a:ext cx="3672000" cy="36129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550440" y="6093000"/>
            <a:ext cx="388692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39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6000" y="981000"/>
            <a:ext cx="4608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0 three-jet invariant m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scale dependen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)/3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2.0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br>
              <a:rPr sz="1600"/>
            </a:b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0.5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ce using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PDF se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E87D1-9116-4EDA-A439-C651E4F7B05E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91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in version 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50920" y="980640"/>
            <a:ext cx="641016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pre-computed fastNLO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tomatic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adjustme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hase spac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unda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lexible # x-nodes for analysis bi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in ren./fact.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itrary number of dimensions for binning of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fastNLO reading too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rehensiv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volutions provid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-,3-,4-loop iterative solution, flavor matching ON/OFF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external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evolution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LHAPDF, QCDNUM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CRunDec (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arXiv:1201.6149v1, arXiv:hep-ph/0004189v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face to PDFs from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LHAPD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QCDN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asy implementation of new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nstall (autotool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mplement in fitting codes and to interface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Independent C++ and Fortran ver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reement at double precision O(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-1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32720" y="1236600"/>
            <a:ext cx="1800000" cy="368280"/>
          </a:xfrm>
          <a:prstGeom prst="rect">
            <a:avLst/>
          </a:prstGeom>
          <a:solidFill>
            <a:srgbClr val="a50021"/>
          </a:solidFill>
          <a:ln w="3816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659640" y="2997360"/>
            <a:ext cx="1944720" cy="64260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R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020000" y="472428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c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020000" y="414972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6560" y="5950080"/>
            <a:ext cx="7921800" cy="3132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further dependencies (No ROOT, No CERNLIB, etc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B3CDE-C05A-4420-A580-A63E25A64512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08-23T16:13:01Z</dcterms:modified>
  <cp:revision>418</cp:revision>
  <dc:subject/>
  <dc:title>My Unfolding</dc:title>
</cp:coreProperties>
</file>