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5B27-4BD5-4C4E-AB2F-D117FBB09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6972-2A63-4058-A534-C0BE2F6DC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06AE-1A0D-4B70-9F72-8D0B573B0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D2D6-68EF-4443-BCA5-87A3CFF69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5271-A69D-4E04-87A8-802ADDCCE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B03B-AC62-443C-A604-4DE17A6D1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2700-4921-496A-B7B3-CD0EA1EA3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B39B-0913-4C0F-892F-C14DAD1A7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E528-ADED-4DC5-BBBA-1D2C26265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6009-4AB3-47D5-9F42-309D68CB1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DE93-5C39-4B26-8636-D326607E5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7ECC-952A-4836-8C5C-92393C900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B76DC-743B-475F-AC0E-771F2ABE5B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884160"/>
            <a:ext cx="9144000" cy="7746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stNLO for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etproduction in Diffractive DIS</a:t>
            </a:r>
            <a:br>
              <a:rPr sz="3200"/>
            </a:b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. Britzger, F. Ceccopi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34000" y="4437000"/>
            <a:ext cx="312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1 Collaboration Meeting 201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PI Mun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ptember 12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cenario: Diffractive Dijets d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19440" y="836640"/>
            <a:ext cx="4229280" cy="4102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rcRect l="0" t="4914" r="0" b="0"/>
          <a:stretch/>
        </p:blipFill>
        <p:spPr>
          <a:xfrm>
            <a:off x="179280" y="839880"/>
            <a:ext cx="3996000" cy="4317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132000" y="765000"/>
            <a:ext cx="2665440" cy="935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 dashed line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houl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e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4920" y="4868640"/>
            <a:ext cx="85122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 differ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(but wrong) nlojet++ interpolation of NLO subtraction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-finder recombination scheme (~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(but very fine) xIP (and dxIP) slicing (~0-2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statistic (2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6·106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. very high statistic (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1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(&lt;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CA79-487E-458C-A301-107598BD6887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59480" y="3594240"/>
            <a:ext cx="4484520" cy="32194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62080" y="3933720"/>
            <a:ext cx="43812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 or logarithmic slicing of xIP 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are avail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in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og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any o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d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Slicing( 30, xp, dxp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56240" y="549360"/>
            <a:ext cx="4487760" cy="3220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84360" y="735120"/>
            <a:ext cx="3311280" cy="32115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slicing is prefer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68200" y="3032280"/>
            <a:ext cx="173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log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10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(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89000" y="30322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33360" y="60436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5610-29AC-4E88-8B91-E77CACDB90D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ce of slic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396108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y cross section dependence on number of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and logarithmic sli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gence after 10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ic slicing seems to converge fa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one must know lowest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Otherwise bia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uctu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ise from discret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terpolation within fast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pite (simple) 'smoothing' at upper integration interval a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~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,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211640" y="1074600"/>
            <a:ext cx="5184720" cy="3722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95280" y="5516640"/>
            <a:ext cx="83534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fast convergence of cross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NLO accuracy (for this table) could be estimated to &lt; 0.2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181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uracy smaller than cut on log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,m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for log sli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7904-59BE-4816-B9B0-21290B3B181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bout d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1989000"/>
            <a:ext cx="3763800" cy="2902320"/>
          </a:xfrm>
          <a:prstGeom prst="rect">
            <a:avLst/>
          </a:prstGeom>
          <a:noFill/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n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through restricting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 inter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≠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higher 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arton momentum fraction compared to Hadron (Pome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 (1+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Q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1281-EC03-47EA-93E3-E98FFEAB8B59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5329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w method of calculating diffractive jet-cross sections was develop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code was developed and intensively tes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for jet production in diffractive DIS is ready to 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e it for your analysis or for fits of diffractive PDF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651640" y="3357720"/>
            <a:ext cx="3097080" cy="3003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940360" y="981000"/>
            <a:ext cx="2808360" cy="23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6B04-C084-4EB8-BC01-68B58EB1B46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987640" y="519120"/>
            <a:ext cx="3129120" cy="3557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012000" y="692280"/>
            <a:ext cx="3139920" cy="3308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4920" y="700200"/>
            <a:ext cx="3024360" cy="3227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71280" y="3932280"/>
            <a:ext cx="2957760" cy="2868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132000" y="3944880"/>
            <a:ext cx="2957760" cy="2868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6151680" y="3944880"/>
            <a:ext cx="2957400" cy="28688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CCF7-638D-4A3B-AAB4-51F1349F9673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8EF4-272C-47ED-A583-ECFDF03C1D04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DBC0-3006-464D-BD8D-B9F186F70472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A227-45E0-49DA-9458-35E890DEC550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5908-B062-461A-8C44-D2EAF565362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98320" y="1268280"/>
            <a:ext cx="79344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ion of jet cross sections in higher orders are time consu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: Calculations have to be repeated for same measurement but different  PDFs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e.g. PDF uncertainties, scale variations, etc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sion of jet-data in a fit (e.g. PDF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requires very fast recomputation of almost the same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4503600"/>
            <a:ext cx="734400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46520" y="5445000"/>
            <a:ext cx="3454200" cy="704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25800" y="55897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E4F5-B53E-4A4D-8819-C4925C15640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4D73-9B94-4CC2-A59B-76F4D65A8131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06EE-9378-4690-A2A1-D11A096C6FE9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6524-5A9F-4837-AC65-C64B08F0C7F7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620640"/>
            <a:ext cx="87948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56520" indent="-5652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t-production cross section in D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 interpolation kernels for 'x' using Eigenfunctions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692360" y="1339920"/>
                <a:ext cx="50022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411280" y="2708280"/>
                <a:ext cx="28814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250920" y="4005360"/>
            <a:ext cx="8642160" cy="1502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an calculate once a table with perturbative coeff. using e.g. nlojet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 section is then just a su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all interpolation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356000" y="4611600"/>
                <a:ext cx="43912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IS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250920" y="5661000"/>
            <a:ext cx="86421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features of fastNL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Scale interpolation, PDF reweighting, scale independent contr., et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6676-5351-464C-AB47-0A91E70220F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508720" y="1144440"/>
            <a:ext cx="3240000" cy="2500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95280" y="153360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with reduced hadron energy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084720" y="3789360"/>
            <a:ext cx="2509920" cy="2592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095960" y="393372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E9FD-B9AD-4923-B9C0-0CF00226947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06388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286240" y="386388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05600" y="320184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846440"/>
            <a:ext cx="475128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53640" y="343044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354640"/>
            <a:ext cx="81356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lculation of only one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y high statistical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limitations in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405936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6B43-7C5B-407E-857A-B0D62A5E0EE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of of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211640" y="1494000"/>
            <a:ext cx="4897440" cy="3519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5280" y="5589720"/>
            <a:ext cx="8353440" cy="737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erfect 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turbative coefficients are identical for each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560" y="837720"/>
            <a:ext cx="432108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two cross section calculations for one single fixed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lice at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1.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ff00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Cross section contribution with reduced CME (standard slicing method)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Hadron = Pomer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h 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·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Calculate matrix elements using proton energy (new method)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Hadron = Proton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z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cross section contributi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hadr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adron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/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&lt; 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adr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eing the momentum fraction of the parton wrt. to the incoming hadron (Pomeron) momentu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5223-9FE5-4D8A-8CAF-FFCE87E0D5A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71294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number of x-nodes in low-x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 x wrt.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e calculated properly by Federico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90480" y="3357720"/>
                <a:ext cx="697716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179280" y="4365720"/>
            <a:ext cx="8352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integration runs over discrete x-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most x-node is weighted according to its range inside/outside of the integration interv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602136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590C-9C92-4893-BE88-7C44277AFBC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example for pre-calculated fastNLO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1052640"/>
            <a:ext cx="7921440" cy="243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H1 diffractive dijets dP*_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Eur.Phys.J. C70 (2010)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astNLODiffH12006FitB fnlodiff( "fnhd1012.tab"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SetXPomLinSlicing( 30, 0.0, 0.1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vector&lt;double&gt;  xs = fnlodiff.GetDiffCrossSectio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ptional print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5799240"/>
            <a:ext cx="7921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tty easy to use (if fastNLO table is already calcul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3716280"/>
            <a:ext cx="7921440" cy="1769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 This is a single-differential table in p*_T,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---  p*_T,1  ---        - Bin -       -- XS-FNLO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4.000 -     6.500     0          9.4173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6.500 -     8.500     1          6.6364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8.500 -    12.000     2          1.6610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03F6-8F58-484B-A8C4-F4BDF2FFE790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Scal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211640" y="836640"/>
            <a:ext cx="4680000" cy="454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CF25-837F-49FE-BEE7-8B1ECB0590E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10-17T10:05:57Z</dcterms:modified>
  <cp:revision>444</cp:revision>
  <dc:subject/>
  <dc:title>My Unfolding</dc:title>
</cp:coreProperties>
</file>