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wmf" ContentType="image/x-wmf"/>
  <Override PartName="/ppt/media/image1.png" ContentType="image/png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19.png" ContentType="image/png"/>
  <Override PartName="/ppt/media/image20.png" ContentType="image/png"/>
  <Override PartName="/ppt/media/image18.wmf" ContentType="image/x-wmf"/>
  <Override PartName="/ppt/media/image2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2.png" ContentType="image/png"/>
  <Override PartName="/ppt/media/image26.wmf" ContentType="image/x-wmf"/>
  <Override PartName="/ppt/media/image3.wmf" ContentType="image/x-wmf"/>
  <Override PartName="/ppt/media/image33.wmf" ContentType="image/x-wmf"/>
  <Override PartName="/ppt/media/image14.png" ContentType="image/png"/>
  <Override PartName="/ppt/media/image9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46.wmf" ContentType="image/x-wmf"/>
  <Override PartName="/ppt/media/image36.wmf" ContentType="image/x-wmf"/>
  <Override PartName="/ppt/media/image37.png" ContentType="image/png"/>
  <Override PartName="/ppt/media/image42.wmf" ContentType="image/x-wmf"/>
  <Override PartName="/ppt/media/image31.wmf" ContentType="image/x-wmf"/>
  <Override PartName="/ppt/media/image43.wmf" ContentType="image/x-wmf"/>
  <Override PartName="/ppt/media/image32.wmf" ContentType="image/x-wmf"/>
  <Override PartName="/ppt/media/image7.wmf" ContentType="image/x-wmf"/>
  <Override PartName="/ppt/media/image44.wmf" ContentType="image/x-wmf"/>
  <Override PartName="/ppt/media/image45.wmf" ContentType="image/x-wmf"/>
  <Override PartName="/ppt/media/image13.wmf" ContentType="image/x-wmf"/>
  <Override PartName="/ppt/media/image40.png" ContentType="image/png"/>
  <Override PartName="/ppt/media/image38.wmf" ContentType="image/x-wmf"/>
  <Override PartName="/ppt/media/image8.wmf" ContentType="image/x-wmf"/>
  <Override PartName="/ppt/media/image12.wmf" ContentType="image/x-wmf"/>
  <Override PartName="/ppt/media/image27.png" ContentType="image/png"/>
  <Override PartName="/ppt/media/image30.wmf" ContentType="image/x-wmf"/>
  <Override PartName="/ppt/media/image10.png" ContentType="image/png"/>
  <Override PartName="/ppt/media/image28.wmf" ContentType="image/x-wmf"/>
  <Override PartName="/ppt/media/image6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91A58-3564-4120-91B4-12DCCCC13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E11CF-7B53-4EED-ACB8-741EFD07C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FD8E5-BA6E-476B-BBC5-14F5E410B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31CED-B759-4B71-AA63-4E567321B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1E71B-6D6C-4544-8304-8923FCB77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C0572-D655-4BF2-B1F8-19FB8129C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DA976-4296-4B92-AF76-FE7F53033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FC91B-5AE5-46C3-BF00-9E61EC984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43920"/>
            <a:ext cx="820728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08661-5185-4835-A464-7806EF845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9B53D-285A-43C1-BAAC-AAD470E3B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F7BD7-7496-404E-BA81-3BD378FD6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1A882-D78E-431F-8042-74C204CF3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-1764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360"/>
            <a:ext cx="374328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B6698-B9D8-4C18-8162-5DB428406F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26.wmf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image" Target="../media/image31.wmf"/><Relationship Id="rId4" Type="http://schemas.openxmlformats.org/officeDocument/2006/relationships/image" Target="../media/image32.wmf"/><Relationship Id="rId5" Type="http://schemas.openxmlformats.org/officeDocument/2006/relationships/image" Target="../media/image33.wmf"/><Relationship Id="rId6" Type="http://schemas.openxmlformats.org/officeDocument/2006/relationships/image" Target="../media/image18.wmf"/><Relationship Id="rId7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7.png"/><Relationship Id="rId3" Type="http://schemas.openxmlformats.org/officeDocument/2006/relationships/image" Target="../media/image38.wmf"/><Relationship Id="rId4" Type="http://schemas.openxmlformats.org/officeDocument/2006/relationships/image" Target="../media/image39.wmf"/><Relationship Id="rId5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41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image" Target="../media/image43.wmf"/><Relationship Id="rId3" Type="http://schemas.openxmlformats.org/officeDocument/2006/relationships/image" Target="../media/image44.wmf"/><Relationship Id="rId4" Type="http://schemas.openxmlformats.org/officeDocument/2006/relationships/image" Target="../media/image45.wmf"/><Relationship Id="rId5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844640"/>
            <a:ext cx="77724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fastNLO Collaboration</a:t>
            </a:r>
            <a:br>
              <a:rPr sz="2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niel Britz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Thomas Kluge, Klaus Rabbertz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ed Stober, Markus Wobisch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DESY, Liverpool, KIT, KIT, Louisiana Tec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332000" y="1052640"/>
            <a:ext cx="5478480" cy="1117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6446520" y="1452600"/>
            <a:ext cx="85752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00"/>
                </a:solidFill>
                <a:latin typeface="Arial"/>
              </a:rPr>
              <a:t>v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17280" y="4651200"/>
            <a:ext cx="1748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CD@LHC 2012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gust 23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rcRect l="0" t="13232" r="47436" b="3628"/>
          <a:stretch/>
        </p:blipFill>
        <p:spPr>
          <a:xfrm>
            <a:off x="3995640" y="5373720"/>
            <a:ext cx="10810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exible table format in fastNLO 2.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50920" y="1412640"/>
            <a:ext cx="417672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mat forese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Fixed orders (LO, NLO, NNLO,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Threshold corr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-loop for inclusive jets avail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lectroweak corr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ew physics contrib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rrection fac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n-perturbative corre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luding correlated and uncorrelated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rrelation matri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version tool for v1.4 tab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0" y="1341360"/>
            <a:ext cx="4362480" cy="44640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7162560" y="1179360"/>
            <a:ext cx="183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CMS Note-2011-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FD09D-C7BB-4D4F-89D4-B48249B36927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920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e flexibility in fastNLO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95280" y="844200"/>
            <a:ext cx="82296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beyond LO have scale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Scale dependen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n be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factoriz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1187280" y="2332080"/>
                <a:ext cx="595656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∝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orn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bSup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1187280" y="1197000"/>
                <a:ext cx="396108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∝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orn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LO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95280" y="3932280"/>
            <a:ext cx="822960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arbitrary valu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- or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unctio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observ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functions of multiple variab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.g.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y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nal scale can be chosen to be any function of bo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1268280" y="4678200"/>
                <a:ext cx="216072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f</m:t>
                            </m:r>
                          </m:den>
                        </m:f>
                      </m:sub>
                    </m:sSub>
                    <m:r>
                      <m:t xml:space="preserve">→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f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5" name=""/>
          <p:cNvSpPr/>
          <p:nvPr/>
        </p:nvSpPr>
        <p:spPr>
          <a:xfrm>
            <a:off x="468360" y="573408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es can be functions of multiple observ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4699080" y="4713120"/>
                <a:ext cx="3346200" cy="32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g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m>
                      <m:mr>
                        <m:e>
                          <m:r>
                            <m:t xml:space="preserve">μ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5</m:t>
                          </m:r>
                          <m:r>
                            <m:t xml:space="preserve">⋅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</m:sSub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or</m:t>
                          </m:r>
                        </m:e>
                        <m:e>
                          <m:r>
                            <m:t xml:space="preserve">μ</m:t>
                          </m:r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</m:sSub>
                          <m:r>
                            <m:t xml:space="preserve">⋅</m:t>
                          </m:r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3</m:t>
                              </m:r>
                              <m:r>
                                <m:t xml:space="preserve">y</m:t>
                              </m:r>
                            </m:sup>
                          </m:sSup>
                        </m:e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107" name=""/>
          <p:cNvSpPr/>
          <p:nvPr/>
        </p:nvSpPr>
        <p:spPr>
          <a:xfrm>
            <a:off x="468360" y="314172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e individual scal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depend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effici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B7B8E-857B-4219-8672-FEEE490F69ED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Features for Sc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1640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77040" indent="-77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functions of multiple observ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for DIS jet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observables are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Q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ales can be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(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 / 2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0.8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0.3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+ Q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·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7040" indent="-77040"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Independent scale variations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f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nd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re po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c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×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(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 /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×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19480" t="26236" r="27956" b="13622"/>
          <a:stretch/>
        </p:blipFill>
        <p:spPr>
          <a:xfrm>
            <a:off x="4788000" y="981000"/>
            <a:ext cx="4248000" cy="38894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 rot="20744400">
            <a:off x="6958800" y="4580640"/>
            <a:ext cx="1942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factor 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2335800">
            <a:off x="4430880" y="4263840"/>
            <a:ext cx="1925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factor 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6200000">
            <a:off x="4060440" y="1996920"/>
            <a:ext cx="10508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[pb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24000" y="5734080"/>
            <a:ext cx="842472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flexibility for studies of scale dependen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1476D-1D0E-46F5-A978-BD17DF203DFF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490920" y="3924360"/>
            <a:ext cx="5616720" cy="19526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3492360" y="1862280"/>
            <a:ext cx="5616720" cy="195264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50920" y="43920"/>
            <a:ext cx="8642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Study: Scale studies for ATLAS Dijets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j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52360" y="907560"/>
            <a:ext cx="792000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Times New Roman"/>
              <a:buChar char=" 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TLAS dijet invariant mass measurement, R=0.6 </a:t>
            </a:r>
            <a:r>
              <a:rPr b="1" lang="en-US" sz="900" spc="-1" strike="noStrike">
                <a:solidFill>
                  <a:srgbClr val="ff9933"/>
                </a:solidFill>
                <a:latin typeface="Arial"/>
              </a:rPr>
              <a:t>PRD86 (2012) 014022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gt; and y* (or 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,ma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y*) are stored as scale variables in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ormalization and factorization scales can be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any functi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f = f(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y*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50920" y="2060640"/>
            <a:ext cx="3887640" cy="38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ssiblity to study variations of ATLAS dijet scale cho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las cho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y* is a fixed factor per y*-b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Differentialy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y*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siblity to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var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arameter '0.3'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coul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y functions (e.g. cosh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e.g. find optimal sca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á la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FAC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P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1011240" y="2739960"/>
                <a:ext cx="23432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  <m:r>
                          <m:rPr>
                            <m:lit/>
                            <m:nor/>
                          </m:rPr>
                          <m:t xml:space="preserve">,max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⋅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1114560" y="532440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d>
                      <m:dPr>
                        <m:begChr m:val="⟨"/>
                        <m:endChr m:val="⟩"/>
                      </m:dP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e>
                    </m:d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⋅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2" name=""/>
          <p:cNvSpPr/>
          <p:nvPr/>
        </p:nvSpPr>
        <p:spPr>
          <a:xfrm>
            <a:off x="395280" y="6014880"/>
            <a:ext cx="842472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possiblites to study the best inclusion of y* into the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B786C-F434-4E80-B31A-33541CF7B37A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18600" y="6237360"/>
            <a:ext cx="232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fastNLO, arXiv:1109:13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9640" y="43920"/>
            <a:ext cx="80647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/Theory Comparision of Jet Cross S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36007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rge number of calculations are available at</a:t>
            </a:r>
            <a:br>
              <a:rPr sz="1800"/>
            </a:b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astnlo.hepforge.or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verview of inclusive je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R @ RH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1 and ZEUS @ H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DF and D0 @ Tevat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MS and ATLAS @ LH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/theory comparis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including threshold correction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(2-loop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3635280" y="909720"/>
            <a:ext cx="5300640" cy="5832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36328-99E0-4E6C-B7BF-9CF8A62DED5C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DF sensi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50920" y="836280"/>
            <a:ext cx="7200720" cy="20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-dependence of cross se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et production does not distinguish between quark flav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identify four subprocesses (qq, gg, gq, q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wo x-values: We study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event contributes to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07640" y="3068640"/>
            <a:ext cx="338436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MS inclusive jet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1" lang="en-US" sz="1400" spc="-1" strike="noStrike">
                <a:solidFill>
                  <a:srgbClr val="ff9900"/>
                </a:solidFill>
                <a:latin typeface="Arial"/>
              </a:rPr>
              <a:t>PhysRevLett. 107.13200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=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0 &lt; |y| &lt; 2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33 &lt;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&lt; 153 G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rcRect l="8518" t="29085" r="14845" b="7502"/>
          <a:stretch/>
        </p:blipFill>
        <p:spPr>
          <a:xfrm>
            <a:off x="2700360" y="2457360"/>
            <a:ext cx="6192720" cy="320364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395280" y="5972040"/>
            <a:ext cx="8424720" cy="3708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icular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bin in forward region probes two separated x-ra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230160" y="3571920"/>
            <a:ext cx="166824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gg -&gt;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qg -&gt; jets (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 &lt; 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gq -&gt; jets (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 &gt; 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205800" y="3932280"/>
            <a:ext cx="166824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Arial"/>
              </a:rPr>
              <a:t>qq -&gt;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qg -&gt; jets (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 &lt; 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gq -&gt; jets (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 &gt; 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8D83D-BAFF-4471-94E3-365B7D347CE4}" type="slidenum">
              <a:t>1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: 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5360" y="1196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 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5435640" y="1352520"/>
            <a:ext cx="3529080" cy="27241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185760" y="1628640"/>
                <a:ext cx="515772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38" name=""/>
          <p:cNvSpPr/>
          <p:nvPr/>
        </p:nvSpPr>
        <p:spPr>
          <a:xfrm>
            <a:off x="324000" y="3325680"/>
            <a:ext cx="532764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 </a:t>
            </a:r>
            <a:r>
              <a:rPr b="1" lang="de-DE" sz="14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eds Repeated cross section calculation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689040" y="4964040"/>
                <a:ext cx="553392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5D487-3826-4CCB-B088-BCBEFC1E646A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6840" y="1267920"/>
            <a:ext cx="78598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turbative coefficients have only dependence on momentum fra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826920" y="43920"/>
            <a:ext cx="7490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rcRect l="0" t="0" r="11410" b="0"/>
          <a:stretch/>
        </p:blipFill>
        <p:spPr>
          <a:xfrm>
            <a:off x="5133960" y="2206800"/>
            <a:ext cx="3759120" cy="316692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5286240" y="4006800"/>
            <a:ext cx="3519720" cy="0"/>
          </a:xfrm>
          <a:prstGeom prst="line">
            <a:avLst/>
          </a:prstGeom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005600" y="3344760"/>
            <a:ext cx="504720" cy="576360"/>
          </a:xfrm>
          <a:prstGeom prst="ellipse">
            <a:avLst/>
          </a:pr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8360" y="1989000"/>
            <a:ext cx="4751280" cy="35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direct dependence of the two momentum fractions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ach slice calculates basically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same coefficients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ctorization is independent of incoming par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453640" y="3573360"/>
            <a:ext cx="331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μ</a:t>
            </a:r>
            <a:r>
              <a:rPr b="0" i="1" lang="de-DE" sz="1800" spc="-1" strike="noStrike" baseline="-25000">
                <a:solidFill>
                  <a:srgbClr val="ff0000"/>
                </a:solidFill>
                <a:latin typeface="Times New Roman"/>
                <a:ea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24000" y="595008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ion of only a single fastNLO table is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68360" y="4365720"/>
            <a:ext cx="47512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form 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Integration a-posteri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culate one fastNLO table with hadron energy = proton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638F2-CF24-4C80-9802-7DF5D9C54AA5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4429080" y="981000"/>
            <a:ext cx="4714920" cy="338616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5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s in diffractive DIS with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79280" y="1054080"/>
            <a:ext cx="4464000" cy="28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 Fixed center-of-mass calcul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only one fastNLO table at proton energy 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reased number of x-nod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low-x reg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 Adapt the slicing metho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fine arbitrary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slic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cross section by Rieman-integra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grate over x wrt. 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733320" y="3933720"/>
                <a:ext cx="6977160" cy="105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53" name=""/>
          <p:cNvSpPr/>
          <p:nvPr/>
        </p:nvSpPr>
        <p:spPr>
          <a:xfrm>
            <a:off x="190440" y="4941720"/>
            <a:ext cx="8352000" cy="15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gral becomes a standard fastNLO 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per integration interval needs to be respected proper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24000" y="595008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 procedure improves previously used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11C26-A87B-4053-96AC-F0529DFD4EA8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: Diffractive PDF f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4033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ijet production in diffractive DIS (H1) </a:t>
            </a:r>
            <a:r>
              <a:rPr b="1" lang="de-DE" sz="1000" spc="-1" strike="noStrike">
                <a:solidFill>
                  <a:srgbClr val="ff9900"/>
                </a:solidFill>
                <a:latin typeface="Arial"/>
              </a:rPr>
              <a:t>EPJ C72 (2012) 1970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alculations available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p*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ossibility to derive by restric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gration inter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ll fastNLO features acce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cale studies are easily pos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various scale cho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 various D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irect access to k-fa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4284720" y="836640"/>
            <a:ext cx="4859280" cy="471168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395280" y="5516640"/>
            <a:ext cx="8353440" cy="699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ilitate inclusion of diffractive jets in DPDF 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Will help to constrain the gluon in diffractive PD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88967-A842-4FC3-AFB2-15B745281AE8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9640" y="1341360"/>
            <a:ext cx="78487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NLO concep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 features of fastNLO v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neralized concept in fastNLO v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 application of flexible scale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49A54-5AB6-4CAC-B156-303955FB1739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78920" y="909360"/>
            <a:ext cx="5545080" cy="53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astNLO co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ode download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++ and Fortran code (No further dependenci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calculations available for all experimen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LAS, CMS, CDF, D0, H1, ZEUS, ST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features in v2.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technical improve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ble format forsees different physics contribu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'Flexible scale' t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oose composition of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and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Vary ren./fact. scales independentl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Scale variations in any order without recalculations or integr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ffractive jet production in DI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w concept develop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ady to use in DPDF f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6084720" y="4765680"/>
            <a:ext cx="2159280" cy="209232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5651640" y="3573360"/>
            <a:ext cx="3168360" cy="110016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5896080" y="189000"/>
            <a:ext cx="3011400" cy="331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4A9DE-BA04-4977-A3E5-999A351C8F4C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release so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0920" y="2492280"/>
            <a:ext cx="4608360" cy="24494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New release of C++ and fortran code within the next week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Many new calculation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LHC, Tevatron, HERA, …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0033cc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Diffractive DIS code and table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http://www.msurebounders.com/images/sparty.gif"/>
          <p:cNvPicPr/>
          <p:nvPr/>
        </p:nvPicPr>
        <p:blipFill>
          <a:blip r:embed="rId1"/>
          <a:stretch/>
        </p:blipFill>
        <p:spPr>
          <a:xfrm>
            <a:off x="5667480" y="2349360"/>
            <a:ext cx="3476520" cy="450864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3851280" y="907920"/>
            <a:ext cx="4033800" cy="936720"/>
          </a:xfrm>
          <a:prstGeom prst="cloudCallout">
            <a:avLst>
              <a:gd name="adj1" fmla="val 25601"/>
              <a:gd name="adj2" fmla="val 136439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507920" y="1190520"/>
            <a:ext cx="25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astnlo.hepforge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3E489-6896-4D67-AC5D-FDF7D5DA06D0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00360" y="2997360"/>
            <a:ext cx="439236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http://www.msurebounders.com/images/sparty.gif"/>
          <p:cNvPicPr/>
          <p:nvPr/>
        </p:nvPicPr>
        <p:blipFill>
          <a:blip r:embed="rId1"/>
          <a:stretch/>
        </p:blipFill>
        <p:spPr>
          <a:xfrm>
            <a:off x="1258920" y="0"/>
            <a:ext cx="4199040" cy="5445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3240A-E714-4759-AEFD-9FCF923E315B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Prec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483552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ee Paramet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x-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scale 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Affect the interpolation pr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w feature in v2.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exible # x-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 of x-nodes chosen depending on x-r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arison vs. 'plain' NLOJet++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bitrary precision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O(MB) tables, reach better than 1 per mil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4859280" y="1820880"/>
            <a:ext cx="4067280" cy="391320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7738920" y="3059280"/>
            <a:ext cx="9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O(10</a:t>
            </a:r>
            <a:r>
              <a:rPr b="1" lang="en-US" sz="1600" spc="-1" strike="noStrike" baseline="30000">
                <a:solidFill>
                  <a:srgbClr val="ff0000"/>
                </a:solidFill>
                <a:latin typeface="Arial"/>
              </a:rPr>
              <a:t>-6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7451640" y="3203640"/>
            <a:ext cx="287280" cy="2872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154560" y="3716280"/>
            <a:ext cx="2611440" cy="10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99ff"/>
                </a:solidFill>
                <a:latin typeface="Arial"/>
              </a:rPr>
              <a:t>Filled area shows maximum deviation of all b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Solid line shows mean deviation of all b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185080" y="1484280"/>
            <a:ext cx="369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1 Incl. Jets @ High Q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24 bi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91A65-6FB2-4FDD-8D0F-A58F4EB1FADB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377720" y="43920"/>
            <a:ext cx="56372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 Scale studies with ATLAS Dijet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68360" y="907560"/>
            <a:ext cx="792000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LAS Dijet Invariant Mass Measurement, r=0.6 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PRD86 (2012) 014022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76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T and y* are stored as scale variables in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76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normalization and factorization scale can be any function of (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y*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4500720" y="2544840"/>
            <a:ext cx="4643280" cy="333216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179280" y="2205000"/>
            <a:ext cx="4248360" cy="40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ssiblity to study variations of ATLAS dijet scale cho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las cho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ould choose any parameter '0.3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ould use different functions (e.g. cosh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an e.g. find optimal scale (FAC,PM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re: fastNLO vs. plain NLOJet++ calculation with free choice of ren./fac. sc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cision ~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1116000" y="3068640"/>
                <a:ext cx="244944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⋅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97289-52AF-4D8E-8509-D20E204D05D2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7817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ized fastNLO concept in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78920" y="907560"/>
            <a:ext cx="4745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know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use variables from look-up tables for 'any' further calculation (like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α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  <a:ea typeface="Times New Roman"/>
              </a:rPr>
              <a:t>s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179280" y="2565000"/>
            <a:ext cx="46800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independent weigh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'log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/Q)'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can be done at evaluation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'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re 'freely' choosable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-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(Q,p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</a:rPr>
              <a:t>T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store scale independent contribu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ree tables holding the weigh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rther scale-variables -&gt;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σ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jk…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eed more dimen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345960" y="1314360"/>
                <a:ext cx="429732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fastNLO</m:t>
                        </m:r>
                      </m:e>
                    </m:acc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σ</m:t>
                                    </m:r>
                                  </m:e>
                                </m:acc>
                              </m:e>
                            </m:nary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7" name=""/>
          <p:cNvSpPr/>
          <p:nvPr/>
        </p:nvSpPr>
        <p:spPr>
          <a:xfrm>
            <a:off x="6692760" y="98100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692760" y="141444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012000" y="141300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μ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70920" y="141444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270920" y="98100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272360" y="191772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322200" y="2930400"/>
                <a:ext cx="417672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6620040" y="3141720"/>
            <a:ext cx="64908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F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692760" y="357516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270920" y="357516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270920" y="314172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272360" y="407844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900760" y="3141720"/>
            <a:ext cx="64764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R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253120" y="314172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0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272360" y="458136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043680" y="3573360"/>
            <a:ext cx="576360" cy="33732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396040" y="357336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0" y="249228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51360" y="5734080"/>
            <a:ext cx="8595000" cy="7174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) We can choose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dependently from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 We can choose the functional form of </a:t>
            </a:r>
            <a:r>
              <a:rPr b="1" lang="el-GR" sz="1800" spc="-1" strike="noStrike">
                <a:solidFill>
                  <a:srgbClr val="cc99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cc99ff"/>
                </a:solidFill>
                <a:latin typeface="Arial"/>
              </a:rPr>
              <a:t>R/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 functions of </a:t>
            </a: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ook-up-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0" y="559116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387480" y="2635200"/>
            <a:ext cx="140148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in v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00364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5636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00364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15636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00364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15636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2156D-1271-4831-B876-D099EFD4C4D2}" type="slidenum">
              <a:t>2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472428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267804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55160" y="1052640"/>
            <a:ext cx="11059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55520" y="4856040"/>
            <a:ext cx="12445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55160" y="3860640"/>
            <a:ext cx="130860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093080" y="4869000"/>
            <a:ext cx="1871640" cy="52020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 use it within a fitting frame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84360" y="2930400"/>
            <a:ext cx="7524720" cy="1578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1908000" y="1052640"/>
            <a:ext cx="5929560" cy="130320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2241720" y="5084640"/>
            <a:ext cx="5595840" cy="134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3CE70-EB7A-4A83-8AF0-7E7F05A20A65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07640" y="1123560"/>
            <a:ext cx="48243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roduce n discrete x-nodes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 ..&lt;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..&lt;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lowest x-value in each 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s reasonable choice of discretization e.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ound each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define n (cubic) Eigenfunction E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dron-hadron collision need two dimens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D-Eigen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reduce to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5076720" y="2349360"/>
            <a:ext cx="3600720" cy="23958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5580000" y="1125360"/>
            <a:ext cx="2808360" cy="1238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1042920" y="206064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1187280" y="3141720"/>
                <a:ext cx="187200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≠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 for all </m:t>
                        </m:r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611280" y="488484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35" name="" descr=""/>
          <p:cNvPicPr/>
          <p:nvPr/>
        </p:nvPicPr>
        <p:blipFill>
          <a:blip r:embed="rId3"/>
          <a:stretch/>
        </p:blipFill>
        <p:spPr>
          <a:xfrm>
            <a:off x="5435640" y="4941720"/>
            <a:ext cx="3097080" cy="127980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546120" y="566100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B0803-DE87-4802-BB0D-94F863704A35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4572000" y="4149720"/>
            <a:ext cx="4427640" cy="241632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46814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atten PDFs by reweighting with simple functio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ho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high-x glu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urvatures are reduced for all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(x)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bsorbed in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eigenfun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900000" y="5084640"/>
                <a:ext cx="30243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1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5364000" y="1052640"/>
            <a:ext cx="3168720" cy="3124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1187280" y="1989000"/>
                <a:ext cx="27370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6426E-747A-4986-BF7D-0F98CA2C5140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these definitions the cross section rea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w express PDF linear combination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the 2D-eigenfun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write the cross se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826920" y="1557360"/>
                <a:ext cx="625032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755640" y="3116160"/>
                <a:ext cx="804852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,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900000" y="4581360"/>
                <a:ext cx="748836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/>
                        </m:nary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1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2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j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nary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nary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Independent  of  PDFs  and  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lim>
                        </m:limLow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50" name=""/>
          <p:cNvSpPr/>
          <p:nvPr/>
        </p:nvSpPr>
        <p:spPr>
          <a:xfrm>
            <a:off x="468360" y="566100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orta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Integral is independent of PDF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9C5D0-FDF6-4548-A6AA-96E0BF62CD81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pretation of experimental data relies 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ility of reasonably fast theory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ten needed: Repeated computation of same quantiti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s for a specific analys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f various PDFs (CTEQ, MSTW, NNPDF, HERAPDF, ABM,…) for data/theory compar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PDF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data set in fit of PDFs or 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ation of scale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arision to different scale cho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metimes NLO or even NNLO predictions can be computed fast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t some are very slow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Jet cross sections, Drell-Yan,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58960" y="5805360"/>
            <a:ext cx="7458120" cy="5814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ed procedure for fast repeated computations of higher order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29091-9739-46E5-BF0D-3F73C65597D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are scale depen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eed to be evaluated at certain scale valu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e interpolation procedure also for sca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ume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=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roduc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scale nodes with dista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5435640" y="2276640"/>
                <a:ext cx="25509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54" name=""/>
          <p:cNvSpPr/>
          <p:nvPr/>
        </p:nvSpPr>
        <p:spPr>
          <a:xfrm>
            <a:off x="395280" y="2852640"/>
            <a:ext cx="8353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efficient table gets one additional dimension for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fin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and store it as 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7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75E62-74EA-4EDA-B445-8327AF41E117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ractive dij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3059280" y="681120"/>
            <a:ext cx="2860560" cy="32526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940360" y="825480"/>
            <a:ext cx="2870280" cy="302436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3"/>
          <a:stretch/>
        </p:blipFill>
        <p:spPr>
          <a:xfrm>
            <a:off x="324000" y="825480"/>
            <a:ext cx="2765160" cy="295128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4"/>
          <a:stretch/>
        </p:blipFill>
        <p:spPr>
          <a:xfrm>
            <a:off x="3059280" y="3772080"/>
            <a:ext cx="2879640" cy="279216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5"/>
          <a:stretch/>
        </p:blipFill>
        <p:spPr>
          <a:xfrm>
            <a:off x="6084720" y="3772080"/>
            <a:ext cx="2880000" cy="279216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6"/>
          <a:stretch/>
        </p:blipFill>
        <p:spPr>
          <a:xfrm>
            <a:off x="0" y="3772080"/>
            <a:ext cx="2987640" cy="2896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3651B-212F-4C06-A3F3-8A2A3F9C5717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25360" y="980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5435640" y="1125360"/>
            <a:ext cx="2808360" cy="2167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395280" y="1341360"/>
                <a:ext cx="473724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70" name=""/>
          <p:cNvSpPr/>
          <p:nvPr/>
        </p:nvSpPr>
        <p:spPr>
          <a:xfrm>
            <a:off x="324000" y="2852640"/>
            <a:ext cx="475272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eated cross section calculation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xed value of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,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 reduced center of mass energy of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qrt(s) = 4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ce-width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1" name=""/>
              <p:cNvSpPr txBox="1"/>
              <p:nvPr/>
            </p:nvSpPr>
            <p:spPr>
              <a:xfrm>
                <a:off x="611280" y="5603760"/>
                <a:ext cx="52560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72" name="" descr=""/>
          <p:cNvPicPr/>
          <p:nvPr/>
        </p:nvPicPr>
        <p:blipFill>
          <a:blip r:embed="rId2"/>
          <a:stretch/>
        </p:blipFill>
        <p:spPr>
          <a:xfrm>
            <a:off x="5972040" y="3357720"/>
            <a:ext cx="3137040" cy="324000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>
            <a:off x="7454520" y="3645000"/>
            <a:ext cx="141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1F284-7044-4605-8529-95DAB0032C6C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377720" y="43920"/>
            <a:ext cx="5700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36007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collisions onl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DF sensitivit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4880" indent="-87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 jet cross section at fixe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vatron give more constraints on PDFs in high 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reg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HC data with impact for low-x glu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3780000" y="981000"/>
            <a:ext cx="5364000" cy="4959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77" name=""/>
              <p:cNvSpPr txBox="1"/>
              <p:nvPr/>
            </p:nvSpPr>
            <p:spPr>
              <a:xfrm>
                <a:off x="955800" y="3213000"/>
                <a:ext cx="200952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s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FFC16-7F5F-467A-8139-511BC761D117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x-region do we test with jet dat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38480" cy="16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1 dijets @ high Q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bins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and high Q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and high &lt;pt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ly three contributions in DI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luon, Delta, Sigma induced process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59480" y="1125000"/>
            <a:ext cx="4038480" cy="16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w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s mostly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gluon induc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igh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s mostly 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Delta induc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low' x-region only at low &lt;pt&gt; and low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843120" y="2708280"/>
            <a:ext cx="3803400" cy="183204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2"/>
          <a:stretch/>
        </p:blipFill>
        <p:spPr>
          <a:xfrm>
            <a:off x="4716360" y="2714760"/>
            <a:ext cx="3679920" cy="185580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3"/>
          <a:stretch/>
        </p:blipFill>
        <p:spPr>
          <a:xfrm>
            <a:off x="4741920" y="4722840"/>
            <a:ext cx="3727440" cy="186228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4"/>
          <a:stretch/>
        </p:blipFill>
        <p:spPr>
          <a:xfrm>
            <a:off x="826920" y="4710240"/>
            <a:ext cx="3697560" cy="184284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4141800" y="438156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8021880" y="436392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8029800" y="638172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122720" y="633564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554480" y="435276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850120" y="436392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499040" y="633744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794320" y="634824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415480" y="635940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710760" y="637056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382000" y="436392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677640" y="437508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BDCD5-4D28-49C2-964E-E3878D72B2E4}" type="slidenum">
              <a:t>34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-dependence of jet cross s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1"/>
          <a:srcRect l="7475" t="28272" r="14558" b="5003"/>
          <a:stretch/>
        </p:blipFill>
        <p:spPr>
          <a:xfrm>
            <a:off x="1403280" y="3789360"/>
            <a:ext cx="5580000" cy="298440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"/>
          <p:cNvPicPr/>
          <p:nvPr/>
        </p:nvPicPr>
        <p:blipFill>
          <a:blip r:embed="rId2"/>
          <a:srcRect l="8518" t="29085" r="14845" b="7502"/>
          <a:stretch/>
        </p:blipFill>
        <p:spPr>
          <a:xfrm>
            <a:off x="1403280" y="907920"/>
            <a:ext cx="5580000" cy="2886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EA842-27A9-4ED2-AC9A-3D1C1D1485F6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78920" y="765000"/>
            <a:ext cx="47530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82080" indent="-82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astNLO v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 for fast repeated theory cross sections allowing to change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PDF and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flexible table format for various multiplicative and additive contrib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++ and fortran versions with lots of interfa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y calculations avail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080" indent="-82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'Flexible scale'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tential to vary ren. and fact. scale independent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es composition can be choosen as function of pre-defined 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New options for scans of scale dependence (e.g. à la FAC, PM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>
            <a:off x="539640" y="1125360"/>
            <a:ext cx="4248360" cy="10242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303" name="" descr=""/>
          <p:cNvPicPr/>
          <p:nvPr/>
        </p:nvPicPr>
        <p:blipFill>
          <a:blip r:embed="rId2"/>
          <a:srcRect l="0" t="19695" r="0" b="0"/>
          <a:stretch/>
        </p:blipFill>
        <p:spPr>
          <a:xfrm>
            <a:off x="5508720" y="5084640"/>
            <a:ext cx="3186000" cy="14702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304" name="" descr=""/>
          <p:cNvPicPr/>
          <p:nvPr/>
        </p:nvPicPr>
        <p:blipFill>
          <a:blip r:embed="rId3"/>
          <a:stretch/>
        </p:blipFill>
        <p:spPr>
          <a:xfrm>
            <a:off x="5003640" y="692280"/>
            <a:ext cx="3926160" cy="4319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16DA2-AC9E-4DF6-ACBC-E52C6BCFA3D2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2691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ying the scale choice of ATL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4427640" y="907920"/>
            <a:ext cx="4178160" cy="2997360"/>
          </a:xfrm>
          <a:prstGeom prst="rect">
            <a:avLst/>
          </a:prstGeom>
          <a:ln w="0">
            <a:noFill/>
          </a:ln>
        </p:spPr>
      </p:pic>
      <p:pic>
        <p:nvPicPr>
          <p:cNvPr id="308" name="" descr=""/>
          <p:cNvPicPr/>
          <p:nvPr/>
        </p:nvPicPr>
        <p:blipFill>
          <a:blip r:embed="rId2"/>
          <a:stretch/>
        </p:blipFill>
        <p:spPr>
          <a:xfrm>
            <a:off x="0" y="981000"/>
            <a:ext cx="4178160" cy="299736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"/>
          <p:cNvPicPr/>
          <p:nvPr/>
        </p:nvPicPr>
        <p:blipFill>
          <a:blip r:embed="rId3"/>
          <a:stretch/>
        </p:blipFill>
        <p:spPr>
          <a:xfrm>
            <a:off x="4572000" y="3757680"/>
            <a:ext cx="3960720" cy="284004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/>
          <p:cNvPicPr/>
          <p:nvPr/>
        </p:nvPicPr>
        <p:blipFill>
          <a:blip r:embed="rId4"/>
          <a:stretch/>
        </p:blipFill>
        <p:spPr>
          <a:xfrm>
            <a:off x="34920" y="3860640"/>
            <a:ext cx="4175280" cy="299736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5861520" y="6308640"/>
            <a:ext cx="226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arXiv:1112.6297 [hep-ex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F7DDA-AEF8-44ED-A6A9-446C50F88C86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es in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3848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astNLO tables come with 3 (4) simultaneous </a:t>
            </a:r>
            <a:r>
              <a:rPr b="0" lang="de-DE" sz="1800" spc="-1" strike="noStrike">
                <a:solidFill>
                  <a:srgbClr val="0033cc"/>
                </a:solidFill>
                <a:latin typeface="Arial"/>
              </a:rPr>
              <a:t>scale variations tables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.g. 0.5, 1.0, 2.0 times the nominal sc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33cc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A posterior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scale vari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of the renormalizatoin scale allows study of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symetric sca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vari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6-points: (1/2,1/2), (1/2,1), (1,1/2), (1,2), (2,1), (2,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voiding of rel. 'factor' 4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rovements in v 2.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s get own dimen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cubic interpolation of scale-value to scale 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ypically 6 scale 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amples already f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MS incl.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0 3-jet ma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48320" y="1052280"/>
            <a:ext cx="403848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72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4643280" y="1628640"/>
            <a:ext cx="3994200" cy="403236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9E4E3-8029-4943-9C4F-E7DDEBAF25E6}" type="slidenum">
              <a:t>38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LO QCD cross s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9760" y="907560"/>
            <a:ext cx="771696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 production in hadron-hadron colli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t cross section calculations are time consum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trong coupl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 order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DF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of two hadrons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arton flavor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,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erturbative coefficen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a,b,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renormalizatio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d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factorization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momentum fraction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318960" y="1698480"/>
                <a:ext cx="8299440" cy="96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395280" y="6086520"/>
            <a:ext cx="8209080" cy="40572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dea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torize the PDFs and </a:t>
            </a:r>
            <a:r>
              <a:rPr b="0" i="1" lang="el-GR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α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364000" y="2706840"/>
            <a:ext cx="2880000" cy="23428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95280" y="5300640"/>
            <a:ext cx="820908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are extern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rturbative coefficients are independent from PDF and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A2918-5185-48FA-81F0-69D305A9D6A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5148360" y="3468600"/>
            <a:ext cx="3887640" cy="21211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50920" y="1268280"/>
            <a:ext cx="4897440" cy="40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roduc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oduce set of n discret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x-nod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's being equidistant in a function f(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ke set of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Eigenfunctions E</a:t>
            </a:r>
            <a:r>
              <a:rPr b="0" lang="en-US" sz="1600" spc="-1" strike="noStrike" baseline="-25000">
                <a:solidFill>
                  <a:srgbClr val="333399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(x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round nodes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&gt;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interpolation by reweighting 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1116000" y="3645000"/>
                <a:ext cx="2808360" cy="61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322960" y="1127160"/>
            <a:ext cx="3352680" cy="22305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-1474200" y="4221000"/>
            <a:ext cx="12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24000" y="7101000"/>
            <a:ext cx="8207280" cy="6426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e a table with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1200" y="4941360"/>
            <a:ext cx="505152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oduc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interpola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cedure also for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gets own dimension and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EC44A-52E0-473F-A9D8-C2CE168E4CC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for hadron-hadron colli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52360" y="981000"/>
            <a:ext cx="482436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colli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2D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mmetries of matrix el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reduce to 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762120" y="155736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755640" y="277956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9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ut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in each bin and store it in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1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5508720" y="2205000"/>
            <a:ext cx="3504960" cy="1349280"/>
          </a:xfrm>
          <a:prstGeom prst="rect">
            <a:avLst/>
          </a:prstGeom>
          <a:ln w="25560">
            <a:solidFill>
              <a:srgbClr val="ffff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DBBAB-71F7-46DA-91BE-05CA09C4E5C5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 proced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ory predic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oncept does not include the theoretical calculation itsel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Requires existing computer cod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16120" indent="-185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LOJET++ (</a:t>
            </a:r>
            <a:r>
              <a:rPr b="1" lang="de-DE" sz="1000" spc="-1" strike="noStrike">
                <a:solidFill>
                  <a:srgbClr val="ff9933"/>
                </a:solidFill>
                <a:latin typeface="Arial"/>
              </a:rPr>
              <a:t>Z. Nagy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PRD68 2003, PRL88 200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8161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hreshold corrections (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Kidonakis, Owens, PRD 63, 054019 (2001)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ication procedu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uring the </a:t>
            </a: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first computatio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no time is sa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 calculations with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very high statistic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LO events -&gt; up to several years of CPU 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y further recalculations tak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only O(m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an be used for any observable in hadron-induced process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adron-hadron, DIS, photoproduction, fragmentation functions …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15800" y="6014880"/>
            <a:ext cx="818856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though labeled “fastNLO” method can be used at any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971640" y="3786120"/>
            <a:ext cx="5905440" cy="1159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FastNLO example code in c++ for reading CMS inc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jets (PRL 107 (2011) 132001) with CT10 PDF s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stNLOLHAPDF fnlo("fnl1014.tab","CT10.LHgrid",0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nlo.PrintCrossSections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524720" y="3949560"/>
            <a:ext cx="1297080" cy="744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==================================================================================================================================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Cross Sections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The scale chosen here are: mu_f =  1.000 * pT_jet_[GeV], and mu_r =  1.000 * pT_jet_[GeV]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---------------------------------------------------------------------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IObs  Bin Size IODim1  [ pT_[GeV]     ]    IODim2  [  |y|           ]  LO cross section   NLO cross section   K NLO     K NPC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---------------------------------------------------------------------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  3.000         1  18.00      21.00         1  0.00E+00  5.00E-01  1.55277802824E+07  1.63811325684E+07   1.05496   1.4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  3.000         2  21.00      24.00         1  0.00E+00  5.00E-01  8.30682860853E+06  8.77287665130E+06   1.05610   1.38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  4.000         3  24.00      28.00         1  0.00E+00  5.00E-01  4.41134160762E+06  4.62463577873E+06   1.04835   1.3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4  4.000         4  28.00      32.00         1  0.00E+00  5.00E-01  2.30882413125E+06  2.47472392075E+06   1.07185   1.2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5  5.000         5  32.00      37.00         1  0.00E+00  5.00E-01  1.22487109201E+06  1.30677111896E+06   1.06686   1.16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6  6.000         6  37.00      43.00         1  0.00E+00  5.00E-01  6.18412283065E+05  6.58015663350E+05   1.06404   1.1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7  6.000         7  43.00      49.00         1  0.00E+00  5.00E-01  3.18610165168E+05  3.42097336205E+05   1.07372   1.1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8  7.000         8  49.00      56.00         1  0.00E+00  5.00E-01  1.69694938829E+05  1.82786902463E+05   1.07715   1.09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9  8.000         9  56.00      64.00         1  0.00E+00  5.00E-01  8.88506455202E+04  9.52323847828E+04   1.07183   1.07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0  10.00        10  64.00      74.00         1  0.00E+00  5.00E-01  4.48760868947E+04  4.82703440385E+04   1.07564   1.06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1  10.00        11  74.00      84.00         1  0.00E+00  5.00E-01  2.26829562240E+04  2.43722369908E+04   1.07447   1.05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2  13.00        12  84.00      97.00         1  0.00E+00  5.00E-01  1.14507422191E+04  1.24049331317E+04   1.08333   1.04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3  17.00        13  97.00      114.0         1  0.00E+00  5.00E-01  5.23097360990E+03  5.67721041625E+03   1.08531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4  19.00        14  114.0      133.0         1  0.00E+00  5.00E-01  2.28063559003E+03  2.48513079140E+03   1.0896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5  20.00        15  133.0      153.0         1  0.00E+00  5.00E-01  1.03505174962E+03  1.13314049111E+03   1.0947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6  21.00        16  153.0      174.0         1  0.00E+00  5.00E-01  4.96802383700E+02  5.46247174813E+02   1.09953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7  22.00        17  174.0      196.0         1  0.00E+00  5.00E-01  2.49815289171E+02  2.75364800692E+02   1.1022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8  24.00        18  196.0      220.0         1  0.00E+00  5.00E-01  1.29012893548E+02  1.42599549941E+02   1.10531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9  25.00        19  220.0      245.0         1  0.00E+00  5.00E-01  6.80355225457E+01  7.55493261942E+01   1.11044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0  27.00        20  245.0      272.0         1  0.00E+00  5.00E-01  3.67048355857E+01  4.09487347532E+01   1.11562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1  28.00        21  272.0      300.0         1  0.00E+00  5.00E-01  2.01613029168E+01  2.25604162288E+01   1.11900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2  30.00        22  300.0      330.0         1  0.00E+00  5.00E-01  1.12824854482E+01  1.26866111428E+01   1.12445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3  32.00        23  330.0      362.0         1  0.00E+00  5.00E-01  6.35845842969E+00  7.17233587864E+00   1.12800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4  33.00        24  362.0      395.0         1  0.00E+00  5.00E-01  3.63706128628E+00  4.12851783408E+00   1.13512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5  35.00        25  395.0      430.0         1  0.00E+00  5.00E-01  2.11227877473E+00  2.40602532981E+00   1.13907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6  38.00        26  430.0      468.0         1  0.00E+00  5.00E-01  1.22524458697E+00  1.40203526441E+00   1.14429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7  39.00        27  468.0      507.0         1  0.00E+00  5.00E-01  7.14187420152E-01  8.19893199048E-01   1.14801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8  41.00        28  507.0      548.0         1  0.00E+00  5.00E-01  4.21748162421E-01  4.88300824898E-01   1.15780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9  44.00        29  548.0      592.0         1  0.00E+00  5.00E-01  2.48791400377E-01  2.88852906110E-01   1.16102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0  46.00        30  592.0      638.0         1  0.00E+00  5.00E-01  1.46515601054E-01  1.71074985050E-01   1.16762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1  48.00        31  638.0      686.0         1  0.00E+00  5.00E-01  8.66490094287E-02  1.01902201541E-01   1.17603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2  51.00        32  686.0      737.0         1  0.00E+00  5.00E-01  5.11700908830E-02  6.04966189129E-02   1.18227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3  109.0        33  737.0      846.0         1  0.00E+00  5.00E-01  2.37402790440E-02  2.83054753812E-02   1.19230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4  838.0        34  846.0      1684.         1  0.00E+00  5.00E-01  1.78674955347E-03  2.17513026527E-03   1.21737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5  3.000         1  18.00      21.00         2  5.00E-01  1.00E+00  1.50754366012E+07  1.60609009301E+07   1.06537   1.4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6  3.000         2  21.00      24.00         2  5.00E-01  1.00E+00  8.05442518090E+06  8.54078421141E+06   1.06038   1.3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7  4.000         3  24.00      28.00         2  5.00E-01  1.00E+00  4.26021653062E+06  4.54082512372E+06   1.06587   1.2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948360" y="4309920"/>
            <a:ext cx="43200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72109-754E-45A2-B00E-E33F7CB2009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Ap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79280" y="981000"/>
            <a:ext cx="4399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MS inclusive je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PDF depen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termination of PDF envelop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DF-error prediction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à la </a:t>
            </a:r>
            <a:r>
              <a:rPr b="0" lang="el-GR" sz="1600" spc="-1" strike="noStrike">
                <a:solidFill>
                  <a:srgbClr val="ff0000"/>
                </a:solidFill>
                <a:latin typeface="Arial"/>
                <a:ea typeface="Arial"/>
              </a:rPr>
              <a:t>PDF4LHC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rcRect l="7061" t="0" r="168" b="0"/>
          <a:stretch/>
        </p:blipFill>
        <p:spPr>
          <a:xfrm>
            <a:off x="4211640" y="3606840"/>
            <a:ext cx="4932360" cy="23432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4788000" y="6093000"/>
            <a:ext cx="4103640" cy="398880"/>
          </a:xfrm>
          <a:prstGeom prst="rect">
            <a:avLst/>
          </a:prstGeom>
          <a:solidFill>
            <a:srgbClr val="ffff99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138 repeated NLO calc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996240" y="3463920"/>
            <a:ext cx="215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PLB 704 (2011) 434-44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468360" y="2276640"/>
            <a:ext cx="3672000" cy="36129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550440" y="6093000"/>
            <a:ext cx="3886920" cy="398880"/>
          </a:xfrm>
          <a:prstGeom prst="rect">
            <a:avLst/>
          </a:prstGeom>
          <a:solidFill>
            <a:srgbClr val="ffff99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39 repeated NLO calc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6000" y="981000"/>
            <a:ext cx="4608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0 three-jet invariant m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PDF depen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scale dependenc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=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(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+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+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)/3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2.0 ×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br>
              <a:rPr sz="1600"/>
            </a:b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0.5 ×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ce using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t PDF se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47288-D7EC-4F48-9977-58CBDA8BC004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991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in version 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50920" y="980640"/>
            <a:ext cx="641016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atures of pre-computed fastNLO t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tomatic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adjustmen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hase spac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ounda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lexible # x-nodes for analysis bi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d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interpolation in ren./fact.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itrary number of dimensions for binning of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atures of fastNLO reading too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rehensiv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volutions provid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-,3-,4-loop iterative solution, flavor matching ON/OFF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face to external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α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evolution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 LHAPDF, QCDNUM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face to CRunDec (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arXiv:1201.6149v1, arXiv:hep-ph/0004189v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face to PDFs from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LHAPD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QCDN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asy implementation of new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y to install (autotool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y to implement in fitting codes and to interface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Independent C++ and Fortran ver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reement at double precision O(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-1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32720" y="1236600"/>
            <a:ext cx="1800000" cy="368280"/>
          </a:xfrm>
          <a:prstGeom prst="rect">
            <a:avLst/>
          </a:prstGeom>
          <a:solidFill>
            <a:srgbClr val="a50021"/>
          </a:solidFill>
          <a:ln w="3816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astNLO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659640" y="2997360"/>
            <a:ext cx="1944720" cy="64260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Rea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020000" y="4724280"/>
            <a:ext cx="1295280" cy="33732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eader_c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020000" y="4149720"/>
            <a:ext cx="1295280" cy="33732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eader_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6560" y="5950080"/>
            <a:ext cx="7921800" cy="3132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further dependencies (No ROOT, No CERNLIB, etc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31339-E2D3-49F1-8BF9-8A6ED2263EE3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2-08-23T16:13:01Z</dcterms:modified>
  <cp:revision>418</cp:revision>
  <dc:subject/>
  <dc:title>My Unfolding</dc:title>
</cp:coreProperties>
</file>