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6050-5F40-4380-A973-6DC86ECB6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E561-5F90-4780-A17D-3404F3FAB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E775-CE13-4D33-82C1-A308E4EE4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483F-173B-49D0-93F4-3BF6B2367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C402-CE76-4494-B4C7-E4AA6A817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F8B8-7539-4DD4-BBDE-8A73BAED8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9E4F-C924-4E72-8E7B-02959A30C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A6EB-3633-4511-A122-9C3B81386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D833-B4C8-4DBB-9106-04BC8C953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9104-D63A-476C-9FFB-3336EEB5D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C565-C3CC-43C6-BFD6-F26912239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839E-C0FC-46C8-B335-A7BECC049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3062D-A0BC-4762-AE7F-1C519A216B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884160"/>
            <a:ext cx="9144000" cy="7746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stNLO for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etproduction in Diffractive DIS</a:t>
            </a:r>
            <a:br>
              <a:rPr sz="3200"/>
            </a:b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. Britzger, F. Ceccopi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34000" y="4437000"/>
            <a:ext cx="312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1 Collaboration Meeting 201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PI Mun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ptember 12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cenario: Diffractive Dijets d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19440" y="836640"/>
            <a:ext cx="4229280" cy="4102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rcRect l="0" t="4914" r="0" b="0"/>
          <a:stretch/>
        </p:blipFill>
        <p:spPr>
          <a:xfrm>
            <a:off x="179280" y="839880"/>
            <a:ext cx="3996000" cy="4317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132000" y="765000"/>
            <a:ext cx="2665440" cy="935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 dashed line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houl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e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4920" y="4868640"/>
            <a:ext cx="85122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 differ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(but wrong) nlojet++ interpolation of NLO subtraction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-finder recombination scheme (~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(but very fine) xIP (and dxIP) slicing (~0-2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statistic (2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6·106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. very high statistic (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1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(&lt;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5214-876B-4C96-8D81-E390BC877A72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59480" y="3594240"/>
            <a:ext cx="4484520" cy="32194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62080" y="3933720"/>
            <a:ext cx="43812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 or logarithmic slicing of xIP 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are avail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in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og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any o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d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Slicing( 30, xp, dxp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56240" y="549360"/>
            <a:ext cx="4487760" cy="3220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84360" y="735120"/>
            <a:ext cx="3311280" cy="32115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slicing is prefer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68200" y="3032280"/>
            <a:ext cx="173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log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10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(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89000" y="30322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33360" y="60436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F7F1-41AB-458B-BF3F-47BF95D87BC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ce of slic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396108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y cross section dependence on number of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and logarithmic sli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gence after 10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ic slicing seems to converge fa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one must know lowest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Otherwise bia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uctu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ise from discret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terpolation within fast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pite (simple) 'smoothing' at upper integration interval a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~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,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211640" y="1074600"/>
            <a:ext cx="5184720" cy="3722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95280" y="5516640"/>
            <a:ext cx="83534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fast convergence of cross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NLO accuracy (for this table) could be estimated to &lt; 0.2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181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uracy smaller than cut on log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,m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for log sli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8882-4D10-43E1-B865-ED46D3A2FDE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bout d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1989000"/>
            <a:ext cx="3763800" cy="2902320"/>
          </a:xfrm>
          <a:prstGeom prst="rect">
            <a:avLst/>
          </a:prstGeom>
          <a:noFill/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n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through restricting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 inter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≠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higher 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arton momentum fraction compared to Hadron (Pome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 (1+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Q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8097-B473-4E10-9874-3262A87A2627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5329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w method of calculating diffractive jet-cross sections was develop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code was developed and intensively tes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for jet production in diffractive DIS is ready to 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e it for your analysis or for fits of diffractive PDF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651640" y="3357720"/>
            <a:ext cx="3097080" cy="3003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940360" y="981000"/>
            <a:ext cx="2808360" cy="23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C919-E342-4AF6-A4E8-FDECF34945B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987640" y="519120"/>
            <a:ext cx="3129120" cy="3557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012000" y="692280"/>
            <a:ext cx="3139920" cy="3308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4920" y="700200"/>
            <a:ext cx="3024360" cy="3227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71280" y="3932280"/>
            <a:ext cx="2957760" cy="2868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132000" y="3944880"/>
            <a:ext cx="2957760" cy="2868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6151680" y="3944880"/>
            <a:ext cx="2957400" cy="28688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58E8-AA24-40CE-8114-3788B63116F9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544D-8FA7-476F-B108-171C1BC41364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C676-4702-4E8E-8E6E-70F224784BEC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2C65-D6C7-446C-8702-60EAE84F5557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D7D4-465F-4486-A463-4C10AF9CA4A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98320" y="1268280"/>
            <a:ext cx="79344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ion of jet cross sections in higher orders are time consu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: Calculations have to be repeated for same measurement but different  PDFs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e.g. PDF uncertainties, scale variations, etc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sion of jet-data in a fit (e.g. PDF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requires very fast recomputation of almost the same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4503600"/>
            <a:ext cx="734400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46520" y="5445000"/>
            <a:ext cx="3454200" cy="704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25800" y="55897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3A3E-0F52-4F33-BCCC-A4BE29C791E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38A0-C6F4-41C6-A343-4B429747EEC9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5E5E-2FF2-4B9F-AA0B-74CF01E4EAF4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1C78-B32C-40CC-B68F-A0C9ACAFC738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620640"/>
            <a:ext cx="87948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56520" indent="-5652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t-production cross section in D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 interpolation kernels for 'x' using Eigenfunctions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692360" y="1339920"/>
                <a:ext cx="50022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411280" y="2708280"/>
                <a:ext cx="28814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250920" y="4005360"/>
            <a:ext cx="8642160" cy="1502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an calculate once a table with perturbative coeff. using e.g. nlojet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 section is then just a su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all interpolation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356000" y="4611600"/>
                <a:ext cx="43912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IS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250920" y="5661000"/>
            <a:ext cx="86421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features of fastNL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Scale interpolation, PDF reweighting, scale independent contr., et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F5CF-2F7B-401B-93F0-887761353393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508720" y="1144440"/>
            <a:ext cx="3240000" cy="2500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95280" y="153360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with reduced hadron energy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084720" y="3789360"/>
            <a:ext cx="2509920" cy="2592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095960" y="393372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80AA-2AB8-433E-A161-CE91C501C1A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06388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286240" y="386388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05600" y="320184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846440"/>
            <a:ext cx="475128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53640" y="343044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354640"/>
            <a:ext cx="81356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lculation of only one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y high statistical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limitations in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405936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3CF2-92FA-404C-8152-8CCE353E75D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of of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211640" y="1494000"/>
            <a:ext cx="4897440" cy="3519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5280" y="5589720"/>
            <a:ext cx="8353440" cy="737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erfect 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turbative coefficients are identical for each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560" y="837720"/>
            <a:ext cx="432108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two cross section calculations for one single fixed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lice at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1.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ff00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Cross section contribution with reduced CME (standard slicing method)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Hadron = Pomer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h 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·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Calculate matrix elements using proton energy (new method)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Hadron = Proton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z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cross section contributi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hadr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adron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/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&lt; 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adr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eing the momentum fraction of the parton wrt. to the incoming hadron (Pomeron) momentu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75E0-7AC9-4BA0-A0D9-55E9C4D0B36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71294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number of x-nodes in low-x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 x wrt.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e calculated properly by Federico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90480" y="3357720"/>
                <a:ext cx="697716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179280" y="4365720"/>
            <a:ext cx="8352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integration runs over discrete x-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most x-node is weighted according to its range inside/outside of the integration interv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602136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7C1E-E6EA-4158-8A09-8F688A9B343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example for pre-calculated fastNLO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1052640"/>
            <a:ext cx="7921440" cy="243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H1 diffractive dijets dP*_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Eur.Phys.J. C70 (2010)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astNLODiffH12006FitB fnlodiff( "fnhd1012.tab"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SetXPomLinSlicing( 30, 0.0, 0.1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vector&lt;double&gt;  xs = fnlodiff.GetDiffCrossSectio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ptional print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5799240"/>
            <a:ext cx="7921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tty easy to use (if fastNLO table is already calcul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3716280"/>
            <a:ext cx="7921440" cy="1769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 This is a single-differential table in p*_T,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---  p*_T,1  ---        - Bin -       -- XS-FNLO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4.000 -     6.500     0          9.4173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6.500 -     8.500     1          6.6364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8.500 -    12.000     2          1.6610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A8CB-8A31-47DD-8AB6-837530E3C216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Scal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211640" y="836640"/>
            <a:ext cx="4680000" cy="454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779E-74A4-4FE2-9CD5-80E455E6433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10-17T10:05:57Z</dcterms:modified>
  <cp:revision>444</cp:revision>
  <dc:subject/>
  <dc:title>My Unfolding</dc:title>
</cp:coreProperties>
</file>