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10.wmf" ContentType="image/x-wmf"/>
  <Override PartName="/ppt/media/image2.png" ContentType="image/png"/>
  <Override PartName="/ppt/media/image5.wmf" ContentType="image/x-wmf"/>
  <Override PartName="/ppt/media/image4.wmf" ContentType="image/x-wmf"/>
  <Override PartName="/ppt/media/image25.wmf" ContentType="image/x-wmf"/>
  <Override PartName="/ppt/media/image24.wmf" ContentType="image/x-wmf"/>
  <Override PartName="/ppt/media/image23.png" ContentType="image/png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4E494-E46C-4FFE-AAFF-A798080F8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22199-9920-4EC4-84C6-19733D563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3A93F-08D8-4EF2-8E34-79F63FFC0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8EDAC-C1DC-433C-B6E8-8572C226C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1EBFB-311F-4AEB-8761-1F8416C5F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26D15-8EF3-4659-8FE1-2BFE693B4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6DF9B-4F74-4157-9254-52D989564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12484-FC07-420D-92C3-2E5A49EFE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53D1F-23A1-4B58-930F-3B701A6B0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56D0F-1F98-4913-B8AF-024017FB3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4D5F1-1983-412B-9A7F-BC9C35F9E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A7E80-BC0C-4DBA-A37F-AC773C5F4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F96DB-6C6D-4D40-BFB5-217BCE8464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884160"/>
            <a:ext cx="9144000" cy="7746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11280" y="54936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astNLO for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etproduction in Diffractive DIS</a:t>
            </a:r>
            <a:br>
              <a:rPr sz="3200"/>
            </a:br>
            <a:br>
              <a:rPr sz="32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. Britzger, F. Ceccopie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934000" y="4437000"/>
            <a:ext cx="3129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1 Collaboration Meeting 201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PI Muni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ptember 12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cenario: Diffractive Dijets dQ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19440" y="836640"/>
            <a:ext cx="4229280" cy="41022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rcRect l="0" t="4914" r="0" b="0"/>
          <a:stretch/>
        </p:blipFill>
        <p:spPr>
          <a:xfrm>
            <a:off x="179280" y="839880"/>
            <a:ext cx="3996000" cy="431784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132000" y="765000"/>
            <a:ext cx="2665440" cy="9352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ed dashed lines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should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be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4920" y="4868640"/>
            <a:ext cx="851220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mall differen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ic (but wrong) nlojet++ interpolation of NLO subtraction te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-finder recombination scheme (~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t (but very fine) xIP (and dxIP) slicing (~0-2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ited statistic (2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6·106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s. very high statistic (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10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(&lt;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28D11-DCD8-45A5-BDEE-B873D280668D}" type="slidenum">
              <a:t>10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659480" y="3594240"/>
            <a:ext cx="4484520" cy="321948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62080" y="3933720"/>
            <a:ext cx="438120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near or logarithmic slicing of xIP 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are availa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in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og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any oth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d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Slicing( 30, xp, dxp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656240" y="549360"/>
            <a:ext cx="4487760" cy="32209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684360" y="735120"/>
            <a:ext cx="3311280" cy="321156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slicing is preferr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068200" y="3032280"/>
            <a:ext cx="1733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log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10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(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89000" y="30322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533360" y="60436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52F35-7B4F-4A8D-B286-9C2755D48C91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vergence of slic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3961080" cy="43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udy cross section dependence on number of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and logarithmic slic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vergence after 10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garithmic slicing seems to converge fast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t one must know lowest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Otherwise bias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uctu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ise from discret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nterpolation within fast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pite (simple) 'smoothing' at upper integration interval at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~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,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211640" y="1074600"/>
            <a:ext cx="5184720" cy="37227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95280" y="5516640"/>
            <a:ext cx="83534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ry fast convergence of cross s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stNLO accuracy (for this table) could be estimated to &lt; 0.25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7480" indent="-181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uracy smaller than cut on log(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,m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for log sli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BEC45-DA84-491E-9BCA-CB32525EF84E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about d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700360" y="1989000"/>
            <a:ext cx="3763800" cy="2902320"/>
          </a:xfrm>
          <a:prstGeom prst="rect">
            <a:avLst/>
          </a:prstGeom>
          <a:noFill/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arning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le through restricting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 inter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≠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higher or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arton momentum fraction compared to Hadron (Pomer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B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 (1+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/Q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48EE3-FDA0-4CCA-A426-D72A06F8CDEF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5329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ew method of calculating diffractive jet-cross sections was develop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code was developed and intensively test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for jet production in diffractive DIS is ready to 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se it for your analysis or for fits of diffractive PDF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651640" y="3357720"/>
            <a:ext cx="3097080" cy="30034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940360" y="981000"/>
            <a:ext cx="2808360" cy="2365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A09D9-A284-45A9-996D-FF59046E6E91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987640" y="519120"/>
            <a:ext cx="3129120" cy="35575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6012000" y="692280"/>
            <a:ext cx="3139920" cy="33084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34920" y="700200"/>
            <a:ext cx="3024360" cy="32274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71280" y="3932280"/>
            <a:ext cx="2957760" cy="28684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3132000" y="3944880"/>
            <a:ext cx="2957760" cy="28688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6"/>
          <a:stretch/>
        </p:blipFill>
        <p:spPr>
          <a:xfrm>
            <a:off x="6151680" y="3944880"/>
            <a:ext cx="2957400" cy="286884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44280"/>
            <a:ext cx="82072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99988-E26F-4DA2-B83F-7043A1612C6D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9B09F-6634-49B0-A520-1BFF9DF2EF7E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EA249-E13F-4107-B2A6-69311581CACD}" type="slidenum">
              <a:t>17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7CA36-3478-4D2D-A491-83ADAB6C9942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83941-9CDB-44D9-B775-D4142FD7E61A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98320" y="1268280"/>
            <a:ext cx="79344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tion of jet cross sections in higher orders are time consu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ten: Calculations have to be repeated for same measurement but different  PDFs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e.g. PDF uncertainties, scale variations, etc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sion of jet-data in a fit (e.g. PDF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requires very fast recomputation of almost the same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00000" y="4503600"/>
            <a:ext cx="734400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846520" y="5445000"/>
            <a:ext cx="3454200" cy="7048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125800" y="558972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142E3-3A14-4E5C-8DE9-63E73037EC1D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5F2AB-7D3E-428B-8923-01F176D64B43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9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4F0CA-39B5-4CC8-BA1C-A4C18C669BAB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4F233-ECA9-4F41-A992-83BD92F00E2C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620640"/>
            <a:ext cx="87948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56520" indent="-5652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t-production cross section in D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duce interpolation kernels for 'x' using Eigenfunctions 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1692360" y="1339920"/>
                <a:ext cx="500220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j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x</m:t>
                                </m:r>
                              </m:den>
                            </m:f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2411280" y="2708280"/>
                <a:ext cx="288144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250920" y="4005360"/>
            <a:ext cx="8642160" cy="15026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can calculate once a table with perturbative coeff. using e.g. nlojet+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oss section is then just a su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 all interpolation no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4356000" y="4611600"/>
                <a:ext cx="439128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IS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56" name=""/>
          <p:cNvSpPr/>
          <p:nvPr/>
        </p:nvSpPr>
        <p:spPr>
          <a:xfrm>
            <a:off x="250920" y="5661000"/>
            <a:ext cx="864216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re features of fastNL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Scale interpolation, PDF reweighting, scale independent contr., etc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AD913-B9C2-4985-A0EE-A74D5F8A14A7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508720" y="1144440"/>
            <a:ext cx="3240000" cy="25005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395280" y="153360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1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with reduced hadron energy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084720" y="3789360"/>
            <a:ext cx="2509920" cy="25923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7095960" y="393372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5EB33-3037-4FDF-8A99-699D8231CC0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6840" y="112500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06388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5286240" y="386388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05600" y="320184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1846440"/>
            <a:ext cx="4751280" cy="35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53640" y="343044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354640"/>
            <a:ext cx="81356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lculation of only one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ery high statistical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limitations in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68360" y="405936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1CC07-A7FB-41E5-889B-24545680D64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of of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211640" y="1494000"/>
            <a:ext cx="4897440" cy="35193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95280" y="5589720"/>
            <a:ext cx="8353440" cy="737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erfect agre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turbative coefficients are identical for each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50560" y="837720"/>
            <a:ext cx="432108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two cross section calculations for one single fixed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lice at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= 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-1.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ff0066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Cross section contribution with reduced CME (standard slicing method)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Hadron = Pomer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h 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·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Calculate matrix elements using proton energy (new method)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Hadron = Proton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z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cross section contributi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hadr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adron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/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&lt; 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hadr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eing the momentum fraction of the parton wrt. to the incoming hadron (Pomeron) momentu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24558-CE99-45AD-817F-0E35ABDB9B0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79280" y="836280"/>
            <a:ext cx="712944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d number of x-nodes in low-x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grate x wrt.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ulae calculated properly by Federico 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690480" y="3357720"/>
                <a:ext cx="6977160" cy="105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81" name=""/>
          <p:cNvSpPr/>
          <p:nvPr/>
        </p:nvSpPr>
        <p:spPr>
          <a:xfrm>
            <a:off x="179280" y="4365720"/>
            <a:ext cx="835200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integration runs over discrete x-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most x-node is weighted according to its range inside/outside of the integration interv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602136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469B7-1AA1-4147-BBF5-10AEB212750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example for pre-calculated fastNLO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1280" y="1052640"/>
            <a:ext cx="7921440" cy="243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H1 diffractive dijets dP*_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Eur.Phys.J. C70 (2010) 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astNLODiffH12006FitB fnlodiff( "fnhd1012.tab"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SetXPomLinSlicing( 30, 0.0, 0.1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vector&lt;double&gt;  xs = fnlodiff.GetDiffCrossSection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ptional printo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11280" y="5799240"/>
            <a:ext cx="7921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tty easy to use (if fastNLO table is already calculat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11280" y="3716280"/>
            <a:ext cx="7921440" cy="17694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utput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 This is a single-differential table in p*_T,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 ---  p*_T,1  ---        - Bin -       -- XS-FNLO 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4.000 -     6.500     0          9.4173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6.500 -     8.500     1          6.6364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8.500 -    12.000     2          1.6610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7ED39-8F72-44D4-AB0D-8F4193DD90EA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Scale st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211640" y="836640"/>
            <a:ext cx="4680000" cy="4540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FFAE7-466C-4E4E-B707-4DAAC5C50283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10-17T10:05:57Z</dcterms:modified>
  <cp:revision>444</cp:revision>
  <dc:subject/>
  <dc:title>My Unfolding</dc:title>
</cp:coreProperties>
</file>